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WHOOSH.WAV" ContentType="audio/x-wav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A98-406B-44CC-A407-95E1A969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9BE-B18A-4D4F-9693-DA2FC345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11B-B009-4E17-8F53-2F414240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8F7-C749-47A1-B00F-70C10C88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0F8-18F9-4804-8FA3-ACC3AAD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B61-B30A-4716-B2F9-600AB76A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9EA-CBCB-4CCE-92A1-97482074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936-8250-4206-BE7D-9E452783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20A-F0A9-4C8E-9A8B-ABADC7D6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FB6-0336-4803-B3E7-305F3CE2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151-D4BE-4B18-9DFB-7D07BB2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E77-08CF-47C1-BC7E-77E78C4D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C3C8-6609-4F88-B0B6-6C9127004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4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5340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*</a:t>
            </a: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존재를 나타내는 말</a:t>
            </a: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                 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긍정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            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부정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사람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, 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동물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</a:t>
            </a:r>
            <a:r>
              <a:rPr b="1" lang="ko-KR" sz="4000" spc="-1" strike="noStrike">
                <a:solidFill>
                  <a:srgbClr val="ff3300"/>
                </a:solidFill>
                <a:latin typeface="신명조"/>
                <a:ea typeface="신명조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[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사물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, 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식물</a:t>
            </a:r>
            <a:r>
              <a:rPr b="1" lang="ko-KR" sz="3600" spc="-1" strike="noStrike">
                <a:solidFill>
                  <a:srgbClr val="3333cc"/>
                </a:solidFill>
                <a:latin typeface="신명조"/>
                <a:ea typeface="신명조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4952880"/>
            <a:ext cx="2592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あります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3352680"/>
            <a:ext cx="298764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いません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352680"/>
            <a:ext cx="2592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います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24360" y="4952880"/>
            <a:ext cx="341964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ありません</a:t>
            </a:r>
            <a:r>
              <a:rPr b="1" lang="en-US" sz="4400" spc="-1" strike="noStrike">
                <a:solidFill>
                  <a:srgbClr val="ff0000"/>
                </a:solidFill>
                <a:latin typeface="신명조"/>
                <a:ea typeface="신명조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76160" y="5257800"/>
            <a:ext cx="1675800" cy="1066680"/>
            <a:chOff x="1676160" y="5257800"/>
            <a:chExt cx="1675800" cy="1066680"/>
          </a:xfrm>
        </p:grpSpPr>
        <p:sp>
          <p:nvSpPr>
            <p:cNvPr id="164" name=""/>
            <p:cNvSpPr/>
            <p:nvPr/>
          </p:nvSpPr>
          <p:spPr>
            <a:xfrm rot="5400000">
              <a:off x="2117880" y="536436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2777760" y="574632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022480" y="548640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427120" y="525744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28200" y="553284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609640" y="577008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2946960" y="558216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3040560" y="562824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3024720" y="545472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518920" y="545256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2619720" y="559440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2810160" y="556920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2679120" y="556848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2387160" y="621540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2667960" y="578664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3069000" y="571140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2524680" y="574596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2579400" y="565020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2968560" y="561600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2758680" y="543312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3158280" y="556704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2591280" y="578520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2937600" y="575424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2612520" y="563940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3127680" y="547524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2412720" y="548100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2958480" y="561060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2606760" y="576144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2223000" y="5570280"/>
              <a:ext cx="120960" cy="20916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2629440" y="553860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2784960" y="556812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3035160" y="574308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1953720" y="530136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1925280" y="5374440"/>
              <a:ext cx="61920" cy="15156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2008440" y="547164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2014920" y="536976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1937880" y="547596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2004480" y="542196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1981440" y="535572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1596240" y="566424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1677600" y="583632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1996560" y="585720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2303280" y="596916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2337840" y="604368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40080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ま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437920" y="3276720"/>
            <a:ext cx="1676160" cy="1066680"/>
            <a:chOff x="2437920" y="3276720"/>
            <a:chExt cx="1676160" cy="1066680"/>
          </a:xfrm>
        </p:grpSpPr>
        <p:sp>
          <p:nvSpPr>
            <p:cNvPr id="211" name=""/>
            <p:cNvSpPr/>
            <p:nvPr/>
          </p:nvSpPr>
          <p:spPr>
            <a:xfrm rot="5400000">
              <a:off x="2879640" y="338328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3539520" y="376524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2784600" y="350532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3189240" y="327636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3190320" y="355176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3371760" y="378900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400000">
              <a:off x="3709080" y="360108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3802680" y="364716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3786840" y="347364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3281040" y="347148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3381480" y="361332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3571920" y="358812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3441240" y="358740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3148920" y="423432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3430080" y="380556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3831120" y="373032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3286800" y="376488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341160" y="366912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3730680" y="363492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3520440" y="345204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3920400" y="358596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3353040" y="380412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3699720" y="377316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3374280" y="365832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3889800" y="349416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3174480" y="349992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5400000">
              <a:off x="3720600" y="362952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3368880" y="378036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2985840" y="3589200"/>
              <a:ext cx="120960" cy="20952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5400000">
              <a:off x="3391200" y="355752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3547080" y="358704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3796920" y="376200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2715480" y="332028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2687760" y="3393360"/>
              <a:ext cx="61920" cy="15192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2770200" y="349056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2776680" y="338868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2699640" y="349488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2766240" y="344088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743200" y="337464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2358000" y="368316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2439360" y="385524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2758680" y="387612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3065040" y="398808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3099960" y="406260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1125360"/>
            <a:ext cx="2057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し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3760" y="3886200"/>
            <a:ext cx="1675800" cy="1066680"/>
            <a:chOff x="5333760" y="3886200"/>
            <a:chExt cx="1675800" cy="1066680"/>
          </a:xfrm>
        </p:grpSpPr>
        <p:sp>
          <p:nvSpPr>
            <p:cNvPr id="266" name=""/>
            <p:cNvSpPr/>
            <p:nvPr/>
          </p:nvSpPr>
          <p:spPr>
            <a:xfrm rot="5400000">
              <a:off x="5775480" y="399276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6435360" y="437472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5680080" y="411480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6084720" y="388584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6085800" y="416124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6267240" y="439848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6604560" y="421056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6698160" y="425664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6682320" y="408312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6176520" y="408096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6277320" y="422280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6467760" y="419760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6336720" y="419688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6044760" y="484380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6325560" y="441504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6726600" y="433980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6182280" y="437436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6237000" y="427860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6626160" y="424440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6416280" y="406152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6815880" y="419544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248880" y="441360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6595200" y="438264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6270120" y="426780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6785280" y="410364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6070320" y="410940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6616080" y="423900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6264360" y="438984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5880600" y="4198680"/>
              <a:ext cx="120960" cy="20916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6287040" y="416700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6442560" y="419652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6692760" y="437148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5611320" y="392976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5582880" y="4002840"/>
              <a:ext cx="61920" cy="15156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5666040" y="410004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5672520" y="399816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5595480" y="410436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662080" y="405036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5639040" y="398412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5253840" y="429264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400000">
              <a:off x="5335200" y="446472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5654160" y="448560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00000">
              <a:off x="5960880" y="459756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995440" y="467208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2000" y="1125360"/>
            <a:ext cx="16761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よ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752120" y="4114800"/>
            <a:ext cx="1676160" cy="1066680"/>
            <a:chOff x="1752120" y="4114800"/>
            <a:chExt cx="1676160" cy="1066680"/>
          </a:xfrm>
        </p:grpSpPr>
        <p:sp>
          <p:nvSpPr>
            <p:cNvPr id="317" name=""/>
            <p:cNvSpPr/>
            <p:nvPr/>
          </p:nvSpPr>
          <p:spPr>
            <a:xfrm rot="5400000">
              <a:off x="2193840" y="422136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2853720" y="460332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5400000">
              <a:off x="2098800" y="4343400"/>
              <a:ext cx="18576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2503440" y="411444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504520" y="438984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5400000">
              <a:off x="2685960" y="4627080"/>
              <a:ext cx="32112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3023280" y="443916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3116880" y="4485240"/>
              <a:ext cx="22248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400000">
              <a:off x="3101040" y="431172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5400000">
              <a:off x="2595240" y="430956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2695680" y="445140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2886120" y="442620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2755440" y="442548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2463120" y="507240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2744280" y="464364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3145320" y="456840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2601000" y="460296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2655360" y="450720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3044880" y="447300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2834640" y="429012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3234600" y="442404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2667240" y="464220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3013920" y="461124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2688480" y="4496400"/>
              <a:ext cx="18972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3204000" y="433224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2488680" y="433800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3034800" y="446760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683080" y="461844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2300040" y="4427280"/>
              <a:ext cx="120960" cy="20952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2705400" y="439560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2861280" y="442512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3111120" y="460008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2029680" y="4158360"/>
              <a:ext cx="19476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2001960" y="4231440"/>
              <a:ext cx="61920" cy="15192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2084400" y="432864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2090880" y="422676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2013840" y="4332960"/>
              <a:ext cx="6768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2080440" y="427896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2057400" y="421272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1672200" y="452124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1753560" y="469332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2072880" y="4714200"/>
              <a:ext cx="18072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2379240" y="482616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2414160" y="4900680"/>
              <a:ext cx="30780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648320" y="5257800"/>
            <a:ext cx="35049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ざる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な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066680" y="2133720"/>
            <a:ext cx="3504960" cy="3835080"/>
            <a:chOff x="1066680" y="2133720"/>
            <a:chExt cx="3504960" cy="3835080"/>
          </a:xfrm>
        </p:grpSpPr>
        <p:graphicFrame>
          <p:nvGraphicFramePr>
            <p:cNvPr id="368" name=""/>
            <p:cNvGraphicFramePr/>
            <p:nvPr/>
          </p:nvGraphicFramePr>
          <p:xfrm>
            <a:off x="1066680" y="2994480"/>
            <a:ext cx="3504960" cy="297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994480"/>
                      <a:ext cx="3504960" cy="29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"/>
            <p:cNvGraphicFramePr/>
            <p:nvPr/>
          </p:nvGraphicFramePr>
          <p:xfrm>
            <a:off x="1408680" y="2133720"/>
            <a:ext cx="2649960" cy="22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8680" y="2133720"/>
                      <a:ext cx="2649960" cy="22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2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1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개는 테이블 아래에 있습니다</a:t>
            </a:r>
            <a:r>
              <a:rPr b="0" lang="en-US" sz="4800" spc="-1" strike="noStrike">
                <a:solidFill>
                  <a:srgbClr val="3333cc"/>
                </a:solidFill>
                <a:latin typeface="½Å¸íÁ¶"/>
                <a:ea typeface="신명조"/>
              </a:rPr>
              <a:t>.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2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개는 테이블 옆에 있습니다</a:t>
            </a:r>
            <a:r>
              <a:rPr b="0" lang="en-US" sz="4800" spc="-1" strike="noStrike">
                <a:solidFill>
                  <a:srgbClr val="3333cc"/>
                </a:solidFill>
                <a:latin typeface="½Å¸íÁ¶"/>
                <a:ea typeface="신명조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5257800"/>
            <a:ext cx="9144000" cy="8251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4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꽃은 바구니 안에 있습니다</a:t>
            </a: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581280"/>
            <a:ext cx="9144000" cy="8251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3.</a:t>
            </a:r>
            <a:r>
              <a:rPr b="0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꽃은 테이블 위에 있습니다</a:t>
            </a:r>
            <a:r>
              <a:rPr b="0" lang="en-US" sz="4800" spc="-1" strike="noStrike">
                <a:solidFill>
                  <a:srgbClr val="3333cc"/>
                </a:solidFill>
                <a:latin typeface="½Å¸íÁ¶"/>
                <a:ea typeface="신명조"/>
              </a:rPr>
              <a:t>.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80480" y="1143000"/>
            <a:ext cx="581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いぬは テ－ブルの したに います </a:t>
            </a: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いぬは テ－ブルの  </a:t>
            </a:r>
            <a:r>
              <a:rPr b="0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そば</a:t>
            </a: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に います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4737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はなは テ－ブルの うえに あります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1320" y="6033960"/>
            <a:ext cx="533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はなは ざ</a:t>
            </a: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る</a:t>
            </a:r>
            <a:r>
              <a:rPr b="1" lang="zh-CN" sz="4400" spc="-1" strike="noStrike">
                <a:solidFill>
                  <a:srgbClr val="ff3300"/>
                </a:solidFill>
                <a:latin typeface="신명조"/>
                <a:ea typeface="신명조"/>
              </a:rPr>
              <a:t>の なかに あります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0"/>
          <a:ext cx="7543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543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276720" y="1676520"/>
            <a:ext cx="6095880" cy="518148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0" y="3048120"/>
            <a:ext cx="3581280" cy="3809880"/>
            <a:chOff x="0" y="3048120"/>
            <a:chExt cx="3581280" cy="3809880"/>
          </a:xfrm>
        </p:grpSpPr>
        <p:pic>
          <p:nvPicPr>
            <p:cNvPr id="389" name="" descr=""/>
            <p:cNvPicPr/>
            <p:nvPr/>
          </p:nvPicPr>
          <p:blipFill>
            <a:blip r:embed="rId4"/>
            <a:stretch/>
          </p:blipFill>
          <p:spPr>
            <a:xfrm>
              <a:off x="762120" y="3048120"/>
              <a:ext cx="25905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5"/>
            <a:stretch/>
          </p:blipFill>
          <p:spPr>
            <a:xfrm>
              <a:off x="0" y="4114800"/>
              <a:ext cx="35812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6"/>
            <a:stretch/>
          </p:blipFill>
          <p:spPr>
            <a:xfrm>
              <a:off x="1219320" y="5410440"/>
              <a:ext cx="838080" cy="69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066680" y="4343400"/>
            <a:ext cx="16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7162920" y="228600"/>
          <a:ext cx="1274760" cy="12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228600"/>
                    <a:ext cx="1274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6553080" y="2438280"/>
          <a:ext cx="1613160" cy="242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53080" y="2438280"/>
                    <a:ext cx="161316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0" y="1143000"/>
          <a:ext cx="1828800" cy="19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1143000"/>
                    <a:ext cx="18288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0" y="388620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2960" y="380880"/>
            <a:ext cx="565776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33920" y="25146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신명조"/>
                <a:ea typeface="신명조"/>
              </a:rPr>
              <a:t>なか </a:t>
            </a:r>
            <a:r>
              <a:rPr b="1" lang="zh-CN" sz="4400" spc="-1" strike="noStrike">
                <a:solidFill>
                  <a:srgbClr val="3333cc"/>
                </a:solidFill>
                <a:latin typeface="신명조 약자"/>
                <a:ea typeface="신명조 약자"/>
              </a:rPr>
              <a:t>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3808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신명조"/>
                <a:ea typeface="신명조"/>
              </a:rPr>
              <a:t>うえ </a:t>
            </a:r>
            <a:r>
              <a:rPr b="1" lang="zh-CN" sz="3600" spc="-1" strike="noStrike">
                <a:solidFill>
                  <a:srgbClr val="3333cc"/>
                </a:solidFill>
                <a:latin typeface="신명조 약자"/>
                <a:ea typeface="신명조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2362320"/>
            <a:ext cx="23716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9400" y="4724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신명조"/>
                <a:ea typeface="신명조"/>
              </a:rPr>
              <a:t>した </a:t>
            </a:r>
            <a:r>
              <a:rPr b="1" lang="zh-CN" sz="3600" spc="-1" strike="noStrike">
                <a:solidFill>
                  <a:srgbClr val="3333cc"/>
                </a:solidFill>
                <a:latin typeface="신명조 약자"/>
                <a:ea typeface="신명조 약자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1814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신명조"/>
                <a:ea typeface="신명조"/>
              </a:rPr>
              <a:t>まえ </a:t>
            </a:r>
            <a:r>
              <a:rPr b="1" lang="zh-CN" sz="4000" spc="-1" strike="noStrike">
                <a:solidFill>
                  <a:srgbClr val="3333cc"/>
                </a:solidFill>
                <a:latin typeface="신명조 약자"/>
                <a:ea typeface="신명조 약자"/>
              </a:rPr>
              <a:t>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6156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886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신명조"/>
                <a:ea typeface="신명조"/>
              </a:rPr>
              <a:t>うしろ </a:t>
            </a:r>
            <a:r>
              <a:rPr b="1" lang="zh-CN" sz="4000" spc="-1" strike="noStrike">
                <a:solidFill>
                  <a:srgbClr val="3333cc"/>
                </a:solidFill>
                <a:latin typeface=""/>
                <a:ea typeface="신명조 약자"/>
              </a:rPr>
              <a:t>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600200" y="22860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962520" y="3962520"/>
            <a:ext cx="1523880" cy="84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5257800"/>
            <a:ext cx="1752480" cy="96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2971800" y="5257800"/>
            <a:ext cx="1752480" cy="96984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603396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신명조"/>
                <a:ea typeface="신명조"/>
              </a:rPr>
              <a:t>そば</a:t>
            </a:r>
            <a:r>
              <a:rPr b="1" lang="en-US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2531880" cy="1401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1143000"/>
            <a:ext cx="6629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143000"/>
            <a:ext cx="16002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71600" y="5105520"/>
            <a:ext cx="2532240" cy="140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ま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2531880" cy="1401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1143000"/>
            <a:ext cx="6629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1143000"/>
            <a:ext cx="2057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し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532240" cy="1401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126828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</a:t>
            </a:r>
            <a:r>
              <a:rPr b="1" lang="en-US" sz="4000" spc="-1" strike="noStrike">
                <a:solidFill>
                  <a:srgbClr val="ff0000"/>
                </a:solidFill>
                <a:latin typeface="신명조"/>
                <a:ea typeface="신명조"/>
              </a:rPr>
              <a:t>           </a:t>
            </a: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268280"/>
            <a:ext cx="16765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신명조"/>
                <a:ea typeface="신명조"/>
              </a:rPr>
              <a:t>そ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531880" cy="1401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し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8320" y="5257800"/>
            <a:ext cx="2514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ざる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いぬ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な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66680" y="1981080"/>
            <a:ext cx="3124080" cy="4063320"/>
            <a:chOff x="1066680" y="1981080"/>
            <a:chExt cx="3124080" cy="4063320"/>
          </a:xfrm>
        </p:grpSpPr>
        <p:graphicFrame>
          <p:nvGraphicFramePr>
            <p:cNvPr id="103" name=""/>
            <p:cNvGraphicFramePr/>
            <p:nvPr/>
          </p:nvGraphicFramePr>
          <p:xfrm>
            <a:off x="1066680" y="3011040"/>
            <a:ext cx="3124080" cy="303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3011040"/>
                      <a:ext cx="3124080" cy="30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1877760" y="1981080"/>
            <a:ext cx="2070720" cy="28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77760" y="1981080"/>
                      <a:ext cx="2070720" cy="28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4419720" cy="2755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48320" y="5257800"/>
            <a:ext cx="3352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あります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143000"/>
            <a:ext cx="59436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テ－ブルの         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"/>
            <a:ext cx="220968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신명조"/>
                <a:ea typeface="신명조"/>
              </a:rPr>
              <a:t>はな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1143000"/>
            <a:ext cx="14479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신명조"/>
                <a:ea typeface="신명조"/>
              </a:rPr>
              <a:t>う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61960" y="2438280"/>
            <a:ext cx="1675800" cy="1067040"/>
            <a:chOff x="2361960" y="2438280"/>
            <a:chExt cx="1675800" cy="1067040"/>
          </a:xfrm>
        </p:grpSpPr>
        <p:sp>
          <p:nvSpPr>
            <p:cNvPr id="114" name=""/>
            <p:cNvSpPr/>
            <p:nvPr/>
          </p:nvSpPr>
          <p:spPr>
            <a:xfrm rot="5400000">
              <a:off x="2803680" y="2545200"/>
              <a:ext cx="207360" cy="1020960"/>
            </a:xfrm>
            <a:custGeom>
              <a:avLst/>
              <a:gdLst/>
              <a:ahLst/>
              <a:rect l="l" t="t" r="r" b="b"/>
              <a:pathLst>
                <a:path w="611" h="2473">
                  <a:moveTo>
                    <a:pt x="0" y="13"/>
                  </a:moveTo>
                  <a:lnTo>
                    <a:pt x="61" y="278"/>
                  </a:lnTo>
                  <a:lnTo>
                    <a:pt x="105" y="335"/>
                  </a:lnTo>
                  <a:lnTo>
                    <a:pt x="164" y="390"/>
                  </a:lnTo>
                  <a:lnTo>
                    <a:pt x="254" y="586"/>
                  </a:lnTo>
                  <a:lnTo>
                    <a:pt x="447" y="1131"/>
                  </a:lnTo>
                  <a:lnTo>
                    <a:pt x="552" y="1565"/>
                  </a:lnTo>
                  <a:lnTo>
                    <a:pt x="522" y="1998"/>
                  </a:lnTo>
                  <a:lnTo>
                    <a:pt x="522" y="2319"/>
                  </a:lnTo>
                  <a:lnTo>
                    <a:pt x="522" y="2473"/>
                  </a:lnTo>
                  <a:lnTo>
                    <a:pt x="611" y="2460"/>
                  </a:lnTo>
                  <a:lnTo>
                    <a:pt x="597" y="2278"/>
                  </a:lnTo>
                  <a:lnTo>
                    <a:pt x="611" y="1704"/>
                  </a:lnTo>
                  <a:lnTo>
                    <a:pt x="597" y="1468"/>
                  </a:lnTo>
                  <a:lnTo>
                    <a:pt x="447" y="935"/>
                  </a:lnTo>
                  <a:lnTo>
                    <a:pt x="328" y="516"/>
                  </a:lnTo>
                  <a:lnTo>
                    <a:pt x="150" y="251"/>
                  </a:lnTo>
                  <a:lnTo>
                    <a:pt x="13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3463560" y="2927160"/>
              <a:ext cx="115920" cy="547560"/>
            </a:xfrm>
            <a:custGeom>
              <a:avLst/>
              <a:gdLst/>
              <a:ahLst/>
              <a:rect l="l" t="t" r="r" b="b"/>
              <a:pathLst>
                <a:path w="342" h="1328">
                  <a:moveTo>
                    <a:pt x="0" y="262"/>
                  </a:moveTo>
                  <a:lnTo>
                    <a:pt x="125" y="452"/>
                  </a:lnTo>
                  <a:lnTo>
                    <a:pt x="140" y="554"/>
                  </a:lnTo>
                  <a:lnTo>
                    <a:pt x="140" y="671"/>
                  </a:lnTo>
                  <a:lnTo>
                    <a:pt x="156" y="817"/>
                  </a:lnTo>
                  <a:lnTo>
                    <a:pt x="125" y="992"/>
                  </a:lnTo>
                  <a:lnTo>
                    <a:pt x="125" y="1182"/>
                  </a:lnTo>
                  <a:lnTo>
                    <a:pt x="109" y="1328"/>
                  </a:lnTo>
                  <a:lnTo>
                    <a:pt x="202" y="1269"/>
                  </a:lnTo>
                  <a:lnTo>
                    <a:pt x="202" y="977"/>
                  </a:lnTo>
                  <a:lnTo>
                    <a:pt x="202" y="612"/>
                  </a:lnTo>
                  <a:lnTo>
                    <a:pt x="296" y="379"/>
                  </a:lnTo>
                  <a:lnTo>
                    <a:pt x="342" y="0"/>
                  </a:lnTo>
                  <a:lnTo>
                    <a:pt x="265" y="189"/>
                  </a:lnTo>
                  <a:lnTo>
                    <a:pt x="202" y="466"/>
                  </a:lnTo>
                  <a:lnTo>
                    <a:pt x="140" y="349"/>
                  </a:lnTo>
                  <a:lnTo>
                    <a:pt x="62" y="248"/>
                  </a:lnTo>
                  <a:lnTo>
                    <a:pt x="16" y="10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708280" y="2667240"/>
              <a:ext cx="186120" cy="156600"/>
            </a:xfrm>
            <a:custGeom>
              <a:avLst/>
              <a:gdLst/>
              <a:ahLst/>
              <a:rect l="l" t="t" r="r" b="b"/>
              <a:pathLst>
                <a:path w="551" h="377">
                  <a:moveTo>
                    <a:pt x="89" y="139"/>
                  </a:moveTo>
                  <a:lnTo>
                    <a:pt x="0" y="208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60" y="208"/>
                  </a:lnTo>
                  <a:lnTo>
                    <a:pt x="134" y="168"/>
                  </a:lnTo>
                  <a:lnTo>
                    <a:pt x="298" y="223"/>
                  </a:lnTo>
                  <a:lnTo>
                    <a:pt x="387" y="335"/>
                  </a:lnTo>
                  <a:lnTo>
                    <a:pt x="343" y="153"/>
                  </a:lnTo>
                  <a:lnTo>
                    <a:pt x="327" y="97"/>
                  </a:lnTo>
                  <a:lnTo>
                    <a:pt x="477" y="97"/>
                  </a:lnTo>
                  <a:lnTo>
                    <a:pt x="551" y="126"/>
                  </a:lnTo>
                  <a:lnTo>
                    <a:pt x="446" y="69"/>
                  </a:lnTo>
                  <a:lnTo>
                    <a:pt x="432" y="13"/>
                  </a:lnTo>
                  <a:lnTo>
                    <a:pt x="372" y="0"/>
                  </a:lnTo>
                  <a:lnTo>
                    <a:pt x="268" y="42"/>
                  </a:lnTo>
                  <a:lnTo>
                    <a:pt x="163" y="69"/>
                  </a:lnTo>
                  <a:lnTo>
                    <a:pt x="89" y="126"/>
                  </a:lnTo>
                  <a:lnTo>
                    <a:pt x="105" y="168"/>
                  </a:lnTo>
                  <a:lnTo>
                    <a:pt x="89" y="139"/>
                  </a:lnTo>
                  <a:close/>
                </a:path>
              </a:pathLst>
            </a:custGeom>
            <a:solidFill>
              <a:srgbClr val="45ba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3112920" y="2437920"/>
              <a:ext cx="857160" cy="857880"/>
            </a:xfrm>
            <a:custGeom>
              <a:avLst/>
              <a:gdLst/>
              <a:ahLst/>
              <a:rect l="l" t="t" r="r" b="b"/>
              <a:pathLst>
                <a:path w="2529" h="2080">
                  <a:moveTo>
                    <a:pt x="499" y="682"/>
                  </a:moveTo>
                  <a:lnTo>
                    <a:pt x="480" y="677"/>
                  </a:lnTo>
                  <a:lnTo>
                    <a:pt x="463" y="673"/>
                  </a:lnTo>
                  <a:lnTo>
                    <a:pt x="446" y="669"/>
                  </a:lnTo>
                  <a:lnTo>
                    <a:pt x="432" y="665"/>
                  </a:lnTo>
                  <a:lnTo>
                    <a:pt x="417" y="665"/>
                  </a:lnTo>
                  <a:lnTo>
                    <a:pt x="403" y="661"/>
                  </a:lnTo>
                  <a:lnTo>
                    <a:pt x="386" y="661"/>
                  </a:lnTo>
                  <a:lnTo>
                    <a:pt x="372" y="658"/>
                  </a:lnTo>
                  <a:lnTo>
                    <a:pt x="357" y="658"/>
                  </a:lnTo>
                  <a:lnTo>
                    <a:pt x="343" y="660"/>
                  </a:lnTo>
                  <a:lnTo>
                    <a:pt x="329" y="660"/>
                  </a:lnTo>
                  <a:lnTo>
                    <a:pt x="315" y="662"/>
                  </a:lnTo>
                  <a:lnTo>
                    <a:pt x="302" y="665"/>
                  </a:lnTo>
                  <a:lnTo>
                    <a:pt x="288" y="669"/>
                  </a:lnTo>
                  <a:lnTo>
                    <a:pt x="274" y="672"/>
                  </a:lnTo>
                  <a:lnTo>
                    <a:pt x="260" y="677"/>
                  </a:lnTo>
                  <a:lnTo>
                    <a:pt x="249" y="683"/>
                  </a:lnTo>
                  <a:lnTo>
                    <a:pt x="235" y="690"/>
                  </a:lnTo>
                  <a:lnTo>
                    <a:pt x="221" y="698"/>
                  </a:lnTo>
                  <a:lnTo>
                    <a:pt x="211" y="711"/>
                  </a:lnTo>
                  <a:lnTo>
                    <a:pt x="193" y="721"/>
                  </a:lnTo>
                  <a:lnTo>
                    <a:pt x="178" y="739"/>
                  </a:lnTo>
                  <a:lnTo>
                    <a:pt x="164" y="753"/>
                  </a:lnTo>
                  <a:lnTo>
                    <a:pt x="152" y="771"/>
                  </a:lnTo>
                  <a:lnTo>
                    <a:pt x="140" y="788"/>
                  </a:lnTo>
                  <a:lnTo>
                    <a:pt x="131" y="808"/>
                  </a:lnTo>
                  <a:lnTo>
                    <a:pt x="124" y="829"/>
                  </a:lnTo>
                  <a:lnTo>
                    <a:pt x="117" y="848"/>
                  </a:lnTo>
                  <a:lnTo>
                    <a:pt x="112" y="870"/>
                  </a:lnTo>
                  <a:lnTo>
                    <a:pt x="105" y="891"/>
                  </a:lnTo>
                  <a:lnTo>
                    <a:pt x="99" y="911"/>
                  </a:lnTo>
                  <a:lnTo>
                    <a:pt x="98" y="934"/>
                  </a:lnTo>
                  <a:lnTo>
                    <a:pt x="92" y="957"/>
                  </a:lnTo>
                  <a:lnTo>
                    <a:pt x="89" y="979"/>
                  </a:lnTo>
                  <a:lnTo>
                    <a:pt x="85" y="1001"/>
                  </a:lnTo>
                  <a:lnTo>
                    <a:pt x="81" y="1024"/>
                  </a:lnTo>
                  <a:lnTo>
                    <a:pt x="77" y="1045"/>
                  </a:lnTo>
                  <a:lnTo>
                    <a:pt x="73" y="1066"/>
                  </a:lnTo>
                  <a:lnTo>
                    <a:pt x="68" y="1088"/>
                  </a:lnTo>
                  <a:lnTo>
                    <a:pt x="66" y="1112"/>
                  </a:lnTo>
                  <a:lnTo>
                    <a:pt x="61" y="1112"/>
                  </a:lnTo>
                  <a:lnTo>
                    <a:pt x="57" y="1117"/>
                  </a:lnTo>
                  <a:lnTo>
                    <a:pt x="59" y="1121"/>
                  </a:lnTo>
                  <a:lnTo>
                    <a:pt x="53" y="1133"/>
                  </a:lnTo>
                  <a:lnTo>
                    <a:pt x="50" y="1142"/>
                  </a:lnTo>
                  <a:lnTo>
                    <a:pt x="46" y="1151"/>
                  </a:lnTo>
                  <a:lnTo>
                    <a:pt x="39" y="1163"/>
                  </a:lnTo>
                  <a:lnTo>
                    <a:pt x="38" y="1177"/>
                  </a:lnTo>
                  <a:lnTo>
                    <a:pt x="31" y="1188"/>
                  </a:lnTo>
                  <a:lnTo>
                    <a:pt x="25" y="1202"/>
                  </a:lnTo>
                  <a:lnTo>
                    <a:pt x="21" y="1217"/>
                  </a:lnTo>
                  <a:lnTo>
                    <a:pt x="15" y="1231"/>
                  </a:lnTo>
                  <a:lnTo>
                    <a:pt x="11" y="1242"/>
                  </a:lnTo>
                  <a:lnTo>
                    <a:pt x="10" y="1254"/>
                  </a:lnTo>
                  <a:lnTo>
                    <a:pt x="4" y="1267"/>
                  </a:lnTo>
                  <a:lnTo>
                    <a:pt x="4" y="1277"/>
                  </a:lnTo>
                  <a:lnTo>
                    <a:pt x="0" y="1285"/>
                  </a:lnTo>
                  <a:lnTo>
                    <a:pt x="0" y="1293"/>
                  </a:lnTo>
                  <a:lnTo>
                    <a:pt x="1" y="1298"/>
                  </a:lnTo>
                  <a:lnTo>
                    <a:pt x="4" y="1305"/>
                  </a:lnTo>
                  <a:lnTo>
                    <a:pt x="18" y="1323"/>
                  </a:lnTo>
                  <a:lnTo>
                    <a:pt x="38" y="1346"/>
                  </a:lnTo>
                  <a:lnTo>
                    <a:pt x="63" y="1371"/>
                  </a:lnTo>
                  <a:lnTo>
                    <a:pt x="94" y="1393"/>
                  </a:lnTo>
                  <a:lnTo>
                    <a:pt x="123" y="1421"/>
                  </a:lnTo>
                  <a:lnTo>
                    <a:pt x="158" y="1445"/>
                  </a:lnTo>
                  <a:lnTo>
                    <a:pt x="194" y="1469"/>
                  </a:lnTo>
                  <a:lnTo>
                    <a:pt x="234" y="1493"/>
                  </a:lnTo>
                  <a:lnTo>
                    <a:pt x="275" y="1515"/>
                  </a:lnTo>
                  <a:lnTo>
                    <a:pt x="320" y="1536"/>
                  </a:lnTo>
                  <a:lnTo>
                    <a:pt x="362" y="1553"/>
                  </a:lnTo>
                  <a:lnTo>
                    <a:pt x="408" y="1569"/>
                  </a:lnTo>
                  <a:lnTo>
                    <a:pt x="453" y="1583"/>
                  </a:lnTo>
                  <a:lnTo>
                    <a:pt x="499" y="1591"/>
                  </a:lnTo>
                  <a:lnTo>
                    <a:pt x="546" y="1598"/>
                  </a:lnTo>
                  <a:lnTo>
                    <a:pt x="590" y="1599"/>
                  </a:lnTo>
                  <a:lnTo>
                    <a:pt x="635" y="1595"/>
                  </a:lnTo>
                  <a:lnTo>
                    <a:pt x="679" y="1587"/>
                  </a:lnTo>
                  <a:lnTo>
                    <a:pt x="721" y="1576"/>
                  </a:lnTo>
                  <a:lnTo>
                    <a:pt x="764" y="1557"/>
                  </a:lnTo>
                  <a:lnTo>
                    <a:pt x="781" y="1544"/>
                  </a:lnTo>
                  <a:lnTo>
                    <a:pt x="793" y="1534"/>
                  </a:lnTo>
                  <a:lnTo>
                    <a:pt x="799" y="1531"/>
                  </a:lnTo>
                  <a:lnTo>
                    <a:pt x="802" y="1530"/>
                  </a:lnTo>
                  <a:lnTo>
                    <a:pt x="796" y="1532"/>
                  </a:lnTo>
                  <a:lnTo>
                    <a:pt x="788" y="1536"/>
                  </a:lnTo>
                  <a:lnTo>
                    <a:pt x="775" y="1544"/>
                  </a:lnTo>
                  <a:lnTo>
                    <a:pt x="760" y="1553"/>
                  </a:lnTo>
                  <a:lnTo>
                    <a:pt x="742" y="1565"/>
                  </a:lnTo>
                  <a:lnTo>
                    <a:pt x="723" y="1580"/>
                  </a:lnTo>
                  <a:lnTo>
                    <a:pt x="701" y="1594"/>
                  </a:lnTo>
                  <a:lnTo>
                    <a:pt x="680" y="1610"/>
                  </a:lnTo>
                  <a:lnTo>
                    <a:pt x="660" y="1627"/>
                  </a:lnTo>
                  <a:lnTo>
                    <a:pt x="642" y="1647"/>
                  </a:lnTo>
                  <a:lnTo>
                    <a:pt x="623" y="1664"/>
                  </a:lnTo>
                  <a:lnTo>
                    <a:pt x="610" y="1683"/>
                  </a:lnTo>
                  <a:lnTo>
                    <a:pt x="596" y="1702"/>
                  </a:lnTo>
                  <a:lnTo>
                    <a:pt x="586" y="1723"/>
                  </a:lnTo>
                  <a:lnTo>
                    <a:pt x="583" y="1741"/>
                  </a:lnTo>
                  <a:lnTo>
                    <a:pt x="588" y="1762"/>
                  </a:lnTo>
                  <a:lnTo>
                    <a:pt x="586" y="1767"/>
                  </a:lnTo>
                  <a:lnTo>
                    <a:pt x="592" y="1778"/>
                  </a:lnTo>
                  <a:lnTo>
                    <a:pt x="597" y="1790"/>
                  </a:lnTo>
                  <a:lnTo>
                    <a:pt x="604" y="1802"/>
                  </a:lnTo>
                  <a:lnTo>
                    <a:pt x="611" y="1815"/>
                  </a:lnTo>
                  <a:lnTo>
                    <a:pt x="623" y="1829"/>
                  </a:lnTo>
                  <a:lnTo>
                    <a:pt x="632" y="1842"/>
                  </a:lnTo>
                  <a:lnTo>
                    <a:pt x="642" y="1857"/>
                  </a:lnTo>
                  <a:lnTo>
                    <a:pt x="652" y="1870"/>
                  </a:lnTo>
                  <a:lnTo>
                    <a:pt x="666" y="1886"/>
                  </a:lnTo>
                  <a:lnTo>
                    <a:pt x="677" y="1898"/>
                  </a:lnTo>
                  <a:lnTo>
                    <a:pt x="691" y="1911"/>
                  </a:lnTo>
                  <a:lnTo>
                    <a:pt x="702" y="1925"/>
                  </a:lnTo>
                  <a:lnTo>
                    <a:pt x="715" y="1938"/>
                  </a:lnTo>
                  <a:lnTo>
                    <a:pt x="728" y="1950"/>
                  </a:lnTo>
                  <a:lnTo>
                    <a:pt x="739" y="1961"/>
                  </a:lnTo>
                  <a:lnTo>
                    <a:pt x="749" y="1972"/>
                  </a:lnTo>
                  <a:lnTo>
                    <a:pt x="758" y="1980"/>
                  </a:lnTo>
                  <a:lnTo>
                    <a:pt x="768" y="1988"/>
                  </a:lnTo>
                  <a:lnTo>
                    <a:pt x="779" y="1996"/>
                  </a:lnTo>
                  <a:lnTo>
                    <a:pt x="807" y="2014"/>
                  </a:lnTo>
                  <a:lnTo>
                    <a:pt x="837" y="2033"/>
                  </a:lnTo>
                  <a:lnTo>
                    <a:pt x="862" y="2047"/>
                  </a:lnTo>
                  <a:lnTo>
                    <a:pt x="886" y="2059"/>
                  </a:lnTo>
                  <a:lnTo>
                    <a:pt x="905" y="2068"/>
                  </a:lnTo>
                  <a:lnTo>
                    <a:pt x="928" y="2074"/>
                  </a:lnTo>
                  <a:lnTo>
                    <a:pt x="943" y="2078"/>
                  </a:lnTo>
                  <a:lnTo>
                    <a:pt x="960" y="2080"/>
                  </a:lnTo>
                  <a:lnTo>
                    <a:pt x="977" y="2079"/>
                  </a:lnTo>
                  <a:lnTo>
                    <a:pt x="993" y="2078"/>
                  </a:lnTo>
                  <a:lnTo>
                    <a:pt x="1009" y="2072"/>
                  </a:lnTo>
                  <a:lnTo>
                    <a:pt x="1030" y="2066"/>
                  </a:lnTo>
                  <a:lnTo>
                    <a:pt x="1048" y="2058"/>
                  </a:lnTo>
                  <a:lnTo>
                    <a:pt x="1069" y="2049"/>
                  </a:lnTo>
                  <a:lnTo>
                    <a:pt x="1087" y="2038"/>
                  </a:lnTo>
                  <a:lnTo>
                    <a:pt x="1114" y="2029"/>
                  </a:lnTo>
                  <a:lnTo>
                    <a:pt x="1140" y="2016"/>
                  </a:lnTo>
                  <a:lnTo>
                    <a:pt x="1171" y="2004"/>
                  </a:lnTo>
                  <a:lnTo>
                    <a:pt x="1203" y="1991"/>
                  </a:lnTo>
                  <a:lnTo>
                    <a:pt x="1245" y="1982"/>
                  </a:lnTo>
                  <a:lnTo>
                    <a:pt x="1251" y="1975"/>
                  </a:lnTo>
                  <a:lnTo>
                    <a:pt x="1264" y="1974"/>
                  </a:lnTo>
                  <a:lnTo>
                    <a:pt x="1276" y="1971"/>
                  </a:lnTo>
                  <a:lnTo>
                    <a:pt x="1294" y="1970"/>
                  </a:lnTo>
                  <a:lnTo>
                    <a:pt x="1311" y="1967"/>
                  </a:lnTo>
                  <a:lnTo>
                    <a:pt x="1331" y="1966"/>
                  </a:lnTo>
                  <a:lnTo>
                    <a:pt x="1349" y="1963"/>
                  </a:lnTo>
                  <a:lnTo>
                    <a:pt x="1370" y="1962"/>
                  </a:lnTo>
                  <a:lnTo>
                    <a:pt x="1390" y="1961"/>
                  </a:lnTo>
                  <a:lnTo>
                    <a:pt x="1413" y="1959"/>
                  </a:lnTo>
                  <a:lnTo>
                    <a:pt x="1432" y="1955"/>
                  </a:lnTo>
                  <a:lnTo>
                    <a:pt x="1453" y="1954"/>
                  </a:lnTo>
                  <a:lnTo>
                    <a:pt x="1474" y="1950"/>
                  </a:lnTo>
                  <a:lnTo>
                    <a:pt x="1493" y="1947"/>
                  </a:lnTo>
                  <a:lnTo>
                    <a:pt x="1507" y="1943"/>
                  </a:lnTo>
                  <a:lnTo>
                    <a:pt x="1525" y="1941"/>
                  </a:lnTo>
                  <a:lnTo>
                    <a:pt x="1541" y="1936"/>
                  </a:lnTo>
                  <a:lnTo>
                    <a:pt x="1552" y="1930"/>
                  </a:lnTo>
                  <a:lnTo>
                    <a:pt x="1562" y="1925"/>
                  </a:lnTo>
                  <a:lnTo>
                    <a:pt x="1571" y="1922"/>
                  </a:lnTo>
                  <a:lnTo>
                    <a:pt x="1570" y="1917"/>
                  </a:lnTo>
                  <a:lnTo>
                    <a:pt x="1577" y="1912"/>
                  </a:lnTo>
                  <a:lnTo>
                    <a:pt x="1584" y="1905"/>
                  </a:lnTo>
                  <a:lnTo>
                    <a:pt x="1591" y="1896"/>
                  </a:lnTo>
                  <a:lnTo>
                    <a:pt x="1602" y="1887"/>
                  </a:lnTo>
                  <a:lnTo>
                    <a:pt x="1616" y="1876"/>
                  </a:lnTo>
                  <a:lnTo>
                    <a:pt x="1627" y="1865"/>
                  </a:lnTo>
                  <a:lnTo>
                    <a:pt x="1643" y="1854"/>
                  </a:lnTo>
                  <a:lnTo>
                    <a:pt x="1657" y="1842"/>
                  </a:lnTo>
                  <a:lnTo>
                    <a:pt x="1674" y="1833"/>
                  </a:lnTo>
                  <a:lnTo>
                    <a:pt x="1686" y="1821"/>
                  </a:lnTo>
                  <a:lnTo>
                    <a:pt x="1700" y="1813"/>
                  </a:lnTo>
                  <a:lnTo>
                    <a:pt x="1716" y="1804"/>
                  </a:lnTo>
                  <a:lnTo>
                    <a:pt x="1730" y="1799"/>
                  </a:lnTo>
                  <a:lnTo>
                    <a:pt x="1741" y="1795"/>
                  </a:lnTo>
                  <a:lnTo>
                    <a:pt x="1751" y="1794"/>
                  </a:lnTo>
                  <a:lnTo>
                    <a:pt x="1759" y="1794"/>
                  </a:lnTo>
                  <a:lnTo>
                    <a:pt x="1767" y="1799"/>
                  </a:lnTo>
                  <a:lnTo>
                    <a:pt x="1769" y="1806"/>
                  </a:lnTo>
                  <a:lnTo>
                    <a:pt x="1774" y="1820"/>
                  </a:lnTo>
                  <a:lnTo>
                    <a:pt x="1773" y="1828"/>
                  </a:lnTo>
                  <a:lnTo>
                    <a:pt x="1784" y="1837"/>
                  </a:lnTo>
                  <a:lnTo>
                    <a:pt x="1797" y="1845"/>
                  </a:lnTo>
                  <a:lnTo>
                    <a:pt x="1814" y="1853"/>
                  </a:lnTo>
                  <a:lnTo>
                    <a:pt x="1837" y="1858"/>
                  </a:lnTo>
                  <a:lnTo>
                    <a:pt x="1864" y="1863"/>
                  </a:lnTo>
                  <a:lnTo>
                    <a:pt x="1892" y="1866"/>
                  </a:lnTo>
                  <a:lnTo>
                    <a:pt x="1921" y="1870"/>
                  </a:lnTo>
                  <a:lnTo>
                    <a:pt x="1954" y="1870"/>
                  </a:lnTo>
                  <a:lnTo>
                    <a:pt x="1990" y="1870"/>
                  </a:lnTo>
                  <a:lnTo>
                    <a:pt x="2024" y="1869"/>
                  </a:lnTo>
                  <a:lnTo>
                    <a:pt x="2059" y="1866"/>
                  </a:lnTo>
                  <a:lnTo>
                    <a:pt x="2092" y="1863"/>
                  </a:lnTo>
                  <a:lnTo>
                    <a:pt x="2127" y="1859"/>
                  </a:lnTo>
                  <a:lnTo>
                    <a:pt x="2158" y="1852"/>
                  </a:lnTo>
                  <a:lnTo>
                    <a:pt x="2187" y="1845"/>
                  </a:lnTo>
                  <a:lnTo>
                    <a:pt x="2215" y="1837"/>
                  </a:lnTo>
                  <a:lnTo>
                    <a:pt x="2242" y="1829"/>
                  </a:lnTo>
                  <a:lnTo>
                    <a:pt x="2260" y="1816"/>
                  </a:lnTo>
                  <a:lnTo>
                    <a:pt x="2280" y="1808"/>
                  </a:lnTo>
                  <a:lnTo>
                    <a:pt x="2284" y="1796"/>
                  </a:lnTo>
                  <a:lnTo>
                    <a:pt x="2289" y="1788"/>
                  </a:lnTo>
                  <a:lnTo>
                    <a:pt x="2292" y="1774"/>
                  </a:lnTo>
                  <a:lnTo>
                    <a:pt x="2299" y="1761"/>
                  </a:lnTo>
                  <a:lnTo>
                    <a:pt x="2302" y="1745"/>
                  </a:lnTo>
                  <a:lnTo>
                    <a:pt x="2305" y="1731"/>
                  </a:lnTo>
                  <a:lnTo>
                    <a:pt x="2306" y="1712"/>
                  </a:lnTo>
                  <a:lnTo>
                    <a:pt x="2308" y="1695"/>
                  </a:lnTo>
                  <a:lnTo>
                    <a:pt x="2310" y="1677"/>
                  </a:lnTo>
                  <a:lnTo>
                    <a:pt x="2312" y="1660"/>
                  </a:lnTo>
                  <a:lnTo>
                    <a:pt x="2313" y="1639"/>
                  </a:lnTo>
                  <a:lnTo>
                    <a:pt x="2315" y="1623"/>
                  </a:lnTo>
                  <a:lnTo>
                    <a:pt x="2316" y="1602"/>
                  </a:lnTo>
                  <a:lnTo>
                    <a:pt x="2319" y="1586"/>
                  </a:lnTo>
                  <a:lnTo>
                    <a:pt x="2322" y="1570"/>
                  </a:lnTo>
                  <a:lnTo>
                    <a:pt x="2324" y="1556"/>
                  </a:lnTo>
                  <a:lnTo>
                    <a:pt x="2327" y="1541"/>
                  </a:lnTo>
                  <a:lnTo>
                    <a:pt x="2334" y="1530"/>
                  </a:lnTo>
                  <a:lnTo>
                    <a:pt x="2340" y="1519"/>
                  </a:lnTo>
                  <a:lnTo>
                    <a:pt x="2350" y="1514"/>
                  </a:lnTo>
                  <a:lnTo>
                    <a:pt x="2361" y="1498"/>
                  </a:lnTo>
                  <a:lnTo>
                    <a:pt x="2373" y="1488"/>
                  </a:lnTo>
                  <a:lnTo>
                    <a:pt x="2386" y="1480"/>
                  </a:lnTo>
                  <a:lnTo>
                    <a:pt x="2397" y="1476"/>
                  </a:lnTo>
                  <a:lnTo>
                    <a:pt x="2407" y="1470"/>
                  </a:lnTo>
                  <a:lnTo>
                    <a:pt x="2415" y="1469"/>
                  </a:lnTo>
                  <a:lnTo>
                    <a:pt x="2424" y="1466"/>
                  </a:lnTo>
                  <a:lnTo>
                    <a:pt x="2432" y="1466"/>
                  </a:lnTo>
                  <a:lnTo>
                    <a:pt x="2441" y="1465"/>
                  </a:lnTo>
                  <a:lnTo>
                    <a:pt x="2448" y="1468"/>
                  </a:lnTo>
                  <a:lnTo>
                    <a:pt x="2453" y="1468"/>
                  </a:lnTo>
                  <a:lnTo>
                    <a:pt x="2462" y="1468"/>
                  </a:lnTo>
                  <a:lnTo>
                    <a:pt x="2467" y="1466"/>
                  </a:lnTo>
                  <a:lnTo>
                    <a:pt x="2474" y="1465"/>
                  </a:lnTo>
                  <a:lnTo>
                    <a:pt x="2480" y="1460"/>
                  </a:lnTo>
                  <a:lnTo>
                    <a:pt x="2487" y="1456"/>
                  </a:lnTo>
                  <a:lnTo>
                    <a:pt x="2492" y="1447"/>
                  </a:lnTo>
                  <a:lnTo>
                    <a:pt x="2501" y="1438"/>
                  </a:lnTo>
                  <a:lnTo>
                    <a:pt x="2509" y="1423"/>
                  </a:lnTo>
                  <a:lnTo>
                    <a:pt x="2520" y="1411"/>
                  </a:lnTo>
                  <a:lnTo>
                    <a:pt x="2526" y="1384"/>
                  </a:lnTo>
                  <a:lnTo>
                    <a:pt x="2529" y="1357"/>
                  </a:lnTo>
                  <a:lnTo>
                    <a:pt x="2525" y="1331"/>
                  </a:lnTo>
                  <a:lnTo>
                    <a:pt x="2518" y="1305"/>
                  </a:lnTo>
                  <a:lnTo>
                    <a:pt x="2504" y="1279"/>
                  </a:lnTo>
                  <a:lnTo>
                    <a:pt x="2487" y="1252"/>
                  </a:lnTo>
                  <a:lnTo>
                    <a:pt x="2469" y="1226"/>
                  </a:lnTo>
                  <a:lnTo>
                    <a:pt x="2446" y="1201"/>
                  </a:lnTo>
                  <a:lnTo>
                    <a:pt x="2421" y="1177"/>
                  </a:lnTo>
                  <a:lnTo>
                    <a:pt x="2396" y="1155"/>
                  </a:lnTo>
                  <a:lnTo>
                    <a:pt x="2368" y="1133"/>
                  </a:lnTo>
                  <a:lnTo>
                    <a:pt x="2341" y="1114"/>
                  </a:lnTo>
                  <a:lnTo>
                    <a:pt x="2310" y="1097"/>
                  </a:lnTo>
                  <a:lnTo>
                    <a:pt x="2284" y="1083"/>
                  </a:lnTo>
                  <a:lnTo>
                    <a:pt x="2257" y="1071"/>
                  </a:lnTo>
                  <a:lnTo>
                    <a:pt x="2233" y="1060"/>
                  </a:lnTo>
                  <a:lnTo>
                    <a:pt x="2208" y="1055"/>
                  </a:lnTo>
                  <a:lnTo>
                    <a:pt x="2190" y="1053"/>
                  </a:lnTo>
                  <a:lnTo>
                    <a:pt x="2175" y="1054"/>
                  </a:lnTo>
                  <a:lnTo>
                    <a:pt x="2164" y="1062"/>
                  </a:lnTo>
                  <a:lnTo>
                    <a:pt x="2124" y="1084"/>
                  </a:lnTo>
                  <a:lnTo>
                    <a:pt x="2101" y="1100"/>
                  </a:lnTo>
                  <a:lnTo>
                    <a:pt x="2092" y="1106"/>
                  </a:lnTo>
                  <a:lnTo>
                    <a:pt x="2095" y="1104"/>
                  </a:lnTo>
                  <a:lnTo>
                    <a:pt x="2106" y="1093"/>
                  </a:lnTo>
                  <a:lnTo>
                    <a:pt x="2129" y="1078"/>
                  </a:lnTo>
                  <a:lnTo>
                    <a:pt x="2154" y="1055"/>
                  </a:lnTo>
                  <a:lnTo>
                    <a:pt x="2187" y="1029"/>
                  </a:lnTo>
                  <a:lnTo>
                    <a:pt x="2226" y="996"/>
                  </a:lnTo>
                  <a:lnTo>
                    <a:pt x="2266" y="963"/>
                  </a:lnTo>
                  <a:lnTo>
                    <a:pt x="2306" y="924"/>
                  </a:lnTo>
                  <a:lnTo>
                    <a:pt x="2347" y="887"/>
                  </a:lnTo>
                  <a:lnTo>
                    <a:pt x="2385" y="849"/>
                  </a:lnTo>
                  <a:lnTo>
                    <a:pt x="2422" y="809"/>
                  </a:lnTo>
                  <a:lnTo>
                    <a:pt x="2452" y="771"/>
                  </a:lnTo>
                  <a:lnTo>
                    <a:pt x="2480" y="737"/>
                  </a:lnTo>
                  <a:lnTo>
                    <a:pt x="2494" y="707"/>
                  </a:lnTo>
                  <a:lnTo>
                    <a:pt x="2504" y="677"/>
                  </a:lnTo>
                  <a:lnTo>
                    <a:pt x="2502" y="653"/>
                  </a:lnTo>
                  <a:lnTo>
                    <a:pt x="2490" y="637"/>
                  </a:lnTo>
                  <a:lnTo>
                    <a:pt x="2469" y="620"/>
                  </a:lnTo>
                  <a:lnTo>
                    <a:pt x="2449" y="604"/>
                  </a:lnTo>
                  <a:lnTo>
                    <a:pt x="2425" y="587"/>
                  </a:lnTo>
                  <a:lnTo>
                    <a:pt x="2401" y="566"/>
                  </a:lnTo>
                  <a:lnTo>
                    <a:pt x="2373" y="543"/>
                  </a:lnTo>
                  <a:lnTo>
                    <a:pt x="2350" y="520"/>
                  </a:lnTo>
                  <a:lnTo>
                    <a:pt x="2322" y="497"/>
                  </a:lnTo>
                  <a:lnTo>
                    <a:pt x="2292" y="472"/>
                  </a:lnTo>
                  <a:lnTo>
                    <a:pt x="2260" y="447"/>
                  </a:lnTo>
                  <a:lnTo>
                    <a:pt x="2232" y="423"/>
                  </a:lnTo>
                  <a:lnTo>
                    <a:pt x="2200" y="400"/>
                  </a:lnTo>
                  <a:lnTo>
                    <a:pt x="2169" y="375"/>
                  </a:lnTo>
                  <a:lnTo>
                    <a:pt x="2137" y="351"/>
                  </a:lnTo>
                  <a:lnTo>
                    <a:pt x="2109" y="331"/>
                  </a:lnTo>
                  <a:lnTo>
                    <a:pt x="2077" y="310"/>
                  </a:lnTo>
                  <a:lnTo>
                    <a:pt x="2050" y="294"/>
                  </a:lnTo>
                  <a:lnTo>
                    <a:pt x="2022" y="279"/>
                  </a:lnTo>
                  <a:lnTo>
                    <a:pt x="1996" y="265"/>
                  </a:lnTo>
                  <a:lnTo>
                    <a:pt x="1969" y="258"/>
                  </a:lnTo>
                  <a:lnTo>
                    <a:pt x="1951" y="254"/>
                  </a:lnTo>
                  <a:lnTo>
                    <a:pt x="1931" y="250"/>
                  </a:lnTo>
                  <a:lnTo>
                    <a:pt x="1916" y="248"/>
                  </a:lnTo>
                  <a:lnTo>
                    <a:pt x="1900" y="250"/>
                  </a:lnTo>
                  <a:lnTo>
                    <a:pt x="1885" y="256"/>
                  </a:lnTo>
                  <a:lnTo>
                    <a:pt x="1868" y="259"/>
                  </a:lnTo>
                  <a:lnTo>
                    <a:pt x="1854" y="264"/>
                  </a:lnTo>
                  <a:lnTo>
                    <a:pt x="1837" y="271"/>
                  </a:lnTo>
                  <a:lnTo>
                    <a:pt x="1822" y="279"/>
                  </a:lnTo>
                  <a:lnTo>
                    <a:pt x="1807" y="286"/>
                  </a:lnTo>
                  <a:lnTo>
                    <a:pt x="1795" y="290"/>
                  </a:lnTo>
                  <a:lnTo>
                    <a:pt x="1780" y="297"/>
                  </a:lnTo>
                  <a:lnTo>
                    <a:pt x="1766" y="304"/>
                  </a:lnTo>
                  <a:lnTo>
                    <a:pt x="1753" y="308"/>
                  </a:lnTo>
                  <a:lnTo>
                    <a:pt x="1739" y="310"/>
                  </a:lnTo>
                  <a:lnTo>
                    <a:pt x="1727" y="311"/>
                  </a:lnTo>
                  <a:lnTo>
                    <a:pt x="1716" y="313"/>
                  </a:lnTo>
                  <a:lnTo>
                    <a:pt x="1704" y="309"/>
                  </a:lnTo>
                  <a:lnTo>
                    <a:pt x="1696" y="304"/>
                  </a:lnTo>
                  <a:lnTo>
                    <a:pt x="1686" y="296"/>
                  </a:lnTo>
                  <a:lnTo>
                    <a:pt x="1681" y="288"/>
                  </a:lnTo>
                  <a:lnTo>
                    <a:pt x="1668" y="271"/>
                  </a:lnTo>
                  <a:lnTo>
                    <a:pt x="1661" y="255"/>
                  </a:lnTo>
                  <a:lnTo>
                    <a:pt x="1648" y="237"/>
                  </a:lnTo>
                  <a:lnTo>
                    <a:pt x="1641" y="219"/>
                  </a:lnTo>
                  <a:lnTo>
                    <a:pt x="1630" y="201"/>
                  </a:lnTo>
                  <a:lnTo>
                    <a:pt x="1622" y="184"/>
                  </a:lnTo>
                  <a:lnTo>
                    <a:pt x="1612" y="166"/>
                  </a:lnTo>
                  <a:lnTo>
                    <a:pt x="1604" y="146"/>
                  </a:lnTo>
                  <a:lnTo>
                    <a:pt x="1592" y="127"/>
                  </a:lnTo>
                  <a:lnTo>
                    <a:pt x="1584" y="109"/>
                  </a:lnTo>
                  <a:lnTo>
                    <a:pt x="1571" y="93"/>
                  </a:lnTo>
                  <a:lnTo>
                    <a:pt x="1562" y="79"/>
                  </a:lnTo>
                  <a:lnTo>
                    <a:pt x="1549" y="62"/>
                  </a:lnTo>
                  <a:lnTo>
                    <a:pt x="1539" y="47"/>
                  </a:lnTo>
                  <a:lnTo>
                    <a:pt x="1525" y="37"/>
                  </a:lnTo>
                  <a:lnTo>
                    <a:pt x="1513" y="25"/>
                  </a:lnTo>
                  <a:lnTo>
                    <a:pt x="1497" y="16"/>
                  </a:lnTo>
                  <a:lnTo>
                    <a:pt x="1483" y="8"/>
                  </a:lnTo>
                  <a:lnTo>
                    <a:pt x="1467" y="3"/>
                  </a:lnTo>
                  <a:lnTo>
                    <a:pt x="1453" y="3"/>
                  </a:lnTo>
                  <a:lnTo>
                    <a:pt x="1425" y="0"/>
                  </a:lnTo>
                  <a:lnTo>
                    <a:pt x="1402" y="1"/>
                  </a:lnTo>
                  <a:lnTo>
                    <a:pt x="1380" y="4"/>
                  </a:lnTo>
                  <a:lnTo>
                    <a:pt x="1362" y="11"/>
                  </a:lnTo>
                  <a:lnTo>
                    <a:pt x="1342" y="18"/>
                  </a:lnTo>
                  <a:lnTo>
                    <a:pt x="1324" y="28"/>
                  </a:lnTo>
                  <a:lnTo>
                    <a:pt x="1304" y="37"/>
                  </a:lnTo>
                  <a:lnTo>
                    <a:pt x="1289" y="49"/>
                  </a:lnTo>
                  <a:lnTo>
                    <a:pt x="1269" y="59"/>
                  </a:lnTo>
                  <a:lnTo>
                    <a:pt x="1252" y="72"/>
                  </a:lnTo>
                  <a:lnTo>
                    <a:pt x="1234" y="85"/>
                  </a:lnTo>
                  <a:lnTo>
                    <a:pt x="1216" y="99"/>
                  </a:lnTo>
                  <a:lnTo>
                    <a:pt x="1195" y="112"/>
                  </a:lnTo>
                  <a:lnTo>
                    <a:pt x="1175" y="124"/>
                  </a:lnTo>
                  <a:lnTo>
                    <a:pt x="1152" y="134"/>
                  </a:lnTo>
                  <a:lnTo>
                    <a:pt x="1128" y="143"/>
                  </a:lnTo>
                  <a:lnTo>
                    <a:pt x="1101" y="152"/>
                  </a:lnTo>
                  <a:lnTo>
                    <a:pt x="1073" y="159"/>
                  </a:lnTo>
                  <a:lnTo>
                    <a:pt x="1042" y="166"/>
                  </a:lnTo>
                  <a:lnTo>
                    <a:pt x="1012" y="171"/>
                  </a:lnTo>
                  <a:lnTo>
                    <a:pt x="991" y="168"/>
                  </a:lnTo>
                  <a:lnTo>
                    <a:pt x="971" y="167"/>
                  </a:lnTo>
                  <a:lnTo>
                    <a:pt x="951" y="166"/>
                  </a:lnTo>
                  <a:lnTo>
                    <a:pt x="932" y="162"/>
                  </a:lnTo>
                  <a:lnTo>
                    <a:pt x="912" y="158"/>
                  </a:lnTo>
                  <a:lnTo>
                    <a:pt x="891" y="154"/>
                  </a:lnTo>
                  <a:lnTo>
                    <a:pt x="869" y="149"/>
                  </a:lnTo>
                  <a:lnTo>
                    <a:pt x="848" y="143"/>
                  </a:lnTo>
                  <a:lnTo>
                    <a:pt x="826" y="137"/>
                  </a:lnTo>
                  <a:lnTo>
                    <a:pt x="806" y="134"/>
                  </a:lnTo>
                  <a:lnTo>
                    <a:pt x="785" y="129"/>
                  </a:lnTo>
                  <a:lnTo>
                    <a:pt x="764" y="127"/>
                  </a:lnTo>
                  <a:lnTo>
                    <a:pt x="743" y="125"/>
                  </a:lnTo>
                  <a:lnTo>
                    <a:pt x="723" y="122"/>
                  </a:lnTo>
                  <a:lnTo>
                    <a:pt x="704" y="121"/>
                  </a:lnTo>
                  <a:lnTo>
                    <a:pt x="687" y="125"/>
                  </a:lnTo>
                  <a:lnTo>
                    <a:pt x="669" y="127"/>
                  </a:lnTo>
                  <a:lnTo>
                    <a:pt x="652" y="131"/>
                  </a:lnTo>
                  <a:lnTo>
                    <a:pt x="638" y="139"/>
                  </a:lnTo>
                  <a:lnTo>
                    <a:pt x="625" y="151"/>
                  </a:lnTo>
                  <a:lnTo>
                    <a:pt x="616" y="156"/>
                  </a:lnTo>
                  <a:lnTo>
                    <a:pt x="609" y="164"/>
                  </a:lnTo>
                  <a:lnTo>
                    <a:pt x="603" y="173"/>
                  </a:lnTo>
                  <a:lnTo>
                    <a:pt x="600" y="183"/>
                  </a:lnTo>
                  <a:lnTo>
                    <a:pt x="597" y="193"/>
                  </a:lnTo>
                  <a:lnTo>
                    <a:pt x="599" y="205"/>
                  </a:lnTo>
                  <a:lnTo>
                    <a:pt x="597" y="217"/>
                  </a:lnTo>
                  <a:lnTo>
                    <a:pt x="597" y="229"/>
                  </a:lnTo>
                  <a:lnTo>
                    <a:pt x="599" y="242"/>
                  </a:lnTo>
                  <a:lnTo>
                    <a:pt x="600" y="252"/>
                  </a:lnTo>
                  <a:lnTo>
                    <a:pt x="600" y="264"/>
                  </a:lnTo>
                  <a:lnTo>
                    <a:pt x="603" y="280"/>
                  </a:lnTo>
                  <a:lnTo>
                    <a:pt x="603" y="289"/>
                  </a:lnTo>
                  <a:lnTo>
                    <a:pt x="604" y="302"/>
                  </a:lnTo>
                  <a:lnTo>
                    <a:pt x="603" y="314"/>
                  </a:lnTo>
                  <a:lnTo>
                    <a:pt x="602" y="326"/>
                  </a:lnTo>
                  <a:lnTo>
                    <a:pt x="599" y="336"/>
                  </a:lnTo>
                  <a:lnTo>
                    <a:pt x="597" y="348"/>
                  </a:lnTo>
                  <a:lnTo>
                    <a:pt x="590" y="357"/>
                  </a:lnTo>
                  <a:lnTo>
                    <a:pt x="588" y="368"/>
                  </a:lnTo>
                  <a:lnTo>
                    <a:pt x="582" y="367"/>
                  </a:lnTo>
                  <a:lnTo>
                    <a:pt x="581" y="365"/>
                  </a:lnTo>
                  <a:lnTo>
                    <a:pt x="574" y="365"/>
                  </a:lnTo>
                  <a:lnTo>
                    <a:pt x="567" y="363"/>
                  </a:lnTo>
                  <a:lnTo>
                    <a:pt x="558" y="364"/>
                  </a:lnTo>
                  <a:lnTo>
                    <a:pt x="547" y="364"/>
                  </a:lnTo>
                  <a:lnTo>
                    <a:pt x="536" y="361"/>
                  </a:lnTo>
                  <a:lnTo>
                    <a:pt x="523" y="364"/>
                  </a:lnTo>
                  <a:lnTo>
                    <a:pt x="511" y="363"/>
                  </a:lnTo>
                  <a:lnTo>
                    <a:pt x="499" y="363"/>
                  </a:lnTo>
                  <a:lnTo>
                    <a:pt x="485" y="363"/>
                  </a:lnTo>
                  <a:lnTo>
                    <a:pt x="471" y="361"/>
                  </a:lnTo>
                  <a:lnTo>
                    <a:pt x="460" y="365"/>
                  </a:lnTo>
                  <a:lnTo>
                    <a:pt x="448" y="367"/>
                  </a:lnTo>
                  <a:lnTo>
                    <a:pt x="436" y="368"/>
                  </a:lnTo>
                  <a:lnTo>
                    <a:pt x="428" y="371"/>
                  </a:lnTo>
                  <a:lnTo>
                    <a:pt x="417" y="375"/>
                  </a:lnTo>
                  <a:lnTo>
                    <a:pt x="411" y="378"/>
                  </a:lnTo>
                  <a:lnTo>
                    <a:pt x="406" y="384"/>
                  </a:lnTo>
                  <a:lnTo>
                    <a:pt x="406" y="392"/>
                  </a:lnTo>
                  <a:lnTo>
                    <a:pt x="400" y="400"/>
                  </a:lnTo>
                  <a:lnTo>
                    <a:pt x="399" y="410"/>
                  </a:lnTo>
                  <a:lnTo>
                    <a:pt x="397" y="421"/>
                  </a:lnTo>
                  <a:lnTo>
                    <a:pt x="399" y="432"/>
                  </a:lnTo>
                  <a:lnTo>
                    <a:pt x="400" y="443"/>
                  </a:lnTo>
                  <a:lnTo>
                    <a:pt x="403" y="455"/>
                  </a:lnTo>
                  <a:lnTo>
                    <a:pt x="407" y="468"/>
                  </a:lnTo>
                  <a:lnTo>
                    <a:pt x="411" y="481"/>
                  </a:lnTo>
                  <a:lnTo>
                    <a:pt x="417" y="493"/>
                  </a:lnTo>
                  <a:lnTo>
                    <a:pt x="422" y="505"/>
                  </a:lnTo>
                  <a:lnTo>
                    <a:pt x="428" y="518"/>
                  </a:lnTo>
                  <a:lnTo>
                    <a:pt x="434" y="531"/>
                  </a:lnTo>
                  <a:lnTo>
                    <a:pt x="441" y="541"/>
                  </a:lnTo>
                  <a:lnTo>
                    <a:pt x="448" y="556"/>
                  </a:lnTo>
                  <a:lnTo>
                    <a:pt x="455" y="566"/>
                  </a:lnTo>
                  <a:lnTo>
                    <a:pt x="463" y="577"/>
                  </a:lnTo>
                  <a:lnTo>
                    <a:pt x="469" y="587"/>
                  </a:lnTo>
                  <a:lnTo>
                    <a:pt x="476" y="599"/>
                  </a:lnTo>
                  <a:lnTo>
                    <a:pt x="481" y="608"/>
                  </a:lnTo>
                  <a:lnTo>
                    <a:pt x="491" y="620"/>
                  </a:lnTo>
                  <a:lnTo>
                    <a:pt x="499" y="682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3114000" y="2713320"/>
              <a:ext cx="275400" cy="315000"/>
            </a:xfrm>
            <a:custGeom>
              <a:avLst/>
              <a:gdLst/>
              <a:ahLst/>
              <a:rect l="l" t="t" r="r" b="b"/>
              <a:pathLst>
                <a:path w="814" h="765">
                  <a:moveTo>
                    <a:pt x="158" y="0"/>
                  </a:moveTo>
                  <a:lnTo>
                    <a:pt x="109" y="182"/>
                  </a:lnTo>
                  <a:lnTo>
                    <a:pt x="122" y="239"/>
                  </a:lnTo>
                  <a:lnTo>
                    <a:pt x="171" y="377"/>
                  </a:lnTo>
                  <a:lnTo>
                    <a:pt x="365" y="571"/>
                  </a:lnTo>
                  <a:lnTo>
                    <a:pt x="620" y="548"/>
                  </a:lnTo>
                  <a:lnTo>
                    <a:pt x="669" y="628"/>
                  </a:lnTo>
                  <a:lnTo>
                    <a:pt x="730" y="696"/>
                  </a:lnTo>
                  <a:lnTo>
                    <a:pt x="814" y="720"/>
                  </a:lnTo>
                  <a:lnTo>
                    <a:pt x="656" y="742"/>
                  </a:lnTo>
                  <a:lnTo>
                    <a:pt x="547" y="708"/>
                  </a:lnTo>
                  <a:lnTo>
                    <a:pt x="255" y="686"/>
                  </a:lnTo>
                  <a:lnTo>
                    <a:pt x="109" y="742"/>
                  </a:lnTo>
                  <a:lnTo>
                    <a:pt x="0" y="765"/>
                  </a:lnTo>
                  <a:lnTo>
                    <a:pt x="158" y="662"/>
                  </a:lnTo>
                  <a:lnTo>
                    <a:pt x="243" y="594"/>
                  </a:lnTo>
                  <a:lnTo>
                    <a:pt x="145" y="514"/>
                  </a:lnTo>
                  <a:lnTo>
                    <a:pt x="60" y="343"/>
                  </a:lnTo>
                  <a:lnTo>
                    <a:pt x="73" y="17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3295080" y="2950920"/>
              <a:ext cx="321480" cy="121680"/>
            </a:xfrm>
            <a:custGeom>
              <a:avLst/>
              <a:gdLst/>
              <a:ahLst/>
              <a:rect l="l" t="t" r="r" b="b"/>
              <a:pathLst>
                <a:path w="948" h="297">
                  <a:moveTo>
                    <a:pt x="0" y="183"/>
                  </a:moveTo>
                  <a:lnTo>
                    <a:pt x="147" y="115"/>
                  </a:lnTo>
                  <a:lnTo>
                    <a:pt x="365" y="46"/>
                  </a:lnTo>
                  <a:lnTo>
                    <a:pt x="510" y="0"/>
                  </a:lnTo>
                  <a:lnTo>
                    <a:pt x="608" y="12"/>
                  </a:lnTo>
                  <a:lnTo>
                    <a:pt x="706" y="57"/>
                  </a:lnTo>
                  <a:lnTo>
                    <a:pt x="816" y="91"/>
                  </a:lnTo>
                  <a:lnTo>
                    <a:pt x="948" y="115"/>
                  </a:lnTo>
                  <a:lnTo>
                    <a:pt x="888" y="183"/>
                  </a:lnTo>
                  <a:lnTo>
                    <a:pt x="816" y="229"/>
                  </a:lnTo>
                  <a:lnTo>
                    <a:pt x="657" y="239"/>
                  </a:lnTo>
                  <a:lnTo>
                    <a:pt x="559" y="239"/>
                  </a:lnTo>
                  <a:lnTo>
                    <a:pt x="450" y="297"/>
                  </a:lnTo>
                  <a:lnTo>
                    <a:pt x="401" y="297"/>
                  </a:lnTo>
                  <a:lnTo>
                    <a:pt x="268" y="263"/>
                  </a:lnTo>
                  <a:lnTo>
                    <a:pt x="134" y="239"/>
                  </a:lnTo>
                  <a:lnTo>
                    <a:pt x="12" y="239"/>
                  </a:lnTo>
                  <a:lnTo>
                    <a:pt x="0" y="19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3632760" y="2762640"/>
              <a:ext cx="222480" cy="222480"/>
            </a:xfrm>
            <a:custGeom>
              <a:avLst/>
              <a:gdLst/>
              <a:ahLst/>
              <a:rect l="l" t="t" r="r" b="b"/>
              <a:pathLst>
                <a:path w="657" h="537">
                  <a:moveTo>
                    <a:pt x="37" y="515"/>
                  </a:moveTo>
                  <a:lnTo>
                    <a:pt x="147" y="377"/>
                  </a:lnTo>
                  <a:lnTo>
                    <a:pt x="292" y="298"/>
                  </a:lnTo>
                  <a:lnTo>
                    <a:pt x="426" y="252"/>
                  </a:lnTo>
                  <a:lnTo>
                    <a:pt x="536" y="206"/>
                  </a:lnTo>
                  <a:lnTo>
                    <a:pt x="657" y="80"/>
                  </a:lnTo>
                  <a:lnTo>
                    <a:pt x="634" y="0"/>
                  </a:lnTo>
                  <a:lnTo>
                    <a:pt x="548" y="0"/>
                  </a:lnTo>
                  <a:lnTo>
                    <a:pt x="585" y="69"/>
                  </a:lnTo>
                  <a:lnTo>
                    <a:pt x="523" y="103"/>
                  </a:lnTo>
                  <a:lnTo>
                    <a:pt x="439" y="92"/>
                  </a:lnTo>
                  <a:lnTo>
                    <a:pt x="365" y="138"/>
                  </a:lnTo>
                  <a:lnTo>
                    <a:pt x="341" y="184"/>
                  </a:lnTo>
                  <a:lnTo>
                    <a:pt x="219" y="240"/>
                  </a:lnTo>
                  <a:lnTo>
                    <a:pt x="147" y="308"/>
                  </a:lnTo>
                  <a:lnTo>
                    <a:pt x="61" y="389"/>
                  </a:lnTo>
                  <a:lnTo>
                    <a:pt x="0" y="537"/>
                  </a:lnTo>
                  <a:lnTo>
                    <a:pt x="37" y="515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726360" y="2809080"/>
              <a:ext cx="222840" cy="315000"/>
            </a:xfrm>
            <a:custGeom>
              <a:avLst/>
              <a:gdLst/>
              <a:ahLst/>
              <a:rect l="l" t="t" r="r" b="b"/>
              <a:pathLst>
                <a:path w="658" h="765">
                  <a:moveTo>
                    <a:pt x="147" y="331"/>
                  </a:moveTo>
                  <a:lnTo>
                    <a:pt x="329" y="319"/>
                  </a:lnTo>
                  <a:lnTo>
                    <a:pt x="389" y="377"/>
                  </a:lnTo>
                  <a:lnTo>
                    <a:pt x="389" y="548"/>
                  </a:lnTo>
                  <a:lnTo>
                    <a:pt x="305" y="720"/>
                  </a:lnTo>
                  <a:lnTo>
                    <a:pt x="269" y="765"/>
                  </a:lnTo>
                  <a:lnTo>
                    <a:pt x="427" y="650"/>
                  </a:lnTo>
                  <a:lnTo>
                    <a:pt x="511" y="616"/>
                  </a:lnTo>
                  <a:lnTo>
                    <a:pt x="609" y="572"/>
                  </a:lnTo>
                  <a:lnTo>
                    <a:pt x="658" y="480"/>
                  </a:lnTo>
                  <a:lnTo>
                    <a:pt x="585" y="411"/>
                  </a:lnTo>
                  <a:lnTo>
                    <a:pt x="549" y="319"/>
                  </a:lnTo>
                  <a:lnTo>
                    <a:pt x="597" y="251"/>
                  </a:lnTo>
                  <a:lnTo>
                    <a:pt x="511" y="194"/>
                  </a:lnTo>
                  <a:lnTo>
                    <a:pt x="500" y="148"/>
                  </a:lnTo>
                  <a:lnTo>
                    <a:pt x="585" y="10"/>
                  </a:lnTo>
                  <a:lnTo>
                    <a:pt x="549" y="0"/>
                  </a:lnTo>
                  <a:lnTo>
                    <a:pt x="451" y="56"/>
                  </a:lnTo>
                  <a:lnTo>
                    <a:pt x="451" y="125"/>
                  </a:lnTo>
                  <a:lnTo>
                    <a:pt x="402" y="171"/>
                  </a:lnTo>
                  <a:lnTo>
                    <a:pt x="378" y="102"/>
                  </a:lnTo>
                  <a:lnTo>
                    <a:pt x="317" y="125"/>
                  </a:lnTo>
                  <a:lnTo>
                    <a:pt x="280" y="160"/>
                  </a:lnTo>
                  <a:lnTo>
                    <a:pt x="220" y="217"/>
                  </a:lnTo>
                  <a:lnTo>
                    <a:pt x="147" y="273"/>
                  </a:lnTo>
                  <a:lnTo>
                    <a:pt x="49" y="343"/>
                  </a:lnTo>
                  <a:lnTo>
                    <a:pt x="0" y="343"/>
                  </a:lnTo>
                  <a:lnTo>
                    <a:pt x="147" y="331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3710520" y="2635560"/>
              <a:ext cx="111960" cy="225720"/>
            </a:xfrm>
            <a:custGeom>
              <a:avLst/>
              <a:gdLst/>
              <a:ahLst/>
              <a:rect l="l" t="t" r="r" b="b"/>
              <a:pathLst>
                <a:path w="329" h="548">
                  <a:moveTo>
                    <a:pt x="292" y="12"/>
                  </a:moveTo>
                  <a:lnTo>
                    <a:pt x="158" y="126"/>
                  </a:lnTo>
                  <a:lnTo>
                    <a:pt x="134" y="274"/>
                  </a:lnTo>
                  <a:lnTo>
                    <a:pt x="170" y="331"/>
                  </a:lnTo>
                  <a:lnTo>
                    <a:pt x="110" y="491"/>
                  </a:lnTo>
                  <a:lnTo>
                    <a:pt x="12" y="548"/>
                  </a:lnTo>
                  <a:lnTo>
                    <a:pt x="85" y="365"/>
                  </a:lnTo>
                  <a:lnTo>
                    <a:pt x="0" y="331"/>
                  </a:lnTo>
                  <a:lnTo>
                    <a:pt x="49" y="274"/>
                  </a:lnTo>
                  <a:lnTo>
                    <a:pt x="158" y="102"/>
                  </a:lnTo>
                  <a:lnTo>
                    <a:pt x="36" y="22"/>
                  </a:lnTo>
                  <a:lnTo>
                    <a:pt x="134" y="46"/>
                  </a:lnTo>
                  <a:lnTo>
                    <a:pt x="256" y="12"/>
                  </a:lnTo>
                  <a:lnTo>
                    <a:pt x="329" y="0"/>
                  </a:lnTo>
                  <a:lnTo>
                    <a:pt x="292" y="12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3204720" y="2633040"/>
              <a:ext cx="74160" cy="127080"/>
            </a:xfrm>
            <a:custGeom>
              <a:avLst/>
              <a:gdLst/>
              <a:ahLst/>
              <a:rect l="l" t="t" r="r" b="b"/>
              <a:pathLst>
                <a:path w="218" h="308">
                  <a:moveTo>
                    <a:pt x="24" y="0"/>
                  </a:moveTo>
                  <a:lnTo>
                    <a:pt x="122" y="228"/>
                  </a:lnTo>
                  <a:lnTo>
                    <a:pt x="218" y="308"/>
                  </a:lnTo>
                  <a:lnTo>
                    <a:pt x="0" y="182"/>
                  </a:lnTo>
                  <a:lnTo>
                    <a:pt x="24" y="148"/>
                  </a:lnTo>
                  <a:lnTo>
                    <a:pt x="12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305520" y="2775240"/>
              <a:ext cx="246960" cy="111960"/>
            </a:xfrm>
            <a:custGeom>
              <a:avLst/>
              <a:gdLst/>
              <a:ahLst/>
              <a:rect l="l" t="t" r="r" b="b"/>
              <a:pathLst>
                <a:path w="729" h="275">
                  <a:moveTo>
                    <a:pt x="60" y="104"/>
                  </a:moveTo>
                  <a:lnTo>
                    <a:pt x="207" y="127"/>
                  </a:lnTo>
                  <a:lnTo>
                    <a:pt x="316" y="35"/>
                  </a:lnTo>
                  <a:lnTo>
                    <a:pt x="328" y="0"/>
                  </a:lnTo>
                  <a:lnTo>
                    <a:pt x="340" y="127"/>
                  </a:lnTo>
                  <a:lnTo>
                    <a:pt x="487" y="173"/>
                  </a:lnTo>
                  <a:lnTo>
                    <a:pt x="657" y="138"/>
                  </a:lnTo>
                  <a:lnTo>
                    <a:pt x="729" y="70"/>
                  </a:lnTo>
                  <a:lnTo>
                    <a:pt x="682" y="195"/>
                  </a:lnTo>
                  <a:lnTo>
                    <a:pt x="511" y="263"/>
                  </a:lnTo>
                  <a:lnTo>
                    <a:pt x="365" y="275"/>
                  </a:lnTo>
                  <a:lnTo>
                    <a:pt x="244" y="229"/>
                  </a:lnTo>
                  <a:lnTo>
                    <a:pt x="182" y="184"/>
                  </a:lnTo>
                  <a:lnTo>
                    <a:pt x="86" y="229"/>
                  </a:lnTo>
                  <a:lnTo>
                    <a:pt x="0" y="184"/>
                  </a:lnTo>
                  <a:lnTo>
                    <a:pt x="24" y="58"/>
                  </a:lnTo>
                  <a:lnTo>
                    <a:pt x="60" y="104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3495960" y="2749680"/>
              <a:ext cx="41400" cy="75240"/>
            </a:xfrm>
            <a:custGeom>
              <a:avLst/>
              <a:gdLst/>
              <a:ahLst/>
              <a:rect l="l" t="t" r="r" b="b"/>
              <a:pathLst>
                <a:path w="122" h="182">
                  <a:moveTo>
                    <a:pt x="0" y="170"/>
                  </a:moveTo>
                  <a:lnTo>
                    <a:pt x="122" y="124"/>
                  </a:lnTo>
                  <a:lnTo>
                    <a:pt x="85" y="10"/>
                  </a:lnTo>
                  <a:lnTo>
                    <a:pt x="0" y="0"/>
                  </a:lnTo>
                  <a:lnTo>
                    <a:pt x="73" y="56"/>
                  </a:lnTo>
                  <a:lnTo>
                    <a:pt x="36" y="114"/>
                  </a:lnTo>
                  <a:lnTo>
                    <a:pt x="0" y="182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3364920" y="2748960"/>
              <a:ext cx="69840" cy="6264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60" y="58"/>
                  </a:moveTo>
                  <a:lnTo>
                    <a:pt x="121" y="114"/>
                  </a:lnTo>
                  <a:lnTo>
                    <a:pt x="206" y="102"/>
                  </a:lnTo>
                  <a:lnTo>
                    <a:pt x="84" y="148"/>
                  </a:lnTo>
                  <a:lnTo>
                    <a:pt x="0" y="58"/>
                  </a:lnTo>
                  <a:lnTo>
                    <a:pt x="84" y="0"/>
                  </a:lnTo>
                  <a:lnTo>
                    <a:pt x="6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072960" y="3396240"/>
              <a:ext cx="86400" cy="131760"/>
            </a:xfrm>
            <a:custGeom>
              <a:avLst/>
              <a:gdLst/>
              <a:ahLst/>
              <a:rect l="l" t="t" r="r" b="b"/>
              <a:pathLst>
                <a:path w="255" h="319">
                  <a:moveTo>
                    <a:pt x="96" y="68"/>
                  </a:moveTo>
                  <a:lnTo>
                    <a:pt x="255" y="0"/>
                  </a:lnTo>
                  <a:lnTo>
                    <a:pt x="182" y="80"/>
                  </a:lnTo>
                  <a:lnTo>
                    <a:pt x="158" y="263"/>
                  </a:lnTo>
                  <a:lnTo>
                    <a:pt x="158" y="319"/>
                  </a:lnTo>
                  <a:lnTo>
                    <a:pt x="133" y="102"/>
                  </a:lnTo>
                  <a:lnTo>
                    <a:pt x="85" y="92"/>
                  </a:lnTo>
                  <a:lnTo>
                    <a:pt x="0" y="46"/>
                  </a:lnTo>
                  <a:lnTo>
                    <a:pt x="96" y="6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3353760" y="2967480"/>
              <a:ext cx="222480" cy="61200"/>
            </a:xfrm>
            <a:custGeom>
              <a:avLst/>
              <a:gdLst/>
              <a:ahLst/>
              <a:rect l="l" t="t" r="r" b="b"/>
              <a:pathLst>
                <a:path w="657" h="148">
                  <a:moveTo>
                    <a:pt x="84" y="45"/>
                  </a:moveTo>
                  <a:lnTo>
                    <a:pt x="231" y="0"/>
                  </a:lnTo>
                  <a:lnTo>
                    <a:pt x="413" y="0"/>
                  </a:lnTo>
                  <a:lnTo>
                    <a:pt x="584" y="79"/>
                  </a:lnTo>
                  <a:lnTo>
                    <a:pt x="657" y="114"/>
                  </a:lnTo>
                  <a:lnTo>
                    <a:pt x="499" y="79"/>
                  </a:lnTo>
                  <a:lnTo>
                    <a:pt x="389" y="45"/>
                  </a:lnTo>
                  <a:lnTo>
                    <a:pt x="499" y="137"/>
                  </a:lnTo>
                  <a:lnTo>
                    <a:pt x="353" y="68"/>
                  </a:lnTo>
                  <a:lnTo>
                    <a:pt x="353" y="148"/>
                  </a:lnTo>
                  <a:lnTo>
                    <a:pt x="304" y="45"/>
                  </a:lnTo>
                  <a:lnTo>
                    <a:pt x="195" y="148"/>
                  </a:lnTo>
                  <a:lnTo>
                    <a:pt x="280" y="45"/>
                  </a:lnTo>
                  <a:lnTo>
                    <a:pt x="110" y="114"/>
                  </a:lnTo>
                  <a:lnTo>
                    <a:pt x="231" y="34"/>
                  </a:lnTo>
                  <a:lnTo>
                    <a:pt x="12" y="102"/>
                  </a:lnTo>
                  <a:lnTo>
                    <a:pt x="182" y="45"/>
                  </a:lnTo>
                  <a:lnTo>
                    <a:pt x="0" y="10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3754800" y="2892240"/>
              <a:ext cx="111600" cy="118800"/>
            </a:xfrm>
            <a:custGeom>
              <a:avLst/>
              <a:gdLst/>
              <a:ahLst/>
              <a:rect l="l" t="t" r="r" b="b"/>
              <a:pathLst>
                <a:path w="329" h="285">
                  <a:moveTo>
                    <a:pt x="0" y="148"/>
                  </a:moveTo>
                  <a:lnTo>
                    <a:pt x="182" y="125"/>
                  </a:lnTo>
                  <a:lnTo>
                    <a:pt x="316" y="183"/>
                  </a:lnTo>
                  <a:lnTo>
                    <a:pt x="329" y="285"/>
                  </a:lnTo>
                  <a:lnTo>
                    <a:pt x="329" y="137"/>
                  </a:lnTo>
                  <a:lnTo>
                    <a:pt x="244" y="91"/>
                  </a:lnTo>
                  <a:lnTo>
                    <a:pt x="133" y="68"/>
                  </a:lnTo>
                  <a:lnTo>
                    <a:pt x="146" y="0"/>
                  </a:lnTo>
                  <a:lnTo>
                    <a:pt x="85" y="22"/>
                  </a:lnTo>
                  <a:lnTo>
                    <a:pt x="60" y="91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3210480" y="2926800"/>
              <a:ext cx="211320" cy="4788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98" y="58"/>
                  </a:moveTo>
                  <a:lnTo>
                    <a:pt x="306" y="58"/>
                  </a:lnTo>
                  <a:lnTo>
                    <a:pt x="438" y="114"/>
                  </a:lnTo>
                  <a:lnTo>
                    <a:pt x="511" y="104"/>
                  </a:lnTo>
                  <a:lnTo>
                    <a:pt x="622" y="69"/>
                  </a:lnTo>
                  <a:lnTo>
                    <a:pt x="511" y="92"/>
                  </a:lnTo>
                  <a:lnTo>
                    <a:pt x="391" y="23"/>
                  </a:lnTo>
                  <a:lnTo>
                    <a:pt x="280" y="0"/>
                  </a:lnTo>
                  <a:lnTo>
                    <a:pt x="122" y="23"/>
                  </a:lnTo>
                  <a:lnTo>
                    <a:pt x="0" y="6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3265200" y="2830680"/>
              <a:ext cx="106560" cy="136800"/>
            </a:xfrm>
            <a:custGeom>
              <a:avLst/>
              <a:gdLst/>
              <a:ahLst/>
              <a:rect l="l" t="t" r="r" b="b"/>
              <a:pathLst>
                <a:path w="317" h="331">
                  <a:moveTo>
                    <a:pt x="49" y="69"/>
                  </a:moveTo>
                  <a:lnTo>
                    <a:pt x="171" y="183"/>
                  </a:lnTo>
                  <a:lnTo>
                    <a:pt x="268" y="195"/>
                  </a:lnTo>
                  <a:lnTo>
                    <a:pt x="208" y="239"/>
                  </a:lnTo>
                  <a:lnTo>
                    <a:pt x="317" y="331"/>
                  </a:lnTo>
                  <a:lnTo>
                    <a:pt x="122" y="263"/>
                  </a:lnTo>
                  <a:lnTo>
                    <a:pt x="24" y="183"/>
                  </a:lnTo>
                  <a:lnTo>
                    <a:pt x="0" y="0"/>
                  </a:lnTo>
                  <a:lnTo>
                    <a:pt x="49" y="69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654360" y="2796480"/>
              <a:ext cx="49680" cy="103680"/>
            </a:xfrm>
            <a:custGeom>
              <a:avLst/>
              <a:gdLst/>
              <a:ahLst/>
              <a:rect l="l" t="t" r="r" b="b"/>
              <a:pathLst>
                <a:path w="147" h="251">
                  <a:moveTo>
                    <a:pt x="13" y="68"/>
                  </a:moveTo>
                  <a:lnTo>
                    <a:pt x="49" y="149"/>
                  </a:lnTo>
                  <a:lnTo>
                    <a:pt x="0" y="251"/>
                  </a:lnTo>
                  <a:lnTo>
                    <a:pt x="111" y="160"/>
                  </a:lnTo>
                  <a:lnTo>
                    <a:pt x="147" y="80"/>
                  </a:lnTo>
                  <a:lnTo>
                    <a:pt x="86" y="68"/>
                  </a:lnTo>
                  <a:lnTo>
                    <a:pt x="49" y="0"/>
                  </a:lnTo>
                  <a:lnTo>
                    <a:pt x="13" y="34"/>
                  </a:lnTo>
                  <a:lnTo>
                    <a:pt x="13" y="68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3444480" y="2613960"/>
              <a:ext cx="163440" cy="149760"/>
            </a:xfrm>
            <a:custGeom>
              <a:avLst/>
              <a:gdLst/>
              <a:ahLst/>
              <a:rect l="l" t="t" r="r" b="b"/>
              <a:pathLst>
                <a:path w="483" h="364">
                  <a:moveTo>
                    <a:pt x="0" y="58"/>
                  </a:moveTo>
                  <a:lnTo>
                    <a:pt x="312" y="132"/>
                  </a:lnTo>
                  <a:lnTo>
                    <a:pt x="405" y="249"/>
                  </a:lnTo>
                  <a:lnTo>
                    <a:pt x="483" y="364"/>
                  </a:lnTo>
                  <a:lnTo>
                    <a:pt x="468" y="219"/>
                  </a:lnTo>
                  <a:lnTo>
                    <a:pt x="405" y="29"/>
                  </a:lnTo>
                  <a:lnTo>
                    <a:pt x="296" y="0"/>
                  </a:lnTo>
                  <a:lnTo>
                    <a:pt x="63" y="44"/>
                  </a:lnTo>
                  <a:lnTo>
                    <a:pt x="3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844080" y="2747880"/>
              <a:ext cx="241920" cy="145080"/>
            </a:xfrm>
            <a:custGeom>
              <a:avLst/>
              <a:gdLst/>
              <a:ahLst/>
              <a:rect l="l" t="t" r="r" b="b"/>
              <a:pathLst>
                <a:path w="715" h="350">
                  <a:moveTo>
                    <a:pt x="310" y="233"/>
                  </a:moveTo>
                  <a:lnTo>
                    <a:pt x="513" y="101"/>
                  </a:lnTo>
                  <a:lnTo>
                    <a:pt x="715" y="29"/>
                  </a:lnTo>
                  <a:lnTo>
                    <a:pt x="590" y="0"/>
                  </a:lnTo>
                  <a:lnTo>
                    <a:pt x="327" y="43"/>
                  </a:lnTo>
                  <a:lnTo>
                    <a:pt x="327" y="117"/>
                  </a:lnTo>
                  <a:lnTo>
                    <a:pt x="280" y="189"/>
                  </a:lnTo>
                  <a:lnTo>
                    <a:pt x="93" y="277"/>
                  </a:lnTo>
                  <a:lnTo>
                    <a:pt x="0" y="350"/>
                  </a:lnTo>
                  <a:lnTo>
                    <a:pt x="203" y="263"/>
                  </a:lnTo>
                  <a:lnTo>
                    <a:pt x="295" y="248"/>
                  </a:lnTo>
                  <a:lnTo>
                    <a:pt x="310" y="2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3277080" y="2965680"/>
              <a:ext cx="94680" cy="543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17" y="15"/>
                  </a:moveTo>
                  <a:lnTo>
                    <a:pt x="0" y="132"/>
                  </a:lnTo>
                  <a:lnTo>
                    <a:pt x="16" y="58"/>
                  </a:lnTo>
                  <a:lnTo>
                    <a:pt x="280" y="0"/>
                  </a:lnTo>
                  <a:lnTo>
                    <a:pt x="217" y="15"/>
                  </a:lnTo>
                  <a:close/>
                </a:path>
              </a:pathLst>
            </a:custGeom>
            <a:solidFill>
              <a:srgbClr val="c68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3623400" y="2935080"/>
              <a:ext cx="189000" cy="198000"/>
            </a:xfrm>
            <a:custGeom>
              <a:avLst/>
              <a:gdLst/>
              <a:ahLst/>
              <a:rect l="l" t="t" r="r" b="b"/>
              <a:pathLst>
                <a:path w="560" h="481">
                  <a:moveTo>
                    <a:pt x="560" y="0"/>
                  </a:moveTo>
                  <a:lnTo>
                    <a:pt x="497" y="131"/>
                  </a:lnTo>
                  <a:lnTo>
                    <a:pt x="403" y="277"/>
                  </a:lnTo>
                  <a:lnTo>
                    <a:pt x="202" y="409"/>
                  </a:lnTo>
                  <a:lnTo>
                    <a:pt x="0" y="481"/>
                  </a:lnTo>
                  <a:lnTo>
                    <a:pt x="187" y="452"/>
                  </a:lnTo>
                  <a:lnTo>
                    <a:pt x="311" y="364"/>
                  </a:lnTo>
                  <a:lnTo>
                    <a:pt x="497" y="263"/>
                  </a:lnTo>
                  <a:lnTo>
                    <a:pt x="513" y="321"/>
                  </a:lnTo>
                  <a:lnTo>
                    <a:pt x="560" y="146"/>
                  </a:lnTo>
                  <a:lnTo>
                    <a:pt x="543" y="1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ba6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3297960" y="2820240"/>
              <a:ext cx="190080" cy="174600"/>
            </a:xfrm>
            <a:custGeom>
              <a:avLst/>
              <a:gdLst/>
              <a:ahLst/>
              <a:rect l="l" t="t" r="r" b="b"/>
              <a:pathLst>
                <a:path w="560" h="423">
                  <a:moveTo>
                    <a:pt x="48" y="74"/>
                  </a:moveTo>
                  <a:lnTo>
                    <a:pt x="156" y="205"/>
                  </a:lnTo>
                  <a:lnTo>
                    <a:pt x="265" y="321"/>
                  </a:lnTo>
                  <a:lnTo>
                    <a:pt x="374" y="380"/>
                  </a:lnTo>
                  <a:lnTo>
                    <a:pt x="529" y="423"/>
                  </a:lnTo>
                  <a:lnTo>
                    <a:pt x="560" y="380"/>
                  </a:lnTo>
                  <a:lnTo>
                    <a:pt x="468" y="220"/>
                  </a:lnTo>
                  <a:lnTo>
                    <a:pt x="468" y="321"/>
                  </a:lnTo>
                  <a:lnTo>
                    <a:pt x="328" y="74"/>
                  </a:lnTo>
                  <a:lnTo>
                    <a:pt x="436" y="321"/>
                  </a:lnTo>
                  <a:lnTo>
                    <a:pt x="280" y="58"/>
                  </a:lnTo>
                  <a:lnTo>
                    <a:pt x="374" y="321"/>
                  </a:lnTo>
                  <a:lnTo>
                    <a:pt x="203" y="58"/>
                  </a:lnTo>
                  <a:lnTo>
                    <a:pt x="296" y="292"/>
                  </a:lnTo>
                  <a:lnTo>
                    <a:pt x="110" y="0"/>
                  </a:lnTo>
                  <a:lnTo>
                    <a:pt x="203" y="20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48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3813480" y="2655720"/>
              <a:ext cx="142200" cy="217440"/>
            </a:xfrm>
            <a:custGeom>
              <a:avLst/>
              <a:gdLst/>
              <a:ahLst/>
              <a:rect l="l" t="t" r="r" b="b"/>
              <a:pathLst>
                <a:path w="420" h="525">
                  <a:moveTo>
                    <a:pt x="124" y="0"/>
                  </a:moveTo>
                  <a:lnTo>
                    <a:pt x="233" y="73"/>
                  </a:lnTo>
                  <a:lnTo>
                    <a:pt x="280" y="161"/>
                  </a:lnTo>
                  <a:lnTo>
                    <a:pt x="420" y="233"/>
                  </a:lnTo>
                  <a:lnTo>
                    <a:pt x="327" y="293"/>
                  </a:lnTo>
                  <a:lnTo>
                    <a:pt x="295" y="453"/>
                  </a:lnTo>
                  <a:lnTo>
                    <a:pt x="233" y="379"/>
                  </a:lnTo>
                  <a:lnTo>
                    <a:pt x="140" y="482"/>
                  </a:lnTo>
                  <a:lnTo>
                    <a:pt x="0" y="525"/>
                  </a:lnTo>
                  <a:lnTo>
                    <a:pt x="233" y="350"/>
                  </a:lnTo>
                  <a:lnTo>
                    <a:pt x="78" y="424"/>
                  </a:lnTo>
                  <a:lnTo>
                    <a:pt x="218" y="248"/>
                  </a:lnTo>
                  <a:lnTo>
                    <a:pt x="78" y="408"/>
                  </a:lnTo>
                  <a:lnTo>
                    <a:pt x="170" y="176"/>
                  </a:lnTo>
                  <a:lnTo>
                    <a:pt x="63" y="336"/>
                  </a:lnTo>
                  <a:lnTo>
                    <a:pt x="140" y="116"/>
                  </a:lnTo>
                  <a:lnTo>
                    <a:pt x="30" y="293"/>
                  </a:lnTo>
                  <a:lnTo>
                    <a:pt x="63" y="116"/>
                  </a:lnTo>
                  <a:lnTo>
                    <a:pt x="0" y="161"/>
                  </a:lnTo>
                  <a:lnTo>
                    <a:pt x="47" y="30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3098520" y="2661840"/>
              <a:ext cx="94320" cy="204480"/>
            </a:xfrm>
            <a:custGeom>
              <a:avLst/>
              <a:gdLst/>
              <a:ahLst/>
              <a:rect l="l" t="t" r="r" b="b"/>
              <a:pathLst>
                <a:path w="280" h="497">
                  <a:moveTo>
                    <a:pt x="47" y="0"/>
                  </a:moveTo>
                  <a:lnTo>
                    <a:pt x="47" y="59"/>
                  </a:lnTo>
                  <a:lnTo>
                    <a:pt x="187" y="394"/>
                  </a:lnTo>
                  <a:lnTo>
                    <a:pt x="280" y="497"/>
                  </a:lnTo>
                  <a:lnTo>
                    <a:pt x="170" y="219"/>
                  </a:lnTo>
                  <a:lnTo>
                    <a:pt x="170" y="117"/>
                  </a:lnTo>
                  <a:lnTo>
                    <a:pt x="249" y="102"/>
                  </a:lnTo>
                  <a:lnTo>
                    <a:pt x="109" y="45"/>
                  </a:lnTo>
                  <a:lnTo>
                    <a:pt x="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3644280" y="2791080"/>
              <a:ext cx="231840" cy="192960"/>
            </a:xfrm>
            <a:custGeom>
              <a:avLst/>
              <a:gdLst/>
              <a:ahLst/>
              <a:rect l="l" t="t" r="r" b="b"/>
              <a:pathLst>
                <a:path w="684" h="467">
                  <a:moveTo>
                    <a:pt x="0" y="453"/>
                  </a:moveTo>
                  <a:lnTo>
                    <a:pt x="124" y="278"/>
                  </a:lnTo>
                  <a:lnTo>
                    <a:pt x="232" y="219"/>
                  </a:lnTo>
                  <a:lnTo>
                    <a:pt x="372" y="161"/>
                  </a:lnTo>
                  <a:lnTo>
                    <a:pt x="481" y="102"/>
                  </a:lnTo>
                  <a:lnTo>
                    <a:pt x="527" y="44"/>
                  </a:lnTo>
                  <a:lnTo>
                    <a:pt x="575" y="0"/>
                  </a:lnTo>
                  <a:lnTo>
                    <a:pt x="684" y="0"/>
                  </a:lnTo>
                  <a:lnTo>
                    <a:pt x="621" y="30"/>
                  </a:lnTo>
                  <a:lnTo>
                    <a:pt x="560" y="73"/>
                  </a:lnTo>
                  <a:lnTo>
                    <a:pt x="497" y="147"/>
                  </a:lnTo>
                  <a:lnTo>
                    <a:pt x="341" y="205"/>
                  </a:lnTo>
                  <a:lnTo>
                    <a:pt x="155" y="278"/>
                  </a:lnTo>
                  <a:lnTo>
                    <a:pt x="77" y="379"/>
                  </a:lnTo>
                  <a:lnTo>
                    <a:pt x="0" y="467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3292560" y="2942280"/>
              <a:ext cx="226800" cy="78840"/>
            </a:xfrm>
            <a:custGeom>
              <a:avLst/>
              <a:gdLst/>
              <a:ahLst/>
              <a:rect l="l" t="t" r="r" b="b"/>
              <a:pathLst>
                <a:path w="669" h="190">
                  <a:moveTo>
                    <a:pt x="653" y="59"/>
                  </a:moveTo>
                  <a:lnTo>
                    <a:pt x="419" y="0"/>
                  </a:lnTo>
                  <a:lnTo>
                    <a:pt x="124" y="88"/>
                  </a:lnTo>
                  <a:lnTo>
                    <a:pt x="0" y="190"/>
                  </a:lnTo>
                  <a:lnTo>
                    <a:pt x="233" y="117"/>
                  </a:lnTo>
                  <a:lnTo>
                    <a:pt x="466" y="88"/>
                  </a:lnTo>
                  <a:lnTo>
                    <a:pt x="606" y="73"/>
                  </a:lnTo>
                  <a:lnTo>
                    <a:pt x="669" y="102"/>
                  </a:lnTo>
                  <a:lnTo>
                    <a:pt x="6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908800" y="2750760"/>
              <a:ext cx="120960" cy="209160"/>
            </a:xfrm>
            <a:custGeom>
              <a:avLst/>
              <a:gdLst/>
              <a:ahLst/>
              <a:rect l="l" t="t" r="r" b="b"/>
              <a:pathLst>
                <a:path w="357" h="511">
                  <a:moveTo>
                    <a:pt x="263" y="0"/>
                  </a:moveTo>
                  <a:lnTo>
                    <a:pt x="155" y="43"/>
                  </a:lnTo>
                  <a:lnTo>
                    <a:pt x="108" y="131"/>
                  </a:lnTo>
                  <a:lnTo>
                    <a:pt x="61" y="292"/>
                  </a:lnTo>
                  <a:lnTo>
                    <a:pt x="0" y="511"/>
                  </a:lnTo>
                  <a:lnTo>
                    <a:pt x="108" y="380"/>
                  </a:lnTo>
                  <a:lnTo>
                    <a:pt x="155" y="248"/>
                  </a:lnTo>
                  <a:lnTo>
                    <a:pt x="217" y="131"/>
                  </a:lnTo>
                  <a:lnTo>
                    <a:pt x="357" y="29"/>
                  </a:lnTo>
                  <a:lnTo>
                    <a:pt x="326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3315240" y="2719080"/>
              <a:ext cx="104760" cy="12024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140" y="57"/>
                  </a:moveTo>
                  <a:lnTo>
                    <a:pt x="94" y="174"/>
                  </a:lnTo>
                  <a:lnTo>
                    <a:pt x="170" y="232"/>
                  </a:lnTo>
                  <a:lnTo>
                    <a:pt x="310" y="232"/>
                  </a:lnTo>
                  <a:lnTo>
                    <a:pt x="124" y="277"/>
                  </a:lnTo>
                  <a:lnTo>
                    <a:pt x="31" y="291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201" y="0"/>
                  </a:lnTo>
                  <a:lnTo>
                    <a:pt x="280" y="72"/>
                  </a:lnTo>
                  <a:lnTo>
                    <a:pt x="155" y="43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470760" y="2748600"/>
              <a:ext cx="110880" cy="101880"/>
            </a:xfrm>
            <a:custGeom>
              <a:avLst/>
              <a:gdLst/>
              <a:ahLst/>
              <a:rect l="l" t="t" r="r" b="b"/>
              <a:pathLst>
                <a:path w="326" h="248">
                  <a:moveTo>
                    <a:pt x="326" y="88"/>
                  </a:moveTo>
                  <a:lnTo>
                    <a:pt x="280" y="205"/>
                  </a:lnTo>
                  <a:lnTo>
                    <a:pt x="217" y="248"/>
                  </a:lnTo>
                  <a:lnTo>
                    <a:pt x="93" y="248"/>
                  </a:lnTo>
                  <a:lnTo>
                    <a:pt x="0" y="219"/>
                  </a:lnTo>
                  <a:lnTo>
                    <a:pt x="170" y="205"/>
                  </a:lnTo>
                  <a:lnTo>
                    <a:pt x="264" y="117"/>
                  </a:lnTo>
                  <a:lnTo>
                    <a:pt x="326" y="0"/>
                  </a:lnTo>
                  <a:lnTo>
                    <a:pt x="32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3720960" y="2923560"/>
              <a:ext cx="95400" cy="14328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24" y="0"/>
                  </a:moveTo>
                  <a:lnTo>
                    <a:pt x="280" y="14"/>
                  </a:lnTo>
                  <a:lnTo>
                    <a:pt x="280" y="117"/>
                  </a:lnTo>
                  <a:lnTo>
                    <a:pt x="203" y="219"/>
                  </a:lnTo>
                  <a:lnTo>
                    <a:pt x="93" y="351"/>
                  </a:lnTo>
                  <a:lnTo>
                    <a:pt x="233" y="146"/>
                  </a:lnTo>
                  <a:lnTo>
                    <a:pt x="203" y="43"/>
                  </a:lnTo>
                  <a:lnTo>
                    <a:pt x="109" y="29"/>
                  </a:lnTo>
                  <a:lnTo>
                    <a:pt x="0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2639160" y="2481840"/>
              <a:ext cx="195120" cy="315000"/>
            </a:xfrm>
            <a:custGeom>
              <a:avLst/>
              <a:gdLst/>
              <a:ahLst/>
              <a:rect l="l" t="t" r="r" b="b"/>
              <a:pathLst>
                <a:path w="578" h="763">
                  <a:moveTo>
                    <a:pt x="180" y="763"/>
                  </a:moveTo>
                  <a:lnTo>
                    <a:pt x="165" y="750"/>
                  </a:lnTo>
                  <a:lnTo>
                    <a:pt x="152" y="738"/>
                  </a:lnTo>
                  <a:lnTo>
                    <a:pt x="140" y="726"/>
                  </a:lnTo>
                  <a:lnTo>
                    <a:pt x="130" y="716"/>
                  </a:lnTo>
                  <a:lnTo>
                    <a:pt x="117" y="705"/>
                  </a:lnTo>
                  <a:lnTo>
                    <a:pt x="108" y="692"/>
                  </a:lnTo>
                  <a:lnTo>
                    <a:pt x="98" y="682"/>
                  </a:lnTo>
                  <a:lnTo>
                    <a:pt x="88" y="670"/>
                  </a:lnTo>
                  <a:lnTo>
                    <a:pt x="78" y="659"/>
                  </a:lnTo>
                  <a:lnTo>
                    <a:pt x="73" y="647"/>
                  </a:lnTo>
                  <a:lnTo>
                    <a:pt x="62" y="634"/>
                  </a:lnTo>
                  <a:lnTo>
                    <a:pt x="56" y="622"/>
                  </a:lnTo>
                  <a:lnTo>
                    <a:pt x="48" y="611"/>
                  </a:lnTo>
                  <a:lnTo>
                    <a:pt x="42" y="595"/>
                  </a:lnTo>
                  <a:lnTo>
                    <a:pt x="34" y="583"/>
                  </a:lnTo>
                  <a:lnTo>
                    <a:pt x="29" y="566"/>
                  </a:lnTo>
                  <a:lnTo>
                    <a:pt x="24" y="551"/>
                  </a:lnTo>
                  <a:lnTo>
                    <a:pt x="18" y="537"/>
                  </a:lnTo>
                  <a:lnTo>
                    <a:pt x="14" y="520"/>
                  </a:lnTo>
                  <a:lnTo>
                    <a:pt x="13" y="505"/>
                  </a:lnTo>
                  <a:lnTo>
                    <a:pt x="7" y="484"/>
                  </a:lnTo>
                  <a:lnTo>
                    <a:pt x="4" y="463"/>
                  </a:lnTo>
                  <a:lnTo>
                    <a:pt x="3" y="438"/>
                  </a:lnTo>
                  <a:lnTo>
                    <a:pt x="1" y="411"/>
                  </a:lnTo>
                  <a:lnTo>
                    <a:pt x="0" y="383"/>
                  </a:lnTo>
                  <a:lnTo>
                    <a:pt x="1" y="356"/>
                  </a:lnTo>
                  <a:lnTo>
                    <a:pt x="0" y="327"/>
                  </a:lnTo>
                  <a:lnTo>
                    <a:pt x="4" y="299"/>
                  </a:lnTo>
                  <a:lnTo>
                    <a:pt x="7" y="270"/>
                  </a:lnTo>
                  <a:lnTo>
                    <a:pt x="10" y="244"/>
                  </a:lnTo>
                  <a:lnTo>
                    <a:pt x="13" y="218"/>
                  </a:lnTo>
                  <a:lnTo>
                    <a:pt x="18" y="195"/>
                  </a:lnTo>
                  <a:lnTo>
                    <a:pt x="21" y="177"/>
                  </a:lnTo>
                  <a:lnTo>
                    <a:pt x="28" y="161"/>
                  </a:lnTo>
                  <a:lnTo>
                    <a:pt x="32" y="148"/>
                  </a:lnTo>
                  <a:lnTo>
                    <a:pt x="41" y="138"/>
                  </a:lnTo>
                  <a:lnTo>
                    <a:pt x="48" y="135"/>
                  </a:lnTo>
                  <a:lnTo>
                    <a:pt x="55" y="135"/>
                  </a:lnTo>
                  <a:lnTo>
                    <a:pt x="64" y="144"/>
                  </a:lnTo>
                  <a:lnTo>
                    <a:pt x="76" y="159"/>
                  </a:lnTo>
                  <a:lnTo>
                    <a:pt x="77" y="163"/>
                  </a:lnTo>
                  <a:lnTo>
                    <a:pt x="78" y="164"/>
                  </a:lnTo>
                  <a:lnTo>
                    <a:pt x="81" y="163"/>
                  </a:lnTo>
                  <a:lnTo>
                    <a:pt x="84" y="157"/>
                  </a:lnTo>
                  <a:lnTo>
                    <a:pt x="88" y="149"/>
                  </a:lnTo>
                  <a:lnTo>
                    <a:pt x="90" y="141"/>
                  </a:lnTo>
                  <a:lnTo>
                    <a:pt x="92" y="128"/>
                  </a:lnTo>
                  <a:lnTo>
                    <a:pt x="95" y="117"/>
                  </a:lnTo>
                  <a:lnTo>
                    <a:pt x="98" y="101"/>
                  </a:lnTo>
                  <a:lnTo>
                    <a:pt x="103" y="88"/>
                  </a:lnTo>
                  <a:lnTo>
                    <a:pt x="109" y="73"/>
                  </a:lnTo>
                  <a:lnTo>
                    <a:pt x="115" y="61"/>
                  </a:lnTo>
                  <a:lnTo>
                    <a:pt x="120" y="47"/>
                  </a:lnTo>
                  <a:lnTo>
                    <a:pt x="130" y="35"/>
                  </a:lnTo>
                  <a:lnTo>
                    <a:pt x="138" y="22"/>
                  </a:lnTo>
                  <a:lnTo>
                    <a:pt x="150" y="14"/>
                  </a:lnTo>
                  <a:lnTo>
                    <a:pt x="162" y="6"/>
                  </a:lnTo>
                  <a:lnTo>
                    <a:pt x="176" y="1"/>
                  </a:lnTo>
                  <a:lnTo>
                    <a:pt x="193" y="0"/>
                  </a:lnTo>
                  <a:lnTo>
                    <a:pt x="214" y="1"/>
                  </a:lnTo>
                  <a:lnTo>
                    <a:pt x="232" y="5"/>
                  </a:lnTo>
                  <a:lnTo>
                    <a:pt x="248" y="11"/>
                  </a:lnTo>
                  <a:lnTo>
                    <a:pt x="264" y="18"/>
                  </a:lnTo>
                  <a:lnTo>
                    <a:pt x="277" y="28"/>
                  </a:lnTo>
                  <a:lnTo>
                    <a:pt x="288" y="39"/>
                  </a:lnTo>
                  <a:lnTo>
                    <a:pt x="298" y="52"/>
                  </a:lnTo>
                  <a:lnTo>
                    <a:pt x="304" y="64"/>
                  </a:lnTo>
                  <a:lnTo>
                    <a:pt x="309" y="77"/>
                  </a:lnTo>
                  <a:lnTo>
                    <a:pt x="313" y="89"/>
                  </a:lnTo>
                  <a:lnTo>
                    <a:pt x="318" y="102"/>
                  </a:lnTo>
                  <a:lnTo>
                    <a:pt x="318" y="115"/>
                  </a:lnTo>
                  <a:lnTo>
                    <a:pt x="319" y="128"/>
                  </a:lnTo>
                  <a:lnTo>
                    <a:pt x="320" y="139"/>
                  </a:lnTo>
                  <a:lnTo>
                    <a:pt x="320" y="149"/>
                  </a:lnTo>
                  <a:lnTo>
                    <a:pt x="320" y="159"/>
                  </a:lnTo>
                  <a:lnTo>
                    <a:pt x="322" y="168"/>
                  </a:lnTo>
                  <a:lnTo>
                    <a:pt x="322" y="174"/>
                  </a:lnTo>
                  <a:lnTo>
                    <a:pt x="323" y="177"/>
                  </a:lnTo>
                  <a:lnTo>
                    <a:pt x="326" y="178"/>
                  </a:lnTo>
                  <a:lnTo>
                    <a:pt x="330" y="180"/>
                  </a:lnTo>
                  <a:lnTo>
                    <a:pt x="354" y="161"/>
                  </a:lnTo>
                  <a:lnTo>
                    <a:pt x="379" y="151"/>
                  </a:lnTo>
                  <a:lnTo>
                    <a:pt x="399" y="149"/>
                  </a:lnTo>
                  <a:lnTo>
                    <a:pt x="417" y="151"/>
                  </a:lnTo>
                  <a:lnTo>
                    <a:pt x="432" y="160"/>
                  </a:lnTo>
                  <a:lnTo>
                    <a:pt x="445" y="173"/>
                  </a:lnTo>
                  <a:lnTo>
                    <a:pt x="456" y="189"/>
                  </a:lnTo>
                  <a:lnTo>
                    <a:pt x="466" y="209"/>
                  </a:lnTo>
                  <a:lnTo>
                    <a:pt x="476" y="231"/>
                  </a:lnTo>
                  <a:lnTo>
                    <a:pt x="484" y="254"/>
                  </a:lnTo>
                  <a:lnTo>
                    <a:pt x="491" y="279"/>
                  </a:lnTo>
                  <a:lnTo>
                    <a:pt x="495" y="306"/>
                  </a:lnTo>
                  <a:lnTo>
                    <a:pt x="502" y="332"/>
                  </a:lnTo>
                  <a:lnTo>
                    <a:pt x="509" y="357"/>
                  </a:lnTo>
                  <a:lnTo>
                    <a:pt x="515" y="382"/>
                  </a:lnTo>
                  <a:lnTo>
                    <a:pt x="522" y="403"/>
                  </a:lnTo>
                  <a:lnTo>
                    <a:pt x="530" y="423"/>
                  </a:lnTo>
                  <a:lnTo>
                    <a:pt x="537" y="440"/>
                  </a:lnTo>
                  <a:lnTo>
                    <a:pt x="550" y="452"/>
                  </a:lnTo>
                  <a:lnTo>
                    <a:pt x="564" y="461"/>
                  </a:lnTo>
                  <a:lnTo>
                    <a:pt x="568" y="463"/>
                  </a:lnTo>
                  <a:lnTo>
                    <a:pt x="574" y="471"/>
                  </a:lnTo>
                  <a:lnTo>
                    <a:pt x="577" y="481"/>
                  </a:lnTo>
                  <a:lnTo>
                    <a:pt x="578" y="492"/>
                  </a:lnTo>
                  <a:lnTo>
                    <a:pt x="575" y="505"/>
                  </a:lnTo>
                  <a:lnTo>
                    <a:pt x="571" y="521"/>
                  </a:lnTo>
                  <a:lnTo>
                    <a:pt x="564" y="536"/>
                  </a:lnTo>
                  <a:lnTo>
                    <a:pt x="556" y="551"/>
                  </a:lnTo>
                  <a:lnTo>
                    <a:pt x="547" y="571"/>
                  </a:lnTo>
                  <a:lnTo>
                    <a:pt x="537" y="590"/>
                  </a:lnTo>
                  <a:lnTo>
                    <a:pt x="525" y="605"/>
                  </a:lnTo>
                  <a:lnTo>
                    <a:pt x="512" y="624"/>
                  </a:lnTo>
                  <a:lnTo>
                    <a:pt x="497" y="641"/>
                  </a:lnTo>
                  <a:lnTo>
                    <a:pt x="483" y="658"/>
                  </a:lnTo>
                  <a:lnTo>
                    <a:pt x="469" y="671"/>
                  </a:lnTo>
                  <a:lnTo>
                    <a:pt x="453" y="687"/>
                  </a:lnTo>
                  <a:lnTo>
                    <a:pt x="437" y="700"/>
                  </a:lnTo>
                  <a:lnTo>
                    <a:pt x="421" y="712"/>
                  </a:lnTo>
                  <a:lnTo>
                    <a:pt x="406" y="720"/>
                  </a:lnTo>
                  <a:lnTo>
                    <a:pt x="395" y="730"/>
                  </a:lnTo>
                  <a:lnTo>
                    <a:pt x="180" y="763"/>
                  </a:lnTo>
                  <a:close/>
                </a:path>
              </a:pathLst>
            </a:custGeom>
            <a:solidFill>
              <a:srgbClr val="fde8f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2611080" y="2554920"/>
              <a:ext cx="61920" cy="151560"/>
            </a:xfrm>
            <a:custGeom>
              <a:avLst/>
              <a:gdLst/>
              <a:ahLst/>
              <a:rect l="l" t="t" r="r" b="b"/>
              <a:pathLst>
                <a:path w="182" h="369">
                  <a:moveTo>
                    <a:pt x="63" y="57"/>
                  </a:moveTo>
                  <a:lnTo>
                    <a:pt x="118" y="237"/>
                  </a:lnTo>
                  <a:lnTo>
                    <a:pt x="182" y="347"/>
                  </a:lnTo>
                  <a:lnTo>
                    <a:pt x="171" y="369"/>
                  </a:lnTo>
                  <a:lnTo>
                    <a:pt x="76" y="281"/>
                  </a:lnTo>
                  <a:lnTo>
                    <a:pt x="33" y="180"/>
                  </a:lnTo>
                  <a:lnTo>
                    <a:pt x="0" y="67"/>
                  </a:lnTo>
                  <a:lnTo>
                    <a:pt x="33" y="0"/>
                  </a:lnTo>
                  <a:lnTo>
                    <a:pt x="63" y="22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694240" y="2652120"/>
              <a:ext cx="28440" cy="92160"/>
            </a:xfrm>
            <a:custGeom>
              <a:avLst/>
              <a:gdLst/>
              <a:ahLst/>
              <a:rect l="l" t="t" r="r" b="b"/>
              <a:pathLst>
                <a:path w="84" h="225">
                  <a:moveTo>
                    <a:pt x="21" y="33"/>
                  </a:moveTo>
                  <a:lnTo>
                    <a:pt x="63" y="112"/>
                  </a:lnTo>
                  <a:lnTo>
                    <a:pt x="63" y="225"/>
                  </a:lnTo>
                  <a:lnTo>
                    <a:pt x="84" y="146"/>
                  </a:lnTo>
                  <a:lnTo>
                    <a:pt x="84" y="33"/>
                  </a:lnTo>
                  <a:lnTo>
                    <a:pt x="0" y="0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700720" y="2550240"/>
              <a:ext cx="89280" cy="212760"/>
            </a:xfrm>
            <a:custGeom>
              <a:avLst/>
              <a:gdLst/>
              <a:ahLst/>
              <a:rect l="l" t="t" r="r" b="b"/>
              <a:pathLst>
                <a:path w="266" h="517">
                  <a:moveTo>
                    <a:pt x="9" y="113"/>
                  </a:moveTo>
                  <a:lnTo>
                    <a:pt x="96" y="67"/>
                  </a:lnTo>
                  <a:lnTo>
                    <a:pt x="140" y="57"/>
                  </a:lnTo>
                  <a:lnTo>
                    <a:pt x="191" y="67"/>
                  </a:lnTo>
                  <a:lnTo>
                    <a:pt x="201" y="12"/>
                  </a:lnTo>
                  <a:lnTo>
                    <a:pt x="224" y="0"/>
                  </a:lnTo>
                  <a:lnTo>
                    <a:pt x="212" y="136"/>
                  </a:lnTo>
                  <a:lnTo>
                    <a:pt x="212" y="246"/>
                  </a:lnTo>
                  <a:lnTo>
                    <a:pt x="266" y="337"/>
                  </a:lnTo>
                  <a:lnTo>
                    <a:pt x="254" y="438"/>
                  </a:lnTo>
                  <a:lnTo>
                    <a:pt x="235" y="517"/>
                  </a:lnTo>
                  <a:lnTo>
                    <a:pt x="235" y="438"/>
                  </a:lnTo>
                  <a:lnTo>
                    <a:pt x="191" y="347"/>
                  </a:lnTo>
                  <a:lnTo>
                    <a:pt x="180" y="215"/>
                  </a:lnTo>
                  <a:lnTo>
                    <a:pt x="180" y="102"/>
                  </a:lnTo>
                  <a:lnTo>
                    <a:pt x="85" y="102"/>
                  </a:lnTo>
                  <a:lnTo>
                    <a:pt x="0" y="146"/>
                  </a:lnTo>
                  <a:lnTo>
                    <a:pt x="9" y="113"/>
                  </a:lnTo>
                  <a:close/>
                </a:path>
              </a:pathLst>
            </a:custGeom>
            <a:solidFill>
              <a:srgbClr val="c9a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23680" y="2656800"/>
              <a:ext cx="68040" cy="100440"/>
            </a:xfrm>
            <a:custGeom>
              <a:avLst/>
              <a:gdLst/>
              <a:ahLst/>
              <a:rect l="l" t="t" r="r" b="b"/>
              <a:pathLst>
                <a:path w="202" h="247">
                  <a:moveTo>
                    <a:pt x="137" y="225"/>
                  </a:moveTo>
                  <a:lnTo>
                    <a:pt x="74" y="146"/>
                  </a:lnTo>
                  <a:lnTo>
                    <a:pt x="0" y="56"/>
                  </a:lnTo>
                  <a:lnTo>
                    <a:pt x="12" y="0"/>
                  </a:lnTo>
                  <a:lnTo>
                    <a:pt x="42" y="67"/>
                  </a:lnTo>
                  <a:lnTo>
                    <a:pt x="128" y="146"/>
                  </a:lnTo>
                  <a:lnTo>
                    <a:pt x="118" y="34"/>
                  </a:lnTo>
                  <a:lnTo>
                    <a:pt x="171" y="146"/>
                  </a:lnTo>
                  <a:lnTo>
                    <a:pt x="202" y="79"/>
                  </a:lnTo>
                  <a:lnTo>
                    <a:pt x="181" y="202"/>
                  </a:lnTo>
                  <a:lnTo>
                    <a:pt x="150" y="247"/>
                  </a:lnTo>
                  <a:lnTo>
                    <a:pt x="13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690280" y="260244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78"/>
                  </a:moveTo>
                  <a:lnTo>
                    <a:pt x="64" y="22"/>
                  </a:lnTo>
                  <a:lnTo>
                    <a:pt x="117" y="0"/>
                  </a:lnTo>
                  <a:lnTo>
                    <a:pt x="170" y="22"/>
                  </a:lnTo>
                  <a:lnTo>
                    <a:pt x="148" y="122"/>
                  </a:lnTo>
                  <a:lnTo>
                    <a:pt x="159" y="180"/>
                  </a:lnTo>
                  <a:lnTo>
                    <a:pt x="117" y="44"/>
                  </a:lnTo>
                  <a:lnTo>
                    <a:pt x="64" y="44"/>
                  </a:lnTo>
                  <a:lnTo>
                    <a:pt x="9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2667240" y="2536200"/>
              <a:ext cx="56880" cy="7380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0" y="101"/>
                  </a:moveTo>
                  <a:lnTo>
                    <a:pt x="42" y="0"/>
                  </a:lnTo>
                  <a:lnTo>
                    <a:pt x="106" y="0"/>
                  </a:lnTo>
                  <a:lnTo>
                    <a:pt x="148" y="23"/>
                  </a:lnTo>
                  <a:lnTo>
                    <a:pt x="170" y="101"/>
                  </a:lnTo>
                  <a:lnTo>
                    <a:pt x="138" y="180"/>
                  </a:lnTo>
                  <a:lnTo>
                    <a:pt x="138" y="68"/>
                  </a:lnTo>
                  <a:lnTo>
                    <a:pt x="116" y="180"/>
                  </a:lnTo>
                  <a:lnTo>
                    <a:pt x="85" y="46"/>
                  </a:lnTo>
                  <a:lnTo>
                    <a:pt x="75" y="180"/>
                  </a:lnTo>
                  <a:lnTo>
                    <a:pt x="42" y="79"/>
                  </a:lnTo>
                  <a:lnTo>
                    <a:pt x="42" y="180"/>
                  </a:lnTo>
                  <a:lnTo>
                    <a:pt x="11" y="114"/>
                  </a:lnTo>
                  <a:lnTo>
                    <a:pt x="0" y="146"/>
                  </a:lnTo>
                  <a:lnTo>
                    <a:pt x="0" y="125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282040" y="2844720"/>
              <a:ext cx="580680" cy="420840"/>
            </a:xfrm>
            <a:custGeom>
              <a:avLst/>
              <a:gdLst/>
              <a:ahLst/>
              <a:rect l="l" t="t" r="r" b="b"/>
              <a:pathLst>
                <a:path w="1712" h="1020">
                  <a:moveTo>
                    <a:pt x="1682" y="782"/>
                  </a:moveTo>
                  <a:lnTo>
                    <a:pt x="1548" y="517"/>
                  </a:lnTo>
                  <a:lnTo>
                    <a:pt x="1369" y="405"/>
                  </a:lnTo>
                  <a:lnTo>
                    <a:pt x="1221" y="335"/>
                  </a:lnTo>
                  <a:lnTo>
                    <a:pt x="1041" y="279"/>
                  </a:lnTo>
                  <a:lnTo>
                    <a:pt x="864" y="251"/>
                  </a:lnTo>
                  <a:lnTo>
                    <a:pt x="743" y="224"/>
                  </a:lnTo>
                  <a:lnTo>
                    <a:pt x="610" y="209"/>
                  </a:lnTo>
                  <a:lnTo>
                    <a:pt x="536" y="70"/>
                  </a:lnTo>
                  <a:lnTo>
                    <a:pt x="402" y="0"/>
                  </a:lnTo>
                  <a:lnTo>
                    <a:pt x="207" y="14"/>
                  </a:lnTo>
                  <a:lnTo>
                    <a:pt x="44" y="70"/>
                  </a:lnTo>
                  <a:lnTo>
                    <a:pt x="0" y="167"/>
                  </a:lnTo>
                  <a:lnTo>
                    <a:pt x="178" y="266"/>
                  </a:lnTo>
                  <a:lnTo>
                    <a:pt x="402" y="321"/>
                  </a:lnTo>
                  <a:lnTo>
                    <a:pt x="536" y="251"/>
                  </a:lnTo>
                  <a:lnTo>
                    <a:pt x="610" y="251"/>
                  </a:lnTo>
                  <a:lnTo>
                    <a:pt x="878" y="293"/>
                  </a:lnTo>
                  <a:lnTo>
                    <a:pt x="1041" y="321"/>
                  </a:lnTo>
                  <a:lnTo>
                    <a:pt x="952" y="350"/>
                  </a:lnTo>
                  <a:lnTo>
                    <a:pt x="848" y="363"/>
                  </a:lnTo>
                  <a:lnTo>
                    <a:pt x="743" y="392"/>
                  </a:lnTo>
                  <a:lnTo>
                    <a:pt x="669" y="405"/>
                  </a:lnTo>
                  <a:lnTo>
                    <a:pt x="491" y="420"/>
                  </a:lnTo>
                  <a:lnTo>
                    <a:pt x="447" y="489"/>
                  </a:lnTo>
                  <a:lnTo>
                    <a:pt x="371" y="573"/>
                  </a:lnTo>
                  <a:lnTo>
                    <a:pt x="297" y="643"/>
                  </a:lnTo>
                  <a:lnTo>
                    <a:pt x="521" y="657"/>
                  </a:lnTo>
                  <a:lnTo>
                    <a:pt x="743" y="643"/>
                  </a:lnTo>
                  <a:lnTo>
                    <a:pt x="864" y="504"/>
                  </a:lnTo>
                  <a:lnTo>
                    <a:pt x="893" y="447"/>
                  </a:lnTo>
                  <a:lnTo>
                    <a:pt x="1012" y="392"/>
                  </a:lnTo>
                  <a:lnTo>
                    <a:pt x="1071" y="363"/>
                  </a:lnTo>
                  <a:lnTo>
                    <a:pt x="1191" y="378"/>
                  </a:lnTo>
                  <a:lnTo>
                    <a:pt x="1414" y="475"/>
                  </a:lnTo>
                  <a:lnTo>
                    <a:pt x="1519" y="559"/>
                  </a:lnTo>
                  <a:lnTo>
                    <a:pt x="1340" y="546"/>
                  </a:lnTo>
                  <a:lnTo>
                    <a:pt x="1176" y="559"/>
                  </a:lnTo>
                  <a:lnTo>
                    <a:pt x="1102" y="629"/>
                  </a:lnTo>
                  <a:lnTo>
                    <a:pt x="1027" y="713"/>
                  </a:lnTo>
                  <a:lnTo>
                    <a:pt x="923" y="811"/>
                  </a:lnTo>
                  <a:lnTo>
                    <a:pt x="878" y="881"/>
                  </a:lnTo>
                  <a:lnTo>
                    <a:pt x="1071" y="950"/>
                  </a:lnTo>
                  <a:lnTo>
                    <a:pt x="1279" y="881"/>
                  </a:lnTo>
                  <a:lnTo>
                    <a:pt x="1429" y="797"/>
                  </a:lnTo>
                  <a:lnTo>
                    <a:pt x="1503" y="643"/>
                  </a:lnTo>
                  <a:lnTo>
                    <a:pt x="1578" y="742"/>
                  </a:lnTo>
                  <a:lnTo>
                    <a:pt x="1667" y="853"/>
                  </a:lnTo>
                  <a:lnTo>
                    <a:pt x="1712" y="1020"/>
                  </a:lnTo>
                  <a:lnTo>
                    <a:pt x="1682" y="782"/>
                  </a:lnTo>
                  <a:close/>
                </a:path>
              </a:pathLst>
            </a:custGeom>
            <a:solidFill>
              <a:srgbClr val="1b5c5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2363400" y="3017160"/>
              <a:ext cx="186840" cy="80640"/>
            </a:xfrm>
            <a:custGeom>
              <a:avLst/>
              <a:gdLst/>
              <a:ahLst/>
              <a:rect l="l" t="t" r="r" b="b"/>
              <a:pathLst>
                <a:path w="552" h="195">
                  <a:moveTo>
                    <a:pt x="448" y="13"/>
                  </a:moveTo>
                  <a:lnTo>
                    <a:pt x="134" y="42"/>
                  </a:lnTo>
                  <a:lnTo>
                    <a:pt x="343" y="55"/>
                  </a:lnTo>
                  <a:lnTo>
                    <a:pt x="120" y="84"/>
                  </a:lnTo>
                  <a:lnTo>
                    <a:pt x="298" y="69"/>
                  </a:lnTo>
                  <a:lnTo>
                    <a:pt x="76" y="126"/>
                  </a:lnTo>
                  <a:lnTo>
                    <a:pt x="253" y="111"/>
                  </a:lnTo>
                  <a:lnTo>
                    <a:pt x="0" y="195"/>
                  </a:lnTo>
                  <a:lnTo>
                    <a:pt x="239" y="126"/>
                  </a:lnTo>
                  <a:lnTo>
                    <a:pt x="239" y="195"/>
                  </a:lnTo>
                  <a:lnTo>
                    <a:pt x="269" y="111"/>
                  </a:lnTo>
                  <a:lnTo>
                    <a:pt x="314" y="168"/>
                  </a:lnTo>
                  <a:lnTo>
                    <a:pt x="298" y="69"/>
                  </a:lnTo>
                  <a:lnTo>
                    <a:pt x="358" y="139"/>
                  </a:lnTo>
                  <a:lnTo>
                    <a:pt x="329" y="42"/>
                  </a:lnTo>
                  <a:lnTo>
                    <a:pt x="462" y="13"/>
                  </a:lnTo>
                  <a:lnTo>
                    <a:pt x="552" y="0"/>
                  </a:lnTo>
                  <a:lnTo>
                    <a:pt x="448" y="13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2682000" y="3038040"/>
              <a:ext cx="181080" cy="154800"/>
            </a:xfrm>
            <a:custGeom>
              <a:avLst/>
              <a:gdLst/>
              <a:ahLst/>
              <a:rect l="l" t="t" r="r" b="b"/>
              <a:pathLst>
                <a:path w="536" h="377">
                  <a:moveTo>
                    <a:pt x="448" y="98"/>
                  </a:moveTo>
                  <a:lnTo>
                    <a:pt x="269" y="56"/>
                  </a:lnTo>
                  <a:lnTo>
                    <a:pt x="358" y="112"/>
                  </a:lnTo>
                  <a:lnTo>
                    <a:pt x="179" y="112"/>
                  </a:lnTo>
                  <a:lnTo>
                    <a:pt x="327" y="154"/>
                  </a:lnTo>
                  <a:lnTo>
                    <a:pt x="119" y="168"/>
                  </a:lnTo>
                  <a:lnTo>
                    <a:pt x="298" y="196"/>
                  </a:lnTo>
                  <a:lnTo>
                    <a:pt x="60" y="238"/>
                  </a:lnTo>
                  <a:lnTo>
                    <a:pt x="224" y="238"/>
                  </a:lnTo>
                  <a:lnTo>
                    <a:pt x="0" y="307"/>
                  </a:lnTo>
                  <a:lnTo>
                    <a:pt x="179" y="280"/>
                  </a:lnTo>
                  <a:lnTo>
                    <a:pt x="134" y="377"/>
                  </a:lnTo>
                  <a:lnTo>
                    <a:pt x="194" y="265"/>
                  </a:lnTo>
                  <a:lnTo>
                    <a:pt x="239" y="294"/>
                  </a:lnTo>
                  <a:lnTo>
                    <a:pt x="253" y="223"/>
                  </a:lnTo>
                  <a:lnTo>
                    <a:pt x="298" y="307"/>
                  </a:lnTo>
                  <a:lnTo>
                    <a:pt x="269" y="196"/>
                  </a:lnTo>
                  <a:lnTo>
                    <a:pt x="372" y="126"/>
                  </a:lnTo>
                  <a:lnTo>
                    <a:pt x="477" y="56"/>
                  </a:lnTo>
                  <a:lnTo>
                    <a:pt x="536" y="0"/>
                  </a:lnTo>
                  <a:lnTo>
                    <a:pt x="448" y="98"/>
                  </a:lnTo>
                  <a:close/>
                </a:path>
              </a:pathLst>
            </a:custGeom>
            <a:solidFill>
              <a:srgbClr val="2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2989080" y="3150000"/>
              <a:ext cx="403560" cy="219240"/>
            </a:xfrm>
            <a:custGeom>
              <a:avLst/>
              <a:gdLst/>
              <a:ahLst/>
              <a:rect l="l" t="t" r="r" b="b"/>
              <a:pathLst>
                <a:path w="1191" h="531">
                  <a:moveTo>
                    <a:pt x="879" y="83"/>
                  </a:moveTo>
                  <a:lnTo>
                    <a:pt x="640" y="0"/>
                  </a:lnTo>
                  <a:lnTo>
                    <a:pt x="373" y="13"/>
                  </a:lnTo>
                  <a:lnTo>
                    <a:pt x="194" y="97"/>
                  </a:lnTo>
                  <a:lnTo>
                    <a:pt x="0" y="265"/>
                  </a:lnTo>
                  <a:lnTo>
                    <a:pt x="59" y="279"/>
                  </a:lnTo>
                  <a:lnTo>
                    <a:pt x="223" y="335"/>
                  </a:lnTo>
                  <a:lnTo>
                    <a:pt x="476" y="531"/>
                  </a:lnTo>
                  <a:lnTo>
                    <a:pt x="759" y="474"/>
                  </a:lnTo>
                  <a:lnTo>
                    <a:pt x="1012" y="419"/>
                  </a:lnTo>
                  <a:lnTo>
                    <a:pt x="1162" y="474"/>
                  </a:lnTo>
                  <a:lnTo>
                    <a:pt x="1191" y="516"/>
                  </a:lnTo>
                  <a:lnTo>
                    <a:pt x="1147" y="363"/>
                  </a:lnTo>
                  <a:lnTo>
                    <a:pt x="1117" y="265"/>
                  </a:lnTo>
                  <a:lnTo>
                    <a:pt x="1086" y="196"/>
                  </a:lnTo>
                  <a:lnTo>
                    <a:pt x="879" y="83"/>
                  </a:lnTo>
                  <a:close/>
                </a:path>
              </a:pathLst>
            </a:custGeom>
            <a:solidFill>
              <a:srgbClr val="0f272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023280" y="3224520"/>
              <a:ext cx="308160" cy="73800"/>
            </a:xfrm>
            <a:custGeom>
              <a:avLst/>
              <a:gdLst/>
              <a:ahLst/>
              <a:rect l="l" t="t" r="r" b="b"/>
              <a:pathLst>
                <a:path w="909" h="182">
                  <a:moveTo>
                    <a:pt x="819" y="126"/>
                  </a:moveTo>
                  <a:lnTo>
                    <a:pt x="476" y="15"/>
                  </a:lnTo>
                  <a:lnTo>
                    <a:pt x="224" y="0"/>
                  </a:lnTo>
                  <a:lnTo>
                    <a:pt x="75" y="42"/>
                  </a:lnTo>
                  <a:lnTo>
                    <a:pt x="0" y="70"/>
                  </a:lnTo>
                  <a:lnTo>
                    <a:pt x="268" y="42"/>
                  </a:lnTo>
                  <a:lnTo>
                    <a:pt x="238" y="112"/>
                  </a:lnTo>
                  <a:lnTo>
                    <a:pt x="224" y="154"/>
                  </a:lnTo>
                  <a:lnTo>
                    <a:pt x="312" y="42"/>
                  </a:lnTo>
                  <a:lnTo>
                    <a:pt x="476" y="42"/>
                  </a:lnTo>
                  <a:lnTo>
                    <a:pt x="566" y="84"/>
                  </a:lnTo>
                  <a:lnTo>
                    <a:pt x="417" y="126"/>
                  </a:lnTo>
                  <a:lnTo>
                    <a:pt x="312" y="182"/>
                  </a:lnTo>
                  <a:lnTo>
                    <a:pt x="521" y="112"/>
                  </a:lnTo>
                  <a:lnTo>
                    <a:pt x="597" y="70"/>
                  </a:lnTo>
                  <a:lnTo>
                    <a:pt x="700" y="112"/>
                  </a:lnTo>
                  <a:lnTo>
                    <a:pt x="909" y="126"/>
                  </a:lnTo>
                  <a:lnTo>
                    <a:pt x="819" y="126"/>
                  </a:lnTo>
                  <a:close/>
                </a:path>
              </a:pathLst>
            </a:custGeom>
            <a:solidFill>
              <a:srgbClr val="1b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4T07:53:47Z</dcterms:created>
  <dc:creator>최선희</dc:creator>
  <dc:description/>
  <dc:language>en-US</dc:language>
  <cp:lastModifiedBy>이명애</cp:lastModifiedBy>
  <cp:lastPrinted>1998-07-12T03:18:40Z</cp:lastPrinted>
  <dcterms:modified xsi:type="dcterms:W3CDTF">2008-08-13T07:28:31Z</dcterms:modified>
  <cp:revision>67</cp:revision>
  <dc:subject/>
  <dc:title>슬라이드 제목 없음</dc:title>
</cp:coreProperties>
</file>