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E5C-8BB8-49AF-BE96-9E443342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4B5-9C3B-42C9-AC48-13A65DF4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2A8-9378-481E-9F20-9186A540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3FE-8D70-4F78-8942-FB041A81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4D11-525F-4518-8E9B-3F583119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FAED-0CFA-45E9-911E-91EDD1C1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3BA4-A2B0-4A4A-B4D4-ABC9CB22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CE4C-AD29-47B7-9D4A-FE16D4EC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A278-7358-4756-A453-35F4E2E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64C-EAA6-40EB-92E1-2032B989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61F5-0831-4E67-9308-13BF798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576-6240-4B4E-92BD-AED9E85F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635F-CCB4-441A-B2A0-729635B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8EB8-D5D9-4512-A409-2BC8211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BA4-BAA7-4994-9786-9B6D8C0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EA11-5213-4FAF-8F82-814221F8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B9AE-BE8D-48D9-B4ED-D2CEDA93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DCBE9-FB79-4C0C-B90E-B6597406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CA114-94AE-40E1-8621-542CF704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8C22F-1D3D-4D21-9235-225219DC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6D3E4-C581-49B6-87FF-8B760B39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4646F-B767-4748-9EE6-3FFEB74C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0C5-EF06-4040-AB6F-9D345369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02EB0-C1B3-4980-95A0-4564F64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13BE4-3716-4ADB-BFF3-AC0716F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B769E-C31E-4B7F-A09B-F972A236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93BBB-29F2-419A-A933-3A8F66D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D942E-784E-4875-A6A1-A6E1F38A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54E19-BE5A-49CA-B88F-BE09F516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06D67-7838-41FE-AB02-BA1060D7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CC8690-137E-4427-BBAF-58C67D33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AE5D8-2BA3-4956-9F26-BF923559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057367-B7FD-472C-A6E7-8B831BDA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76F-1444-40AC-9BD6-48521FBF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4D14C-70AB-42D4-B125-D617E8E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BC239-2F22-4CEA-B091-9A9A173E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90309-0187-4451-84B8-C1B57FE8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77395-80DC-4612-B036-CE7BBE4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D26B1-0354-4DEC-958A-011CEFD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23BA7-21FD-4160-89B6-D9E3F05B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18B85-4948-4FF3-A267-046D91B9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EB1E9-3098-45B2-9790-69383145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550BB-C8BC-48BB-9AD2-49CEB147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1DD65-DB32-4550-82E0-2F38D039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065-4BAB-4D87-AF88-36BC7AEE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24D0D-EBD1-479D-91D7-D700262C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42DAD-DA45-4C63-B087-ED8AD5F3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57938-FBC0-4C55-872E-3A3E6577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78634-D644-48BD-9B7A-0C9C2904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E7748-F661-4A09-993A-9F29E2AC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A5413-D788-40D9-8B39-26328DD4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ECB17-B893-4AD0-A000-AA570FEB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FB02D-F89B-4CA8-A385-F3B18C9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98224-69C8-4EEC-A7D5-069A90A2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53248-4A01-4DAF-974E-324DACC2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87A-996E-43A6-A350-F1C310C8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9B143-0830-42EC-A3C1-05E7262B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F5F3-4D85-4130-86D8-512BA0C6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6622E-FC67-40E1-82F4-E0B47A85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FE28-3FC0-464F-BC95-DA3F6E0D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6A8D3-1165-48BB-97B0-2F72D51F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6864-326B-4F00-8A94-2980D377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5A41-5380-4102-8817-56C5F5AF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30B9-26D2-4C3C-8E84-E13C995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6E30C-E373-4C58-A547-93FB9D3E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23153-3E28-466D-A2AC-25BE8A6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C2E-01AD-4CB6-B96B-085D7E7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09D8-4E5E-4E68-AF1A-76E3C200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D8165-00C2-4417-8FA7-BCE5CC23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7ACDA-7834-48C4-A109-CF7DDDC7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5C044-86EB-436B-9CB4-6F0A869B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2DAD4-B7A9-47F1-B547-7CC43857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726F2-3BB2-47B7-87A2-4AB97284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D7552-14BE-493F-B7DD-7D7F5C41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C5778-BE08-4299-913E-355DF362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D1849-922B-400A-9ED4-749BCC56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0E862-3292-4050-B8EE-0699F129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279-85D6-4A9B-8116-819CD772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D1832-00B7-4260-A655-1C566E1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9F107-27CE-47F9-B800-C328780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9D9B76-FB7E-4A7B-8F7A-254136C5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7E9D1-C514-4C01-B3BB-29EBEB3C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D8D7C-7B49-4852-BE21-B9534734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3288-B3F1-46E6-8E33-4BB77310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B658D-D8C6-41DF-A9B2-7C7F551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07CF-CD88-49E4-B8C9-2A0309DD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7A482-CD78-4D1B-800D-549F982D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DCDBE-DC0E-4D60-AFFA-4C0F6645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1EA-BB3D-4896-9E40-8EA67027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53A12-8E1D-4C1E-AFC0-85E0CF0B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C070E-5C9F-475E-8093-76F4863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7D0D3-60EB-4E64-B072-DEB965E6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C1390-033E-4568-A4A3-91565E48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44878-FA65-4751-A8F7-992AA9D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715A0-E6BB-4659-B3EA-A1619DA1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E4928-8623-4AE9-B867-355CABD8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271-776A-4617-A112-D28377BA895A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직사각형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직사각형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직사각형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1767-43EE-49F3-8794-A6D694D0982A}" type="slidenum">
              <a:rPr b="1" lang="ko-KR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C106-DE71-49DE-921E-26B83A56F122}" type="slidenum">
              <a:rPr b="1" lang="ko-K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DE04-C23D-49BB-809B-9A49A883C781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직사각형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992F-5E48-4E45-B3F1-F7F9F519012F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B184-35AC-441F-A6A7-69859C2530AC}" type="slidenum">
              <a:rPr b="1" lang="ko-KR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직사각형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사각형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3F77-B1CA-42F0-B7FF-BA7AEC0898A5}" type="slidenum">
              <a:rPr b="1" lang="ko-K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직사각형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직사각형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직사각형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B87-284A-40EA-9A7E-C33842713514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2911320" cy="3879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3724200" cy="2482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60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011</a:t>
            </a:r>
            <a:r>
              <a:rPr b="0" lang="ko-KR" sz="3200" spc="-1" strike="noStrike">
                <a:solidFill>
                  <a:srgbClr val="ffffff"/>
                </a:solidFill>
                <a:latin typeface="Tw Cen MT"/>
              </a:rPr>
              <a:t>학년도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Tw Cen MT"/>
              </a:rPr>
              <a:t>만덕중학교  박지은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부제목 3"/>
          <p:cNvSpPr/>
          <p:nvPr/>
        </p:nvSpPr>
        <p:spPr>
          <a:xfrm>
            <a:off x="108000" y="6094440"/>
            <a:ext cx="223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4</a:t>
            </a:r>
            <a:r>
              <a:rPr b="0" lang="ko-KR" sz="2800" spc="-1" strike="noStrike">
                <a:solidFill>
                  <a:srgbClr val="ffffff"/>
                </a:solidFill>
                <a:latin typeface="Tw Cen MT"/>
              </a:rPr>
              <a:t>과 위치 말하기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7440" cy="14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ebddc3"/>
                </a:solidFill>
                <a:latin typeface="HY강B"/>
                <a:ea typeface="HY강B"/>
              </a:rPr>
              <a:t>위치 묻고 답하기</a:t>
            </a:r>
            <a:endParaRPr b="0" lang="en-US" sz="72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468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2700360" y="549360"/>
          <a:ext cx="3666960" cy="57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366696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2627280" y="692280"/>
          <a:ext cx="3578400" cy="55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692280"/>
                    <a:ext cx="357840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2527200" y="620640"/>
          <a:ext cx="3800520" cy="59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620640"/>
                    <a:ext cx="380052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2484360" y="476280"/>
          <a:ext cx="379404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76280"/>
                    <a:ext cx="37940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590920" y="380880"/>
          <a:ext cx="361296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80880"/>
                    <a:ext cx="361296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019160" y="878040"/>
            <a:ext cx="69375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95280" y="907920"/>
          <a:ext cx="8343720" cy="5314320"/>
        </p:xfrm>
        <a:graphic>
          <a:graphicData uri="http://schemas.openxmlformats.org/drawingml/2006/table">
            <a:tbl>
              <a:tblPr/>
              <a:tblGrid>
                <a:gridCol w="2356920"/>
                <a:gridCol w="2993400"/>
                <a:gridCol w="2993400"/>
              </a:tblGrid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식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중고딕,한컴돋움"/>
                        </a:rPr>
                        <a:t>あ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중고딕,한컴돋움"/>
                        </a:rPr>
                        <a:t>い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25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95280" y="907920"/>
          <a:ext cx="8343720" cy="5314320"/>
        </p:xfrm>
        <a:graphic>
          <a:graphicData uri="http://schemas.openxmlformats.org/drawingml/2006/table">
            <a:tbl>
              <a:tblPr/>
              <a:tblGrid>
                <a:gridCol w="2356920"/>
                <a:gridCol w="2993400"/>
                <a:gridCol w="2993400"/>
              </a:tblGrid>
              <a:tr h="74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식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동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す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す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습니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す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すか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せ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せん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없습니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ありません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いませんか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1234800" cy="1377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う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1235160" cy="1378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し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708360" y="5516640"/>
            <a:ext cx="1692360" cy="898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ま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1235160" cy="1378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87400" y="2222640"/>
            <a:ext cx="7645320" cy="3584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9280" y="209520"/>
            <a:ext cx="446400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つくえのうしろ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759200" y="1197000"/>
            <a:ext cx="3181320" cy="4695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454040" y="4094280"/>
            <a:ext cx="2470320" cy="1457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79280" y="209520"/>
            <a:ext cx="439272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いすのひだ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3181320" cy="4695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2470320" cy="14576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09520"/>
            <a:ext cx="4103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  <a:ea typeface="MS PGothic"/>
              </a:rPr>
              <a:t>いすのみぎ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189000"/>
            <a:ext cx="9144000" cy="6589800"/>
            <a:chOff x="0" y="189000"/>
            <a:chExt cx="9144000" cy="658980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144000" cy="64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374920" y="5483160"/>
              <a:ext cx="884160" cy="1295640"/>
            </a:xfrm>
            <a:custGeom>
              <a:avLst/>
              <a:gdLst/>
              <a:ahLst/>
              <a:rect l="l" t="t" r="r" b="b"/>
              <a:pathLst>
                <a:path w="2457" h="3598">
                  <a:moveTo>
                    <a:pt x="7293" y="15577"/>
                  </a:moveTo>
                  <a:cubicBezTo>
                    <a:pt x="7261" y="15609"/>
                    <a:pt x="7240" y="15607"/>
                    <a:pt x="7218" y="15627"/>
                  </a:cubicBezTo>
                  <a:cubicBezTo>
                    <a:pt x="7205" y="15639"/>
                    <a:pt x="7151" y="15691"/>
                    <a:pt x="7144" y="15701"/>
                  </a:cubicBezTo>
                  <a:cubicBezTo>
                    <a:pt x="7125" y="15727"/>
                    <a:pt x="7108" y="15755"/>
                    <a:pt x="7094" y="15776"/>
                  </a:cubicBezTo>
                  <a:cubicBezTo>
                    <a:pt x="7074" y="15806"/>
                    <a:pt x="7055" y="15815"/>
                    <a:pt x="7045" y="15850"/>
                  </a:cubicBezTo>
                  <a:cubicBezTo>
                    <a:pt x="7024" y="15927"/>
                    <a:pt x="7024" y="16165"/>
                    <a:pt x="7069" y="16222"/>
                  </a:cubicBezTo>
                  <a:cubicBezTo>
                    <a:pt x="7089" y="16247"/>
                    <a:pt x="7126" y="16249"/>
                    <a:pt x="7144" y="16272"/>
                  </a:cubicBezTo>
                  <a:cubicBezTo>
                    <a:pt x="7178" y="16316"/>
                    <a:pt x="7170" y="16297"/>
                    <a:pt x="7218" y="16321"/>
                  </a:cubicBezTo>
                  <a:cubicBezTo>
                    <a:pt x="7235" y="16330"/>
                    <a:pt x="7270" y="16359"/>
                    <a:pt x="7293" y="16371"/>
                  </a:cubicBezTo>
                  <a:cubicBezTo>
                    <a:pt x="7315" y="16383"/>
                    <a:pt x="7360" y="16443"/>
                    <a:pt x="7367" y="16446"/>
                  </a:cubicBezTo>
                  <a:cubicBezTo>
                    <a:pt x="7462" y="16493"/>
                    <a:pt x="7705" y="16446"/>
                    <a:pt x="7813" y="16446"/>
                  </a:cubicBezTo>
                  <a:cubicBezTo>
                    <a:pt x="7819" y="16402"/>
                    <a:pt x="7817" y="16397"/>
                    <a:pt x="7838" y="16371"/>
                  </a:cubicBezTo>
                  <a:cubicBezTo>
                    <a:pt x="7854" y="16351"/>
                    <a:pt x="7870" y="16319"/>
                    <a:pt x="7888" y="16297"/>
                  </a:cubicBezTo>
                  <a:cubicBezTo>
                    <a:pt x="7908" y="16273"/>
                    <a:pt x="7906" y="16255"/>
                    <a:pt x="7938" y="16222"/>
                  </a:cubicBezTo>
                  <a:cubicBezTo>
                    <a:pt x="7954" y="16205"/>
                    <a:pt x="7968" y="16174"/>
                    <a:pt x="7987" y="16148"/>
                  </a:cubicBezTo>
                  <a:cubicBezTo>
                    <a:pt x="8005" y="16124"/>
                    <a:pt x="8043" y="16119"/>
                    <a:pt x="8062" y="16098"/>
                  </a:cubicBezTo>
                  <a:cubicBezTo>
                    <a:pt x="8092" y="16065"/>
                    <a:pt x="8069" y="16011"/>
                    <a:pt x="8086" y="15974"/>
                  </a:cubicBezTo>
                  <a:cubicBezTo>
                    <a:pt x="8106" y="15931"/>
                    <a:pt x="8108" y="15926"/>
                    <a:pt x="8111" y="15875"/>
                  </a:cubicBezTo>
                  <a:cubicBezTo>
                    <a:pt x="8113" y="15832"/>
                    <a:pt x="8104" y="15824"/>
                    <a:pt x="8086" y="15801"/>
                  </a:cubicBezTo>
                  <a:cubicBezTo>
                    <a:pt x="8067" y="15777"/>
                    <a:pt x="8057" y="15772"/>
                    <a:pt x="8037" y="15751"/>
                  </a:cubicBezTo>
                  <a:cubicBezTo>
                    <a:pt x="8013" y="15727"/>
                    <a:pt x="8029" y="15712"/>
                    <a:pt x="8012" y="15677"/>
                  </a:cubicBezTo>
                  <a:cubicBezTo>
                    <a:pt x="8006" y="15664"/>
                    <a:pt x="7974" y="15617"/>
                    <a:pt x="7962" y="15602"/>
                  </a:cubicBezTo>
                  <a:cubicBezTo>
                    <a:pt x="7940" y="15573"/>
                    <a:pt x="7944" y="15546"/>
                    <a:pt x="7913" y="15528"/>
                  </a:cubicBezTo>
                  <a:cubicBezTo>
                    <a:pt x="7813" y="15470"/>
                    <a:pt x="7480" y="15528"/>
                    <a:pt x="7367" y="15528"/>
                  </a:cubicBezTo>
                </a:path>
                <a:path w="2457" h="3598">
                  <a:moveTo>
                    <a:pt x="7441" y="15875"/>
                  </a:moveTo>
                  <a:lnTo>
                    <a:pt x="7441" y="15875"/>
                  </a:lnTo>
                </a:path>
                <a:path w="2457" h="3598">
                  <a:moveTo>
                    <a:pt x="7739" y="15875"/>
                  </a:moveTo>
                  <a:lnTo>
                    <a:pt x="7739" y="15875"/>
                  </a:lnTo>
                </a:path>
                <a:path w="2457" h="3598">
                  <a:moveTo>
                    <a:pt x="7516" y="16148"/>
                  </a:moveTo>
                  <a:cubicBezTo>
                    <a:pt x="7561" y="16148"/>
                    <a:pt x="7574" y="16168"/>
                    <a:pt x="7615" y="16173"/>
                  </a:cubicBezTo>
                  <a:cubicBezTo>
                    <a:pt x="7639" y="16176"/>
                    <a:pt x="7665" y="16173"/>
                    <a:pt x="7689" y="16173"/>
                  </a:cubicBezTo>
                  <a:cubicBezTo>
                    <a:pt x="7702" y="16135"/>
                    <a:pt x="7719" y="16148"/>
                    <a:pt x="7764" y="16148"/>
                  </a:cubicBezTo>
                </a:path>
                <a:path w="2457" h="3598">
                  <a:moveTo>
                    <a:pt x="7441" y="16495"/>
                  </a:moveTo>
                  <a:cubicBezTo>
                    <a:pt x="7441" y="16750"/>
                    <a:pt x="7452" y="17024"/>
                    <a:pt x="7417" y="17264"/>
                  </a:cubicBezTo>
                  <a:cubicBezTo>
                    <a:pt x="7396" y="17406"/>
                    <a:pt x="7417" y="17567"/>
                    <a:pt x="7417" y="17711"/>
                  </a:cubicBezTo>
                  <a:cubicBezTo>
                    <a:pt x="7475" y="17711"/>
                    <a:pt x="7520" y="17728"/>
                    <a:pt x="7565" y="17735"/>
                  </a:cubicBezTo>
                  <a:cubicBezTo>
                    <a:pt x="7791" y="17771"/>
                    <a:pt x="8055" y="17735"/>
                    <a:pt x="8285" y="17735"/>
                  </a:cubicBezTo>
                  <a:cubicBezTo>
                    <a:pt x="8285" y="17637"/>
                    <a:pt x="8277" y="17547"/>
                    <a:pt x="8260" y="17462"/>
                  </a:cubicBezTo>
                  <a:cubicBezTo>
                    <a:pt x="8250" y="17413"/>
                    <a:pt x="8268" y="17405"/>
                    <a:pt x="8235" y="17363"/>
                  </a:cubicBezTo>
                  <a:cubicBezTo>
                    <a:pt x="8214" y="17337"/>
                    <a:pt x="8213" y="17343"/>
                    <a:pt x="8210" y="17289"/>
                  </a:cubicBezTo>
                  <a:cubicBezTo>
                    <a:pt x="8207" y="17246"/>
                    <a:pt x="8192" y="17229"/>
                    <a:pt x="8186" y="17190"/>
                  </a:cubicBezTo>
                  <a:cubicBezTo>
                    <a:pt x="8181" y="17156"/>
                    <a:pt x="8161" y="17092"/>
                    <a:pt x="8161" y="17090"/>
                  </a:cubicBezTo>
                  <a:cubicBezTo>
                    <a:pt x="8153" y="17049"/>
                    <a:pt x="8144" y="17032"/>
                    <a:pt x="8136" y="16991"/>
                  </a:cubicBezTo>
                  <a:cubicBezTo>
                    <a:pt x="8123" y="16925"/>
                    <a:pt x="8155" y="16872"/>
                    <a:pt x="8111" y="16818"/>
                  </a:cubicBezTo>
                  <a:cubicBezTo>
                    <a:pt x="8085" y="16786"/>
                    <a:pt x="8082" y="16747"/>
                    <a:pt x="8062" y="16718"/>
                  </a:cubicBezTo>
                  <a:cubicBezTo>
                    <a:pt x="8043" y="16690"/>
                    <a:pt x="8040" y="16690"/>
                    <a:pt x="8037" y="16644"/>
                  </a:cubicBezTo>
                  <a:cubicBezTo>
                    <a:pt x="8034" y="16590"/>
                    <a:pt x="8020" y="16609"/>
                    <a:pt x="8012" y="16570"/>
                  </a:cubicBezTo>
                  <a:cubicBezTo>
                    <a:pt x="8004" y="16531"/>
                    <a:pt x="8003" y="16505"/>
                    <a:pt x="7987" y="16470"/>
                  </a:cubicBezTo>
                  <a:cubicBezTo>
                    <a:pt x="7971" y="16434"/>
                    <a:pt x="7959" y="16406"/>
                    <a:pt x="7938" y="16371"/>
                  </a:cubicBezTo>
                  <a:cubicBezTo>
                    <a:pt x="7916" y="16327"/>
                    <a:pt x="7913" y="16316"/>
                    <a:pt x="7888" y="16297"/>
                  </a:cubicBezTo>
                </a:path>
                <a:path w="2457" h="3598">
                  <a:moveTo>
                    <a:pt x="7441" y="16545"/>
                  </a:moveTo>
                  <a:cubicBezTo>
                    <a:pt x="7417" y="16545"/>
                    <a:pt x="7408" y="16545"/>
                    <a:pt x="7392" y="16545"/>
                  </a:cubicBezTo>
                  <a:cubicBezTo>
                    <a:pt x="7386" y="16563"/>
                    <a:pt x="7348" y="16605"/>
                    <a:pt x="7317" y="16619"/>
                  </a:cubicBezTo>
                  <a:cubicBezTo>
                    <a:pt x="7309" y="16619"/>
                    <a:pt x="7301" y="16619"/>
                    <a:pt x="7293" y="16619"/>
                  </a:cubicBezTo>
                  <a:cubicBezTo>
                    <a:pt x="7293" y="16662"/>
                    <a:pt x="7303" y="16657"/>
                    <a:pt x="7268" y="16669"/>
                  </a:cubicBezTo>
                  <a:cubicBezTo>
                    <a:pt x="7256" y="16704"/>
                    <a:pt x="7261" y="16694"/>
                    <a:pt x="7218" y="16694"/>
                  </a:cubicBezTo>
                  <a:cubicBezTo>
                    <a:pt x="7203" y="16752"/>
                    <a:pt x="7167" y="16722"/>
                    <a:pt x="7144" y="16768"/>
                  </a:cubicBezTo>
                  <a:cubicBezTo>
                    <a:pt x="7133" y="16790"/>
                    <a:pt x="7125" y="16817"/>
                    <a:pt x="7119" y="16842"/>
                  </a:cubicBezTo>
                  <a:cubicBezTo>
                    <a:pt x="7079" y="16855"/>
                    <a:pt x="7109" y="16854"/>
                    <a:pt x="7069" y="16867"/>
                  </a:cubicBezTo>
                  <a:cubicBezTo>
                    <a:pt x="7059" y="16908"/>
                    <a:pt x="7060" y="16907"/>
                    <a:pt x="7020" y="16917"/>
                  </a:cubicBezTo>
                  <a:cubicBezTo>
                    <a:pt x="7010" y="16957"/>
                    <a:pt x="7011" y="16956"/>
                    <a:pt x="6970" y="16966"/>
                  </a:cubicBezTo>
                  <a:cubicBezTo>
                    <a:pt x="6961" y="17010"/>
                    <a:pt x="6945" y="17043"/>
                    <a:pt x="6945" y="17090"/>
                  </a:cubicBezTo>
                  <a:cubicBezTo>
                    <a:pt x="6903" y="17090"/>
                    <a:pt x="6886" y="17096"/>
                    <a:pt x="6871" y="17140"/>
                  </a:cubicBezTo>
                  <a:cubicBezTo>
                    <a:pt x="6871" y="17148"/>
                    <a:pt x="6871" y="17157"/>
                    <a:pt x="6871" y="17165"/>
                  </a:cubicBezTo>
                  <a:cubicBezTo>
                    <a:pt x="6842" y="17175"/>
                    <a:pt x="6826" y="17199"/>
                    <a:pt x="6821" y="17239"/>
                  </a:cubicBezTo>
                  <a:cubicBezTo>
                    <a:pt x="6816" y="17282"/>
                    <a:pt x="6809" y="17249"/>
                    <a:pt x="6796" y="17289"/>
                  </a:cubicBezTo>
                </a:path>
                <a:path w="2457" h="3598">
                  <a:moveTo>
                    <a:pt x="7987" y="16421"/>
                  </a:moveTo>
                  <a:cubicBezTo>
                    <a:pt x="8042" y="16421"/>
                    <a:pt x="8058" y="16433"/>
                    <a:pt x="8111" y="16446"/>
                  </a:cubicBezTo>
                  <a:cubicBezTo>
                    <a:pt x="8157" y="16458"/>
                    <a:pt x="8191" y="16502"/>
                    <a:pt x="8235" y="16520"/>
                  </a:cubicBezTo>
                  <a:cubicBezTo>
                    <a:pt x="8261" y="16530"/>
                    <a:pt x="8282" y="16538"/>
                    <a:pt x="8310" y="16545"/>
                  </a:cubicBezTo>
                  <a:cubicBezTo>
                    <a:pt x="8321" y="16580"/>
                    <a:pt x="8317" y="16570"/>
                    <a:pt x="8359" y="16570"/>
                  </a:cubicBezTo>
                  <a:cubicBezTo>
                    <a:pt x="8371" y="16604"/>
                    <a:pt x="8397" y="16597"/>
                    <a:pt x="8409" y="16644"/>
                  </a:cubicBezTo>
                  <a:cubicBezTo>
                    <a:pt x="8451" y="16644"/>
                    <a:pt x="8447" y="16634"/>
                    <a:pt x="8458" y="16669"/>
                  </a:cubicBezTo>
                  <a:cubicBezTo>
                    <a:pt x="8505" y="16681"/>
                    <a:pt x="8515" y="16724"/>
                    <a:pt x="8558" y="16743"/>
                  </a:cubicBezTo>
                  <a:cubicBezTo>
                    <a:pt x="8566" y="16743"/>
                    <a:pt x="8574" y="16743"/>
                    <a:pt x="8582" y="16743"/>
                  </a:cubicBezTo>
                  <a:cubicBezTo>
                    <a:pt x="8595" y="16783"/>
                    <a:pt x="8594" y="16753"/>
                    <a:pt x="8607" y="16793"/>
                  </a:cubicBezTo>
                  <a:cubicBezTo>
                    <a:pt x="8647" y="16806"/>
                    <a:pt x="8617" y="16805"/>
                    <a:pt x="8657" y="16818"/>
                  </a:cubicBezTo>
                  <a:cubicBezTo>
                    <a:pt x="8669" y="16852"/>
                    <a:pt x="8665" y="16842"/>
                    <a:pt x="8706" y="16842"/>
                  </a:cubicBezTo>
                  <a:cubicBezTo>
                    <a:pt x="8706" y="16867"/>
                    <a:pt x="8706" y="16892"/>
                    <a:pt x="8706" y="16917"/>
                  </a:cubicBezTo>
                  <a:cubicBezTo>
                    <a:pt x="8746" y="16930"/>
                    <a:pt x="8716" y="16929"/>
                    <a:pt x="8756" y="16942"/>
                  </a:cubicBezTo>
                  <a:cubicBezTo>
                    <a:pt x="8756" y="16984"/>
                    <a:pt x="8746" y="16979"/>
                    <a:pt x="8781" y="16991"/>
                  </a:cubicBezTo>
                  <a:cubicBezTo>
                    <a:pt x="8781" y="17032"/>
                    <a:pt x="8781" y="17074"/>
                    <a:pt x="8781" y="17115"/>
                  </a:cubicBezTo>
                </a:path>
                <a:path w="2457" h="3598">
                  <a:moveTo>
                    <a:pt x="7689" y="17835"/>
                  </a:moveTo>
                  <a:cubicBezTo>
                    <a:pt x="7689" y="18017"/>
                    <a:pt x="7689" y="18198"/>
                    <a:pt x="7689" y="18380"/>
                  </a:cubicBezTo>
                  <a:cubicBezTo>
                    <a:pt x="7653" y="18393"/>
                    <a:pt x="7665" y="18411"/>
                    <a:pt x="7665" y="18455"/>
                  </a:cubicBezTo>
                  <a:cubicBezTo>
                    <a:pt x="7665" y="18521"/>
                    <a:pt x="7665" y="18587"/>
                    <a:pt x="7665" y="18653"/>
                  </a:cubicBezTo>
                  <a:cubicBezTo>
                    <a:pt x="7626" y="18663"/>
                    <a:pt x="7610" y="18678"/>
                    <a:pt x="7565" y="18678"/>
                  </a:cubicBezTo>
                  <a:cubicBezTo>
                    <a:pt x="7491" y="18678"/>
                    <a:pt x="7416" y="18678"/>
                    <a:pt x="7342" y="18678"/>
                  </a:cubicBezTo>
                  <a:cubicBezTo>
                    <a:pt x="7329" y="18716"/>
                    <a:pt x="7313" y="18703"/>
                    <a:pt x="7268" y="18703"/>
                  </a:cubicBezTo>
                  <a:cubicBezTo>
                    <a:pt x="7260" y="18703"/>
                    <a:pt x="7251" y="18703"/>
                    <a:pt x="7243" y="18703"/>
                  </a:cubicBezTo>
                </a:path>
                <a:path w="2457" h="3598">
                  <a:moveTo>
                    <a:pt x="8111" y="17835"/>
                  </a:moveTo>
                  <a:cubicBezTo>
                    <a:pt x="8111" y="18099"/>
                    <a:pt x="8111" y="18364"/>
                    <a:pt x="8111" y="18628"/>
                  </a:cubicBezTo>
                  <a:cubicBezTo>
                    <a:pt x="8149" y="18641"/>
                    <a:pt x="8136" y="18658"/>
                    <a:pt x="8136" y="18703"/>
                  </a:cubicBezTo>
                  <a:cubicBezTo>
                    <a:pt x="8136" y="18711"/>
                    <a:pt x="8136" y="18720"/>
                    <a:pt x="8136" y="18728"/>
                  </a:cubicBezTo>
                  <a:cubicBezTo>
                    <a:pt x="8176" y="18738"/>
                    <a:pt x="8199" y="18765"/>
                    <a:pt x="8235" y="18777"/>
                  </a:cubicBezTo>
                  <a:cubicBezTo>
                    <a:pt x="8265" y="18787"/>
                    <a:pt x="8305" y="18799"/>
                    <a:pt x="8334" y="18802"/>
                  </a:cubicBezTo>
                  <a:cubicBezTo>
                    <a:pt x="8382" y="18807"/>
                    <a:pt x="8394" y="18813"/>
                    <a:pt x="8434" y="18827"/>
                  </a:cubicBezTo>
                  <a:cubicBezTo>
                    <a:pt x="8442" y="18827"/>
                    <a:pt x="8450" y="18827"/>
                    <a:pt x="8458" y="18827"/>
                  </a:cubicBezTo>
                </a:path>
                <a:path w="2457" h="3598">
                  <a:moveTo>
                    <a:pt x="7938" y="15503"/>
                  </a:moveTo>
                  <a:cubicBezTo>
                    <a:pt x="7962" y="15469"/>
                    <a:pt x="7952" y="15433"/>
                    <a:pt x="7987" y="15429"/>
                  </a:cubicBezTo>
                  <a:cubicBezTo>
                    <a:pt x="8028" y="15424"/>
                    <a:pt x="8006" y="15404"/>
                    <a:pt x="8062" y="15404"/>
                  </a:cubicBezTo>
                  <a:cubicBezTo>
                    <a:pt x="8119" y="15404"/>
                    <a:pt x="8140" y="15395"/>
                    <a:pt x="8186" y="15379"/>
                  </a:cubicBezTo>
                  <a:cubicBezTo>
                    <a:pt x="8205" y="15373"/>
                    <a:pt x="8240" y="15379"/>
                    <a:pt x="8260" y="15379"/>
                  </a:cubicBezTo>
                  <a:cubicBezTo>
                    <a:pt x="8260" y="15456"/>
                    <a:pt x="8257" y="15513"/>
                    <a:pt x="8235" y="15577"/>
                  </a:cubicBezTo>
                  <a:cubicBezTo>
                    <a:pt x="8216" y="15634"/>
                    <a:pt x="8188" y="15568"/>
                    <a:pt x="8161" y="15602"/>
                  </a:cubicBezTo>
                  <a:cubicBezTo>
                    <a:pt x="8147" y="15620"/>
                    <a:pt x="8122" y="15640"/>
                    <a:pt x="8086" y="15652"/>
                  </a:cubicBezTo>
                  <a:cubicBezTo>
                    <a:pt x="8062" y="15652"/>
                    <a:pt x="8053" y="15652"/>
                    <a:pt x="8037" y="15652"/>
                  </a:cubicBezTo>
                  <a:cubicBezTo>
                    <a:pt x="8021" y="15630"/>
                    <a:pt x="7991" y="15584"/>
                    <a:pt x="7987" y="15577"/>
                  </a:cubicBezTo>
                  <a:cubicBezTo>
                    <a:pt x="7975" y="15555"/>
                    <a:pt x="7945" y="15542"/>
                    <a:pt x="7938" y="15528"/>
                  </a:cubicBezTo>
                  <a:cubicBezTo>
                    <a:pt x="7926" y="15502"/>
                    <a:pt x="7896" y="15494"/>
                    <a:pt x="7888" y="15478"/>
                  </a:cubicBezTo>
                  <a:cubicBezTo>
                    <a:pt x="7875" y="15453"/>
                    <a:pt x="7865" y="15423"/>
                    <a:pt x="7863" y="15404"/>
                  </a:cubicBezTo>
                  <a:cubicBezTo>
                    <a:pt x="7858" y="15363"/>
                    <a:pt x="7838" y="15385"/>
                    <a:pt x="7838" y="15329"/>
                  </a:cubicBezTo>
                  <a:cubicBezTo>
                    <a:pt x="7838" y="15282"/>
                    <a:pt x="7782" y="15307"/>
                    <a:pt x="7764" y="15280"/>
                  </a:cubicBezTo>
                  <a:cubicBezTo>
                    <a:pt x="7764" y="15252"/>
                    <a:pt x="7762" y="15241"/>
                    <a:pt x="7739" y="15230"/>
                  </a:cubicBezTo>
                  <a:cubicBezTo>
                    <a:pt x="7716" y="15238"/>
                    <a:pt x="7692" y="15281"/>
                    <a:pt x="7689" y="15304"/>
                  </a:cubicBezTo>
                  <a:cubicBezTo>
                    <a:pt x="7683" y="15354"/>
                    <a:pt x="7669" y="15342"/>
                    <a:pt x="7665" y="15379"/>
                  </a:cubicBezTo>
                  <a:cubicBezTo>
                    <a:pt x="7658" y="15435"/>
                    <a:pt x="7665" y="15496"/>
                    <a:pt x="7665" y="15553"/>
                  </a:cubicBezTo>
                  <a:cubicBezTo>
                    <a:pt x="7748" y="15553"/>
                    <a:pt x="7830" y="15553"/>
                    <a:pt x="7913" y="15553"/>
                  </a:cubicBezTo>
                  <a:cubicBezTo>
                    <a:pt x="7869" y="15509"/>
                    <a:pt x="7850" y="15498"/>
                    <a:pt x="7813" y="15453"/>
                  </a:cubicBezTo>
                  <a:cubicBezTo>
                    <a:pt x="7767" y="15396"/>
                    <a:pt x="7798" y="15412"/>
                    <a:pt x="7764" y="15429"/>
                  </a:cubicBezTo>
                  <a:cubicBezTo>
                    <a:pt x="7730" y="15446"/>
                    <a:pt x="7744" y="15463"/>
                    <a:pt x="7714" y="15503"/>
                  </a:cubicBezTo>
                  <a:cubicBezTo>
                    <a:pt x="7797" y="15503"/>
                    <a:pt x="8167" y="15470"/>
                    <a:pt x="8186" y="15528"/>
                  </a:cubicBezTo>
                  <a:cubicBezTo>
                    <a:pt x="8180" y="15553"/>
                    <a:pt x="8147" y="15597"/>
                    <a:pt x="8136" y="15602"/>
                  </a:cubicBezTo>
                  <a:cubicBezTo>
                    <a:pt x="8111" y="15602"/>
                    <a:pt x="8103" y="15602"/>
                    <a:pt x="8111" y="15627"/>
                  </a:cubicBezTo>
                </a:path>
                <a:path w="2457" h="3598">
                  <a:moveTo>
                    <a:pt x="7615" y="16570"/>
                  </a:moveTo>
                  <a:cubicBezTo>
                    <a:pt x="7623" y="16570"/>
                    <a:pt x="7632" y="16570"/>
                    <a:pt x="7640" y="16570"/>
                  </a:cubicBezTo>
                  <a:cubicBezTo>
                    <a:pt x="7659" y="16608"/>
                    <a:pt x="7719" y="16623"/>
                    <a:pt x="7739" y="16669"/>
                  </a:cubicBezTo>
                  <a:cubicBezTo>
                    <a:pt x="7754" y="16702"/>
                    <a:pt x="7744" y="16694"/>
                    <a:pt x="7789" y="16694"/>
                  </a:cubicBezTo>
                </a:path>
                <a:path w="2457" h="3598">
                  <a:moveTo>
                    <a:pt x="7813" y="16520"/>
                  </a:moveTo>
                  <a:cubicBezTo>
                    <a:pt x="7813" y="16575"/>
                    <a:pt x="7794" y="16555"/>
                    <a:pt x="7789" y="16594"/>
                  </a:cubicBezTo>
                  <a:cubicBezTo>
                    <a:pt x="7786" y="16618"/>
                    <a:pt x="7789" y="16645"/>
                    <a:pt x="7789" y="16669"/>
                  </a:cubicBezTo>
                  <a:cubicBezTo>
                    <a:pt x="7789" y="16636"/>
                    <a:pt x="7789" y="16603"/>
                    <a:pt x="7789" y="16570"/>
                  </a:cubicBezTo>
                </a:path>
                <a:path w="2457" h="3598">
                  <a:moveTo>
                    <a:pt x="7739" y="16570"/>
                  </a:moveTo>
                  <a:lnTo>
                    <a:pt x="7739" y="16570"/>
                  </a:lnTo>
                </a:path>
                <a:path w="2457" h="3598">
                  <a:moveTo>
                    <a:pt x="7739" y="16718"/>
                  </a:moveTo>
                  <a:cubicBezTo>
                    <a:pt x="7739" y="16933"/>
                    <a:pt x="7739" y="17148"/>
                    <a:pt x="7739" y="17363"/>
                  </a:cubicBezTo>
                </a:path>
                <a:path w="2457" h="3598">
                  <a:moveTo>
                    <a:pt x="7764" y="16793"/>
                  </a:moveTo>
                  <a:cubicBezTo>
                    <a:pt x="7764" y="16967"/>
                    <a:pt x="7764" y="17140"/>
                    <a:pt x="7764" y="17314"/>
                  </a:cubicBezTo>
                  <a:cubicBezTo>
                    <a:pt x="7729" y="17325"/>
                    <a:pt x="7815" y="17337"/>
                    <a:pt x="7789" y="17363"/>
                  </a:cubicBezTo>
                  <a:cubicBezTo>
                    <a:pt x="7781" y="17363"/>
                    <a:pt x="7772" y="17363"/>
                    <a:pt x="7764" y="17363"/>
                  </a:cubicBezTo>
                </a:path>
                <a:path w="2457" h="3598">
                  <a:moveTo>
                    <a:pt x="6796" y="17289"/>
                  </a:moveTo>
                  <a:cubicBezTo>
                    <a:pt x="6730" y="17289"/>
                    <a:pt x="6664" y="17289"/>
                    <a:pt x="6598" y="17289"/>
                  </a:cubicBezTo>
                </a:path>
                <a:path w="2457" h="3598">
                  <a:moveTo>
                    <a:pt x="8830" y="17165"/>
                  </a:moveTo>
                  <a:cubicBezTo>
                    <a:pt x="8893" y="17165"/>
                    <a:pt x="8927" y="17173"/>
                    <a:pt x="8979" y="17190"/>
                  </a:cubicBezTo>
                  <a:cubicBezTo>
                    <a:pt x="8998" y="17196"/>
                    <a:pt x="9034" y="17190"/>
                    <a:pt x="9054" y="17190"/>
                  </a:cubicBezTo>
                </a:path>
              </a:pathLst>
            </a:custGeom>
            <a:noFill/>
            <a:ln cap="rnd"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2560" y="218916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ほん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92360" y="110952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え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720" y="4724280"/>
              <a:ext cx="215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ひろしくんのう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40360" y="52862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としょか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06920" y="119700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こうえ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43280" y="4292640"/>
              <a:ext cx="25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ゆうびんきょ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/>
          <p:nvPr/>
        </p:nvSpPr>
        <p:spPr>
          <a:xfrm>
            <a:off x="4788000" y="3141720"/>
            <a:ext cx="2808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위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う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826920" y="1773360"/>
          <a:ext cx="302904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30290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3213000"/>
            <a:ext cx="3240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아래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し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52400" y="1773360"/>
          <a:ext cx="295596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773360"/>
                    <a:ext cx="295596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3068640"/>
            <a:ext cx="259272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앞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まえ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826920" y="1773360"/>
          <a:ext cx="287676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287676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/>
          <p:nvPr/>
        </p:nvSpPr>
        <p:spPr>
          <a:xfrm>
            <a:off x="5003640" y="3141720"/>
            <a:ext cx="3240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뒤 </a:t>
            </a:r>
            <a:r>
              <a:rPr b="1" lang="ko-KR" sz="5200" spc="-1" strike="noStrike">
                <a:solidFill>
                  <a:srgbClr val="000000"/>
                </a:solidFill>
                <a:latin typeface="HY얕은샘물M"/>
              </a:rPr>
              <a:t>:</a:t>
            </a:r>
            <a:r>
              <a:rPr b="1" lang="ja-JP" sz="5200" spc="-1" strike="noStrike">
                <a:solidFill>
                  <a:srgbClr val="000000"/>
                </a:solidFill>
                <a:latin typeface="HY얕은샘물M"/>
              </a:rPr>
              <a:t>うしろ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971640" y="1773360"/>
          <a:ext cx="294948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4948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/>
          <p:nvPr/>
        </p:nvSpPr>
        <p:spPr>
          <a:xfrm>
            <a:off x="4716360" y="2852640"/>
            <a:ext cx="403236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왼쪽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ひだ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92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2924280"/>
            <a:ext cx="3311640" cy="1677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오른쪽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みぎ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28292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900" spc="-1" strike="noStrike">
                <a:solidFill>
                  <a:srgbClr val="775f55"/>
                </a:solidFill>
                <a:latin typeface="Tw Cen MT"/>
                <a:ea typeface="굴림"/>
              </a:rPr>
              <a:t>위치표현</a:t>
            </a:r>
            <a:endParaRPr b="0" lang="en-US" sz="5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2924280"/>
            <a:ext cx="3311640" cy="885960"/>
          </a:xfrm>
          <a:prstGeom prst="rect">
            <a:avLst/>
          </a:prstGeom>
          <a:noFill/>
          <a:ln w="3168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옆 </a:t>
            </a:r>
            <a:r>
              <a:rPr b="1" lang="ko-KR" sz="5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ja-JP" sz="5200" spc="-1" strike="noStrike">
                <a:solidFill>
                  <a:srgbClr val="000000"/>
                </a:solidFill>
                <a:latin typeface="Times New Roman"/>
              </a:rPr>
              <a:t>となり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55640" y="1628640"/>
          <a:ext cx="3083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3083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19:47Z</dcterms:created>
  <dc:creator>Your User Name</dc:creator>
  <dc:description/>
  <dc:language>en-US</dc:language>
  <cp:lastModifiedBy>학교</cp:lastModifiedBy>
  <dcterms:modified xsi:type="dcterms:W3CDTF">2011-07-04T00:22:25Z</dcterms:modified>
  <cp:revision>29</cp:revision>
  <dc:subject/>
  <dc:title>日本の「住」</dc:title>
</cp:coreProperties>
</file>