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3586-85DC-4886-BAAB-075DF9F7F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D0ED-6CE0-4A2E-B5DF-9EEDC2DC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0449-DA79-444C-9323-4B4B15AC0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8091-E54B-4789-A3A9-418004F06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B36C-7916-41D6-BFDF-E9ADDDF3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BDCD-F778-4DC6-B9C0-F7E756B4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F9C8-BE9B-4FE7-8BA1-C5CB3741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256C-E129-4F46-9CD9-4A95A349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FC2E-1B2B-455B-A15A-18BB6301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5A4D-FC6B-4038-9C29-05C5C9E9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4819-E191-4FB9-A2ED-2814A2B7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677C-2B27-450E-98AD-8090DB8F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C84B-E5DA-4E5E-886E-BB09BDBACC7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UNI008c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33720" y="9140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굴림"/>
              </a:rPr>
              <a:t>위 치 표 현</a:t>
            </a:r>
            <a:br>
              <a:rPr sz="4800"/>
            </a:br>
            <a:r>
              <a:rPr b="1" lang="zh-CN" sz="4800" spc="-1" strike="noStrike">
                <a:solidFill>
                  <a:srgbClr val="000099"/>
                </a:solidFill>
                <a:latin typeface="굴림"/>
                <a:ea typeface="돋움"/>
              </a:rPr>
              <a:t>なにが　ありますか どこに　ありますか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5638680" y="6172200"/>
            <a:ext cx="312444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광명북고    한은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66840" y="87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266840" y="870120"/>
            <a:ext cx="511812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  <a:ea typeface="한컴바탕"/>
              </a:rPr>
              <a:t>  </a:t>
            </a:r>
            <a:r>
              <a:rPr b="0" lang="en-US" sz="30300" spc="-1" strike="noStrike">
                <a:solidFill>
                  <a:srgbClr val="000000"/>
                </a:solidFill>
                <a:latin typeface="굴림"/>
                <a:ea typeface="한컴바탕"/>
              </a:rPr>
              <a:t> 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  <a:ea typeface="한컴바탕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바탕"/>
                <a:ea typeface="바탕"/>
              </a:rPr>
              <a:t>그림 </a:t>
            </a:r>
            <a:r>
              <a:rPr b="0" lang="en-US" sz="9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zh-CN" sz="900" spc="-1" strike="noStrike">
                <a:solidFill>
                  <a:srgbClr val="000000"/>
                </a:solidFill>
                <a:latin typeface="바탕"/>
                <a:ea typeface="바탕"/>
              </a:rPr>
              <a:t>방안</a:t>
            </a:r>
            <a:r>
              <a:rPr b="0" lang="en-US" sz="9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6" name="UNI008c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0816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28440"/>
          <a:ext cx="9144000" cy="682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8440"/>
                    <a:ext cx="9144000" cy="682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304920" y="990720"/>
            <a:ext cx="3352680" cy="838080"/>
          </a:xfrm>
          <a:prstGeom prst="flowChartMagneticTap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돋움"/>
                <a:ea typeface="돋움"/>
              </a:rPr>
              <a:t>つくえが あります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990720"/>
            <a:ext cx="3505320" cy="685800"/>
          </a:xfrm>
          <a:prstGeom prst="flowChartMagneticTap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돋움"/>
                <a:ea typeface="돋움"/>
              </a:rPr>
              <a:t>テレビが　あります</a:t>
            </a:r>
            <a:r>
              <a:rPr b="0" lang="en-US" sz="28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6000000">
            <a:off x="2196360" y="4280760"/>
            <a:ext cx="852480" cy="3416400"/>
          </a:xfrm>
          <a:prstGeom prst="flowChartMagneticTap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돋움"/>
                <a:ea typeface="돋움"/>
              </a:rPr>
              <a:t>はこが　ありま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4038480"/>
            <a:ext cx="3962520" cy="914400"/>
          </a:xfrm>
          <a:prstGeom prst="flowChartMagneticTap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돋움"/>
                <a:ea typeface="돋움"/>
              </a:rPr>
              <a:t>テーブルが　あります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29408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20168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6" name="UNI008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228600"/>
            <a:ext cx="3429000" cy="533520"/>
          </a:xfrm>
          <a:prstGeom prst="flowChartMagneticTap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돋움"/>
                <a:ea typeface="돋움"/>
              </a:rPr>
              <a:t>ちずが　ありま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 rot="10800000">
            <a:off x="1066320" y="3123720"/>
            <a:ext cx="3124440" cy="685800"/>
          </a:xfrm>
          <a:prstGeom prst="flowChartMagneticTap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돋움"/>
                <a:ea typeface="돋움"/>
              </a:rPr>
              <a:t>ねこが　いま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2286000"/>
            <a:ext cx="3124080" cy="685800"/>
          </a:xfrm>
          <a:prstGeom prst="flowChartMagneticTap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돋움"/>
                <a:ea typeface="돋움"/>
              </a:rPr>
              <a:t>いぬが　います</a:t>
            </a:r>
            <a:r>
              <a:rPr b="0" lang="en-US" sz="28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1905120"/>
            <a:ext cx="3809880" cy="121896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テレビの　まえに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いぬが　います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838080" y="3048120"/>
            <a:ext cx="3657600" cy="91440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いすの　うえに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ねこが　います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73320" y="84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273320" y="846000"/>
            <a:ext cx="50893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  <a:ea typeface="한컴바탕"/>
              </a:rPr>
              <a:t>  </a:t>
            </a:r>
            <a:r>
              <a:rPr b="0" lang="en-US" sz="30600" spc="-1" strike="noStrike">
                <a:solidFill>
                  <a:srgbClr val="000000"/>
                </a:solidFill>
                <a:latin typeface="굴림"/>
                <a:ea typeface="한컴바탕"/>
              </a:rPr>
              <a:t> 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  <a:ea typeface="한컴바탕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바탕"/>
                <a:ea typeface="바탕"/>
              </a:rPr>
              <a:t>그림 </a:t>
            </a:r>
            <a:r>
              <a:rPr b="0" lang="en-US" sz="9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zh-CN" sz="900" spc="-1" strike="noStrike">
                <a:solidFill>
                  <a:srgbClr val="000000"/>
                </a:solidFill>
                <a:latin typeface="바탕"/>
                <a:ea typeface="바탕"/>
              </a:rPr>
              <a:t>방안</a:t>
            </a:r>
            <a:r>
              <a:rPr b="0" lang="en-US" sz="900" spc="-1" strike="noStrike">
                <a:solidFill>
                  <a:srgbClr val="000000"/>
                </a:solidFill>
                <a:latin typeface="바탕"/>
                <a:ea typeface="바탕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UNI008b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762120"/>
            <a:ext cx="3124080" cy="838080"/>
          </a:xfrm>
          <a:prstGeom prst="flowChartMagneticTap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돋움"/>
                <a:ea typeface="돋움"/>
              </a:rPr>
              <a:t>ボールが　あります</a:t>
            </a:r>
            <a:r>
              <a:rPr b="0" lang="en-US" sz="28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4343400"/>
            <a:ext cx="2895840" cy="685800"/>
          </a:xfrm>
          <a:prstGeom prst="flowChartMagneticTap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돋움"/>
                <a:ea typeface="돋움"/>
              </a:rPr>
              <a:t>かさが　あります</a:t>
            </a:r>
            <a:r>
              <a:rPr b="0" lang="en-US" sz="28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1447920" y="3886200"/>
            <a:ext cx="3581280" cy="129528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テーブルの　うえに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かさが　あります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-228600" y="533520"/>
            <a:ext cx="3657600" cy="114300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つくえの　うえに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ボールが　あります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4800240" y="227880"/>
            <a:ext cx="3352680" cy="685800"/>
          </a:xfrm>
          <a:prstGeom prst="flowChartMagneticTap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돋움"/>
                <a:ea typeface="돋움"/>
              </a:rPr>
              <a:t>とけいが　あります</a:t>
            </a:r>
            <a:r>
              <a:rPr b="0" lang="en-US" sz="28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08160" y="97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UNI008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0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rot="10800000">
            <a:off x="2590560" y="4495680"/>
            <a:ext cx="3733560" cy="106704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テーブルの　したに　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いぬが　います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838080" y="5790960"/>
            <a:ext cx="3276720" cy="533160"/>
          </a:xfrm>
          <a:prstGeom prst="flowChartMagneticTap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돋움"/>
                <a:ea typeface="돋움"/>
              </a:rPr>
              <a:t>カメラが　あります</a:t>
            </a:r>
            <a:r>
              <a:rPr b="0" lang="en-US" sz="28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609480" y="5638680"/>
            <a:ext cx="4191120" cy="99072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はこの　なかに　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カメラが　あります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752480" y="3352680"/>
            <a:ext cx="3657600" cy="609840"/>
          </a:xfrm>
          <a:prstGeom prst="flowChartMagneticTap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돋움"/>
                <a:ea typeface="돋움"/>
              </a:rPr>
              <a:t>スケートが　あります</a:t>
            </a:r>
            <a:r>
              <a:rPr b="0" lang="en-US" sz="28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1676520" y="3200040"/>
            <a:ext cx="3962160" cy="106668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ねこの　まえに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　スケートが　あります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21284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" name="UNI0096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9724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295280" y="1371600"/>
            <a:ext cx="3200400" cy="609480"/>
          </a:xfrm>
          <a:prstGeom prst="flowChartMagneticTap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돋움"/>
                <a:ea typeface="돋움"/>
              </a:rPr>
              <a:t>　いすが　あります</a:t>
            </a:r>
            <a:r>
              <a:rPr b="0" lang="en-US" sz="28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1143000"/>
            <a:ext cx="3657600" cy="106668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つくえの　よこに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いすが　あります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228600"/>
            <a:ext cx="3810240" cy="685800"/>
          </a:xfrm>
          <a:prstGeom prst="flowChartMagneticTap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돋움"/>
                <a:ea typeface="돋움"/>
              </a:rPr>
              <a:t>しゃしんが　あります</a:t>
            </a:r>
            <a:r>
              <a:rPr b="0" lang="en-US" sz="28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0"/>
            <a:ext cx="4572000" cy="114300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テレビの　うえ に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　しゃしんが　あります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3276720"/>
            <a:ext cx="3733920" cy="761760"/>
          </a:xfrm>
          <a:prstGeom prst="flowChartMagneticTap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굴림"/>
                <a:ea typeface="돋움"/>
              </a:rPr>
              <a:t>かばんが　あります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  <a:ea typeface="돋움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2971800"/>
            <a:ext cx="4191120" cy="121932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テーブルの　うしろに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かばんが　あります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23:24:39Z</dcterms:created>
  <dc:creator>박선은</dc:creator>
  <dc:description/>
  <dc:language>en-US</dc:language>
  <cp:lastModifiedBy>박선은</cp:lastModifiedBy>
  <dcterms:modified xsi:type="dcterms:W3CDTF">2004-04-19T10:25:19Z</dcterms:modified>
  <cp:revision>14</cp:revision>
  <dc:subject/>
  <dc:title>PowerPoint 프레젠테이션</dc:title>
</cp:coreProperties>
</file>