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D124-4C62-4B20-9691-27A736D80C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999B-50A7-49DB-AFB8-27E6847A82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854E-CD63-4B3C-8928-7475915A16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396-5F02-480F-A018-8BFFCC6656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E3C9-95AA-4A58-9626-DFE8C4AF07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C9E6-978C-410A-94A8-5F2DDEFC27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53A7-12F1-4B61-B597-DADC171A02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37B5-0073-47D3-A604-8105134EE0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B838-A51A-4FD6-9578-5BA1D4C14D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065C-92A2-4A0E-ACBF-991943746C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ECD-A2FF-42FA-BE27-141AF1A8A6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D067-B77C-47D7-99DD-6B08D6BDBC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3B6D-BA99-452E-943C-009B52DFD3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E5A-B7FD-4CEE-9F56-834D85DCC9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64F6-31AE-4FA4-892E-5E215464ED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3D59-3F25-454E-903F-AEC694EFDB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839-3BE3-4EB9-8A4B-FA10BC53B8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2A51-F145-4CEB-94A7-AFDFDEB36F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2ED6-91E5-40B5-8AEA-3837BAFA7C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ECE3-1948-4B12-869E-072E3EF777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D0F6-5A81-42DF-9B08-839EAE633C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9491-868C-4FCE-993A-009DC83CD0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5006-ADFE-4E2F-A2CB-7433A279B6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264E-0640-43DD-98E1-31A5E23F71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329F-1B0F-4C6C-B91E-F2FAD9CA43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2F1A-1422-42CE-9D22-195E7078AB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251F-5487-41BB-A2C6-9CD2ED12CA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0630-E7F5-40ED-B5C0-C50F333068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03AC-C7CF-4645-AB29-BCEA12832AC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0A52-BADC-4A9A-B43C-4FB1373E0A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973B-B1C5-402E-940B-F35F180D19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6BF-8348-4655-A311-0E5DE131D4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5235-7F83-4D2B-9AEE-177506F77A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37DB-D54A-47CB-AC05-3A83C5B9F3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631-ED74-4A3A-8753-9C267C1DE9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98DF-7406-4F34-85A7-DB23833FB4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4C02-4F8B-4E0C-BC5E-1B45C55BC2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9B2C-BAFD-495C-94F1-C0DCDB78E2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903-F6BA-403A-B8B6-1C667E74E6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44CE-DA08-4B73-8254-87C0707E15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9B7A-D2D8-431D-8EA1-A17ACF023E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4801-E2C6-4A65-85D1-2E2FDED5BB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291-B9EA-4EE3-BC70-866BF9A4DB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1757-5087-4B1E-9280-21F2E62E38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FC40-8E6C-41FB-8FCA-A262A0AF18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2E7-0E19-4E5B-A63F-76BE3DF3E1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DF2-C560-44E8-AE1A-7705C2120E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4926-090E-42F9-A0EE-0BAB13890C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C81-0342-41BD-BDA0-3185558C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A69-FE29-4E8F-A692-FA3E2AC3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611-CD16-4CD8-AADB-75D412AA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C6A-124F-4F31-BE5F-12C2171D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4D2-91FC-44AE-823D-1F696D24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CBF-FD7C-4108-80FE-56A95FE1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E02-F3FC-4451-98E1-02439DE6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A93-431A-45A0-A1EC-C3FA9BFD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F83-2AB3-4514-BEBC-DCA1FC7A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C35-6AD7-4D38-B740-5B55AD0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D5B-4FB9-4AB8-A2FA-E09BE2A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AB2-C0D6-4D7C-93A9-2C81B5E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9E73-62D1-490C-8373-71FA9EAEF160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저녁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pé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모시다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동반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67692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kāi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처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약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ò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应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ggā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54400"/>
            <a:ext cx="6381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8500" spc="-1" strike="noStrike">
                <a:solidFill>
                  <a:srgbClr val="000000"/>
                </a:solidFill>
                <a:latin typeface="굴림"/>
              </a:rPr>
              <a:t>해야 한다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锻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500" spc="-1" strike="noStrike">
                <a:solidFill>
                  <a:srgbClr val="000000"/>
                </a:solidFill>
                <a:latin typeface="Arial"/>
              </a:rPr>
              <a:t>duànli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31000"/>
            <a:ext cx="638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800" spc="-1" strike="noStrike">
                <a:solidFill>
                  <a:srgbClr val="000000"/>
                </a:solidFill>
                <a:latin typeface="굴림"/>
              </a:rPr>
              <a:t>단련하다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锻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500" spc="-1" strike="noStrike">
                <a:solidFill>
                  <a:srgbClr val="000000"/>
                </a:solidFill>
                <a:latin typeface="Arial"/>
              </a:rPr>
              <a:t>duànli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단련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词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íd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动物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500" spc="-1" strike="noStrike">
                <a:solidFill>
                  <a:srgbClr val="000000"/>
                </a:solidFill>
                <a:latin typeface="Arial"/>
              </a:rPr>
              <a:t>dòngwùyuán</a:t>
            </a:r>
            <a:endParaRPr b="0" lang="en-US" sz="7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물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老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h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호랑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hǎoxià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마치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인 것 같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中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ōngwǔ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낮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保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oh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보호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文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wénhuà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문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遗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ch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虐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nüèd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학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动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òngwù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동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á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이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鼻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ít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콧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体育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ǐyùguǎ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체육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d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比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s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경기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우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生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ēngcí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단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롭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낡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오래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美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l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름답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틀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安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ānjì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득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볍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面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iàntiá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무겁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뚱뚱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u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어지럽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얼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胳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ēb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허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爱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àih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취미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意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父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q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버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咳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éso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침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整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ěngtiā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종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56:56Z</dcterms:created>
  <dc:creator>System</dc:creator>
  <dc:description/>
  <dc:language>en-US</dc:language>
  <cp:lastModifiedBy>System</cp:lastModifiedBy>
  <dcterms:modified xsi:type="dcterms:W3CDTF">2014-01-28T00:49:38Z</dcterms:modified>
  <cp:revision>9</cp:revision>
  <dc:subject/>
  <dc:title>슬라이드 1</dc:title>
</cp:coreProperties>
</file>