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EA94-4925-4071-945D-47696DE354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4F92-E8FC-4549-8F44-027776A2D8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6BD4-2AE7-4461-A0B0-69A12304F5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EAA0-8E38-4C8C-B70E-0F7B76EF60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4FB7-1351-4B4C-B3A5-3051E767FB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476-F6DE-491F-88B2-645757AA94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9B33-03B6-40C5-AF4B-6B2070296F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D8E9-BE2A-46BC-B175-56406CE862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6103-1865-4F5A-A898-ECC67FAAC2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9931-B733-4683-B58D-1692BB75A0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31C-4815-4DC6-BA5F-478904C903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DEB-F3AF-4BB0-BD58-32A1580AB9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141-32C0-40F3-B472-E9B0874865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7E62-52DD-44D4-886C-AC4D06E2BF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973-DF7E-44C4-A4BB-135907220A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46D2-6A9D-46AF-921D-A599C11084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50F8-CFC8-42EA-BE61-D32F3D05B8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FF64-8463-4D07-B035-33467203B3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43BB-3046-4D26-9F35-5F5BB615FF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59B1-2065-45A2-B002-4ADD5B57E3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8FF6-A35D-43BE-8419-D68B144503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E5E-1C48-4EDC-9F46-6CB9E1B244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9527-8F49-4A29-8B33-330720DAB7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3122-F4FC-47C2-AA9E-5664E9757E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2A9B-9DAF-43D6-96B2-D7C0FE55DA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B655-4380-4588-AC8C-7BBCA9C2E0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1914-6764-46BC-8550-EBC996DD9B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2C66-0430-434B-AB63-9B204DB2ED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D968-D19C-40D5-998D-972DE5F5E3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D821-F9C8-4F88-87E0-3E8B68433E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570C-8631-4785-97B9-189346CACD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422-5A5B-4DC3-9778-89CAEE3856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7F70-C03B-4F98-843B-5E612B4D15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EACF-549A-4395-A0C4-601EDFC5F0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9FE-DEE6-4BF2-854C-DD1A69DE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6FF-F363-49A0-97FB-47E1FD2F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86D-15AF-4184-8B2D-34A64EC6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343-6437-4CF6-9033-4619FE52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277-6207-4013-883E-219A78C9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F8C-3714-4491-AA56-8CA48463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21B-CBC8-4AA7-A5EA-BD7B26C5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AC6-1444-48F7-AC11-8CE24C67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A8E-FEFD-4478-BD4D-3FA7EEE5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C83-A682-4EB0-97FF-43F2887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0F2-BB98-4731-9B60-7C131D7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B49-FBD7-4781-B27B-8CE56BF5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B8E4-89C1-4C96-9AF3-211B9311C9CB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半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ànb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반쪽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절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것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사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跳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àow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춤추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热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na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떠들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왜냐하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轻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iánqīngré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젊은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조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지속의 의미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àngb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출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zhèyà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렇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场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chǎngmià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왕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聊天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liáotiān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잡담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或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òzh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던가 …이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찾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신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咖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fē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커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二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èrh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얼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중국악기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까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 향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을 대신하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에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의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告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àos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리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半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íngba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해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o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소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잊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1:56:50Z</dcterms:created>
  <dc:creator>System</dc:creator>
  <dc:description/>
  <dc:language>en-US</dc:language>
  <cp:lastModifiedBy>System</cp:lastModifiedBy>
  <dcterms:modified xsi:type="dcterms:W3CDTF">2014-01-28T02:20:47Z</dcterms:modified>
  <cp:revision>3</cp:revision>
  <dc:subject/>
  <dc:title>슬라이드 1</dc:title>
</cp:coreProperties>
</file>