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EF8-F69F-4787-BA9F-93E7588060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8A1-26BB-4B3F-95F4-B39671630C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86E-4DCF-4934-8A85-7ACFA4E37D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FE6-B525-44C0-BB34-C7EDA5AF78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866-6C42-405A-9127-E806FB0604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338-6B72-43DB-B8F2-DAA10EB921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E77-E7FC-4622-97D5-F1EA13B8B7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BA7B-AA11-48ED-BD5E-EF0F73AA0B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CC7-2064-4791-ACA2-F215071B7D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369-B9FB-4D14-BCBC-5C518B5E7F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E52-25C5-46CE-BD0E-B012D56A35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2058-6215-4016-B375-D5C78F124B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53A-EE3D-4E14-9AC2-B2432CC64D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D4A-2716-4F0B-96C1-E1D8494BC5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A924-0802-41C0-84A8-26A760F4D1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EFD-CE99-4C80-9028-8C4214B593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321-EFAA-4008-A646-AAF6F6C2C0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9410-5C21-495C-8A88-DEC2A17394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99C-3826-4919-935C-962B220CA2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DCEB-9B52-4A6A-A54E-7742AAA4BE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F11F-BF5B-49EC-A563-3323DFF544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959-F655-4D39-8E58-9F3E173534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141-C92E-404C-B5AA-B7E3D32D5D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BC4-B647-4364-90E4-2FF72720DC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B37C-5713-4699-A3DD-B68B012065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0F5-4BA4-40B7-BB4B-895C4C1AB5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B9F-0E37-48DC-B3D9-0C74DC0AC3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5D4B-65CB-4FB3-A892-98F8FBD099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11F-906C-41AE-A4FE-7FD2664207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BFFA-7042-402C-8A4D-637FDEA8A4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860-4053-4BE0-88AC-2D3BD995C5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FA62-02FC-45FB-B2C1-86F05A0AF4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9B2-5B93-4CBE-9318-02CE2AF01A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C35-4FE2-4DAD-A3D2-9F13B6EE12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35B-FF37-4BB5-A3AA-B91A1E066A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544-44E1-4559-91EE-CC03F18080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706-EFE8-42D8-A37D-AE9D5536CA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513F-A82F-482F-9722-35CB1A2262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AC1-B3BB-43E7-9180-4C90C90C21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B86A-B42A-4719-9F9C-97DF089ADB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FAE-179A-482B-A480-7F1B3B3BF8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06F-612B-41F1-A530-9B309560C1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CBA8-718E-4CF8-A557-EDAB819FA6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346-17BD-4AD2-9017-8D783E0F5C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458-1D60-4CA0-8F2D-D7FBCD4BE9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1E9-1A24-44EE-ADAF-C8609C64EE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A55-7B62-46A4-AAE4-F36DDFA4B0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7C6-DEAF-428B-AEBC-CB7FC420C0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04A4-CCFA-458A-97B8-ACE757D58C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947F-C866-421B-BC19-D0DD61CC1E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D49-88A0-420F-8A80-0A72032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88E-F749-40C1-88D0-A08D316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6C4-70F1-449D-88F2-DD072F7A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3C0-CE4D-4ED8-A403-2245BF1F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268-1E6E-4B55-9498-78F5156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795-8048-4631-8D78-F6635576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689-EF05-4C87-9575-4DB64C6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61A-814B-47DD-B8BC-6F68B83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E4D-3A69-45C6-8672-0DAEB37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483-FD11-4375-B0A8-2AF70E5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35C-91FB-424D-9ACE-105F057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45-FCBF-4547-AEDA-7B62BAC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25D-8C6B-4FBA-B66E-F33E58C314A9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읽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ián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저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출발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shē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어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越来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uèláiyuè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점 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觉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라고 느끼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通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ōngguò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를 통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反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ǎnf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반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àn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水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pí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提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íg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높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d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단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l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를 위하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目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ùb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목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x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계속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령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头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uf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카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기 능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联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ánx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x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해서는 안 된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런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抽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ōuy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담배 피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批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īp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꾸짖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ǒ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ìfa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马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ǎshà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平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íngs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평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广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uǎngb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라디오 방송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决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uéd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留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ú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학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外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ài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닫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부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解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해결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结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éh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결혼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óngyì 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동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찬성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l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당기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了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oj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이해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팔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무서워하다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두려워하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基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特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èb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특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担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걱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互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ùxi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6:40:12Z</dcterms:created>
  <dc:creator>System</dc:creator>
  <dc:description/>
  <dc:language>en-US</dc:language>
  <cp:lastModifiedBy>System</cp:lastModifiedBy>
  <dcterms:modified xsi:type="dcterms:W3CDTF">2014-01-27T07:32:33Z</dcterms:modified>
  <cp:revision>6</cp:revision>
  <dc:subject/>
  <dc:title>슬라이드 1</dc:title>
</cp:coreProperties>
</file>