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9355-735A-4573-97B5-FAF0DAF7869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65DB-6531-4FA0-9A4E-0F9B3035AA2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6395-3AFF-40F3-955D-61E4AF890C7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2C0D-7DB3-4363-92E2-B2F947245E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EF4E-1CD3-4CD5-8B5A-188EC5FAA1E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9F60-08BF-4EC7-A839-46C96373AE7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829B-24EE-40A6-A6F7-08A98E3E36B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0E66-61F7-48F4-9AF7-59BDA7527F7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A13B-3540-4C63-BC52-D3CEB1B1099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007F-EBDD-438C-BD9F-32EB77ED71B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A5F0-3F70-41C2-8B2D-9D1AE8431C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05F4-5D0A-4B85-982C-04260082A58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4FE9-298F-405D-A423-A91E2FB26CA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1EEB-A0DE-4079-916A-7166F00CF62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FEB3-C380-410A-8B71-EAA5B21A5BD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3EC5-4FB1-4766-8B03-1CF6F8FC4E8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BA78-E9D3-4931-95B9-8160C0A1546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F6F2-D8D2-499A-B8AE-621D8E9F59D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B53F-1371-434D-8344-A171440428A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DAA0-698E-410F-95E4-3C9FDDFBDF7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5381-348E-42FA-A85D-A3116329CF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102F-2306-404B-92DE-BB0A02C479A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3864-A6AB-4A1F-B6C7-8BB3515BFA4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69D7-A5EA-458E-884E-1F446C8C425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7839-0F3E-45D8-A4F9-B989C92C296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E296-91D5-4126-A816-E2DB7CD7355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BA0D-A8BB-433B-A9F5-AEE38F0876F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16BE-CF02-4FB7-BD41-14A894A13A5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E028-9B96-420D-834A-993D88CF9C3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5CAE-CD90-4EEA-9926-028E48AF28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71DD-5BF3-420E-A8F2-485525A26E4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AA0C-D780-4611-9EFB-163D632C3D1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BAF1-6C90-42D4-9541-4C1D07DE1D2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DEAC-7174-417C-ACC5-149251CB37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2FB0-55DD-49BB-B989-3E64EC820BE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7F8E-4D23-48DE-A914-012ECBBC299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60BF-5355-45E5-AA86-66055FD5215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D4C4-9D41-4491-B2D9-CB086BB59DD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2AC1-085A-4FD3-A457-E03AAE708B4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2993-C106-4B70-831B-7C554CF9CC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4E02-D5D4-4AE8-8E5D-F87DA8726DD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6B9C-3095-4C7A-80E4-06D8927C252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C9D0-C54B-4CA8-9873-149B57C1949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7F47-68A4-4471-8399-BED7D1F9179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AE5A-77A0-4A6E-8C0B-CFD3EBA3B5E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5107-77CF-421B-B573-788BF63143C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AA8-9682-47C1-86D6-F9D73F2D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91C-A939-46B3-AD78-00865F38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9803-8B13-460E-AA06-CB5DE008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6A5-5371-418B-8192-24997151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0BF5-6F24-47AC-8F35-BEF1A3FA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163B-C8DB-4630-9665-6C467916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91F5-21EF-48B7-9324-E2E07DA5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833A-3764-46F5-BD03-169CEC8E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96BE-29A9-44F5-B718-A4FB064C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604E-BF4C-4DC4-875E-4FAE6D2E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FF57-076D-4505-AD27-150F9A2F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B67F-04E3-4A9A-AFA3-AF04C3DB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5CFA-F561-4A5F-B2A3-936407FE9E2E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把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ǎ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개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다시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또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椅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ǐz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의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钥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yàosh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열쇠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去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qùniá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작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首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ǒ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곡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gē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노래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곡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好听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ǎotī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듣기 좋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u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덩어리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조각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手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shǒubiǎo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손목시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ò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주다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보내다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伞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우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款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u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205240"/>
            <a:ext cx="638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스타일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디자인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原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yuánlá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원래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ǎ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인터넷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0" spc="-1" strike="noStrike">
                <a:solidFill>
                  <a:srgbClr val="000000"/>
                </a:solidFill>
                <a:latin typeface="Arial"/>
              </a:rPr>
              <a:t>百货商店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012720"/>
            <a:ext cx="62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Bǎihuò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shāngdiàn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백화점</a:t>
            </a:r>
            <a:endParaRPr b="0" lang="en-US" sz="7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è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더욱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더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举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ǔ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들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ǒ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请假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ǐngjià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205240"/>
            <a:ext cx="638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휴가를 신청하다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196600"/>
            <a:ext cx="638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6600" spc="-1" strike="noStrike">
                <a:solidFill>
                  <a:srgbClr val="000000"/>
                </a:solidFill>
                <a:latin typeface="Arial"/>
              </a:rPr>
              <a:t>에 비해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, ~</a:t>
            </a:r>
            <a:r>
              <a:rPr b="0" lang="ko-KR" sz="6600" spc="-1" strike="noStrike">
                <a:solidFill>
                  <a:srgbClr val="000000"/>
                </a:solidFill>
                <a:latin typeface="Arial"/>
              </a:rPr>
              <a:t>보다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合适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ésh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알맞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바꾸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成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chéngj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성적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ē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짙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hu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망가지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但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dànsh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그러나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价格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àgé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격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69060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xiǎo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작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优惠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ōuhu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혜택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ē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152320"/>
            <a:ext cx="63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Arial"/>
              </a:rPr>
              <a:t>잔을 세는 양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座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zuò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4940280"/>
            <a:ext cx="6381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부피가 크거나 고정된 물체를 세는 양사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辆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lià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차량을 세는 양사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蓝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á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파랗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ji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방을 세는 양사</a:t>
            </a:r>
            <a:endParaRPr b="0" lang="en-US" sz="7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í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5152320"/>
            <a:ext cx="63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Arial"/>
              </a:rPr>
              <a:t>병을 세는 양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斤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15640" y="5317920"/>
            <a:ext cx="6381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근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무게를 세는 양사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tá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기계를 세는 양사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Arial"/>
              </a:rPr>
              <a:t>幅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fú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TextBox 8"/>
          <p:cNvSpPr/>
          <p:nvPr/>
        </p:nvSpPr>
        <p:spPr>
          <a:xfrm rot="10800000">
            <a:off x="215640" y="4962240"/>
            <a:ext cx="63817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그림이나 천으로 된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것을 세는 양사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dù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TextBox 8"/>
          <p:cNvSpPr/>
          <p:nvPr/>
        </p:nvSpPr>
        <p:spPr>
          <a:xfrm rot="10800000">
            <a:off x="215640" y="579564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끼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식사를 세는 양사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如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bùrú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만 못하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ǜ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푸르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好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ǎok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예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那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àme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러면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欢迎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huānyíng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환영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7:32:59Z</dcterms:created>
  <dc:creator>System</dc:creator>
  <dc:description/>
  <dc:language>en-US</dc:language>
  <cp:lastModifiedBy>System</cp:lastModifiedBy>
  <dcterms:modified xsi:type="dcterms:W3CDTF">2014-01-28T04:12:58Z</dcterms:modified>
  <cp:revision>6</cp:revision>
  <dc:subject/>
  <dc:title>슬라이드 1</dc:title>
</cp:coreProperties>
</file>