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2708-3DE4-4132-82FD-B2A4D68F57F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84B3-290A-4756-A24F-C94926A095B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DBC2-ED07-4FB4-85FB-1BE566CC31B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099E-4401-4C75-9B82-6D407982EA4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72AF-6EF1-487F-8E93-BA76D871A55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7D10-92F0-44A0-96F9-2638D908A32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7985-EFCD-4B15-9D84-78AEFB979C0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7632-03E1-42BF-8F5E-E053D2EEAEB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0B2A-A5E5-4271-9A95-6FB0CB267B5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1ACE-B6A9-498B-B269-634ACBA2F7E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D0CF-5753-494A-A157-4A8D50EEC56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8FEC-2606-4586-9250-4D5B2D36728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8BA7-365B-4CDB-B866-FC00557EEBE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FB20-B6AA-4753-9B9C-5E5A615B97E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5EE4-3FE1-41DE-AEC2-EFB522DABC7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EC4A-F65A-4AED-B44C-C0BA50DEAAE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B4C8-C494-4B3D-8162-54C7889719A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1B2F-068F-4201-A59D-B6E71C13139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32E2-E349-4D9A-BC1F-54211D2DF40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8567-FFBC-4D39-9E7A-6B3B10ED18B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3604-31BA-4CEB-8FD5-F56C886FE96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ADD6-F4CC-4205-AAAB-FC2C42394A9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D5DC-6261-4C92-A086-538B855CE4E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3479-BF74-4E1C-9238-5B86B680810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E6B2-7D01-4276-AFD2-2736ED57B1F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AF46-1D30-4E00-8564-A06DE0CC60F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F004-CA0F-42F2-9FCB-6E76E44DBB9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FCE4-8842-4391-BE44-1E081C2C8ED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3555-E16E-4934-A019-EE3DEBAF3D8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8D09-8128-453A-A5A6-0557EB867F3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84CA-4E53-4297-9A22-B50180FE77A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788F-70E4-479A-AB49-28304BF5EE1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D3F9-E0FC-425C-967A-49FA60D47E3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3C9B-C46C-4FAA-BF2E-B3BF4E45190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0A65-9983-4B74-91CA-36FBA2B6C13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B2BE-5207-4269-B84C-79179C249C4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8013-2B8C-462C-843B-AB429F14E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43DF-25E3-48B3-8D13-A369AA9D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808D-3D15-427E-8DD2-C35F02672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7B74-E758-40EE-9FDA-C0AB023DA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357F-1105-483C-89F9-9F76D7F8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7BF7-4DF8-4D15-9F43-6657F7F5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DFA8-ADAA-443F-8EAF-D79DFA26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4A22-43B0-4D57-B1E2-FFC90EC3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6E76-2C5F-4806-ADD8-02D6A319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6AA0-6D0E-4831-B697-310FE622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B08F-C2FC-4D0A-897B-99C909CD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37A8-DB7C-4884-87D0-2F6F59E9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DE2E-A277-4050-B13D-1AC45D3BFBF7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变化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biànhuà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변화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那个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nàg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저것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그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刮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uā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불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风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fē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바람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地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ìqiú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지구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病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ì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병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병나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严重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yánzhòn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심각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照顾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àog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보살피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è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을 위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ā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그것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开车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āichē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운전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Arial"/>
              </a:rPr>
              <a:t>晴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qí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맑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纸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ǐ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종이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种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ò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심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나무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些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ē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조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약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拍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23808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pāi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찍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习惯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íguà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버릇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습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跑步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pǎob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달리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一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ígò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모두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전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必须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ìxū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5241600"/>
            <a:ext cx="638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반드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해야한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经常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jīngchán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5241600"/>
            <a:ext cx="638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늘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자주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종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阴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ī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흐리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本来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ěnlá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본래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원래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多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"/>
          <p:cNvSpPr/>
          <p:nvPr/>
        </p:nvSpPr>
        <p:spPr>
          <a:xfrm rot="10800000">
            <a:off x="333000" y="664524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duō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얼마나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也许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ěxǔ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어쩌면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아마도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其实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qíshí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사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完全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wánquán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완전히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永远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yǒngyuǎ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영원히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언제나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预报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ùbà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예보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多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uōyú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흐린 날씨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可能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ěné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아마도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带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à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휴대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发音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fāyī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발음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声音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shēngyī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소리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8T01:07:04Z</dcterms:created>
  <dc:creator>System</dc:creator>
  <dc:description/>
  <dc:language>en-US</dc:language>
  <cp:lastModifiedBy>System</cp:lastModifiedBy>
  <dcterms:modified xsi:type="dcterms:W3CDTF">2014-01-28T01:52:14Z</dcterms:modified>
  <cp:revision>5</cp:revision>
  <dc:subject/>
  <dc:title>슬라이드 1</dc:title>
</cp:coreProperties>
</file>