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8BA9-C07B-4E6A-9A03-B7F3532863E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4615-7F3C-4DC8-BF01-27705A965F3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C6E5-8542-456C-96F8-7E9E48A967A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A607-AF7D-4AD4-8B1E-56894A032ED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DAF5-5AAF-4118-A58F-9E9FC4AB717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518D-3C8B-408B-AD1F-ABA7E0595C6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93C3-BE43-4A4E-9C46-054130C5763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A74F-BDDC-40A2-B17C-96DA82C9724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6AF7-58BE-45CA-AFB5-CEAC26D50C7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6A01-9810-45A6-9BC1-5CECDD0ECD1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6025-1F55-4FF0-B95A-D5B363A0130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BA65-AD13-4B6B-83D5-DF316CAB58A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DF70-E398-43E2-9827-390F09F42AB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8185-DF86-42E6-BC17-808BB882464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246F-57AC-438D-B2EC-A96B9D3F902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0D34-1BA4-450D-AE30-0B5B48CFCC5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DDE0-17EC-44E1-AE57-6A08DB35DAF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F4A4-4656-4E2B-8FE3-D8A368BE512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6C20-46F1-49D4-A4FE-622E061CE9E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F80A-47E1-4947-90BA-FFC32F49A92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3CCB-5DB7-47F8-BB2C-D208AB5970A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DEE9-8160-4966-8146-41934BB9DA2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E105-AAE3-4C49-8CF7-27B58B96700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9A09-D5CF-4515-B981-1B785FE61FB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DE95-A0DF-4160-83F6-E8BADABB736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D45C-ECCE-4C02-8062-7B1700F7BA8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1FD4-1374-440E-B15C-9E2BFD7975F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997D-C076-427D-B2CB-6E428D7B042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5BC9-04CF-40BD-9236-C4337F2756A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4601-3B28-48E6-B4F1-7FBC779C406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F9D4-127E-4BFB-B5D0-591B7729EE8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A9CB-F01A-4245-8AFF-466CC4A3DEF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E679-7411-40FE-AAD3-A7ACE6F9478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1921-057C-4E06-82A7-04998E2C1B7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EF8D-2C6B-45B7-85B7-D23AA062060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F7BD-5A64-4D12-8A3E-23604370035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4993-CD37-4719-9CBC-CF69AB32938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D33B-9493-4186-96FE-DE68E3CF22C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4A3C-E425-4851-8073-41C5221A267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AED5-6799-4E3C-8D45-EB54B4EBFE8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AD65-EC06-4495-A122-2BFA65BEE5D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05C8-4B99-466A-8323-E9B90CDC9D9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D758-3167-4C01-A5C5-1580E0143F6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E10C-3527-4639-B478-53B303AFA9E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6FDB-B42F-442C-ABB4-E6A671A41D8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D8E9-0ED8-4A31-BAED-02F23E242A6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7B34-2C99-4A44-9319-70874BD1AC3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4F71-3F3E-4F02-B9D5-D0E16AB4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AE40-8E7E-4A14-AFDA-06DED693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50AB-753C-46AD-91F7-DF0817FA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4AA1-CDE0-49DE-B8AD-836AF0F4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3B8E-C7FD-4662-8B25-B9B9A490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FC0D-4727-4493-8DFF-61A69E8A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4A29-9F15-458B-B8D4-BEC7430E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C2B3-A240-4037-8B52-47DF4004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4517-1AC4-4CE5-A7BA-674CD875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93C1-5451-4AB3-8132-BA900BB7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CF57-7E69-4155-822B-2F5D0427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AC8F-CEC4-4FFD-8725-B4D41B44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9D65-80AB-457A-8D57-176F24F83BE2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好久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ǎojiǔ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오랫동안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清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qīngchu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뚜렷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ǎ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달리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洗手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654240"/>
            <a:ext cx="62643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xǐshǒujiān</a:t>
            </a:r>
            <a:endParaRPr b="0" lang="en-US" sz="9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화장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教室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àosh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교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粉笔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ěnb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분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jù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마디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편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话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uà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意思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ìs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의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뜻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听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ī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듣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打招呼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6452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dǎzhāohu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인사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不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úji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만나지 않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23808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fāngfǎ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방법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常常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766920"/>
            <a:ext cx="62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chángcháng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자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晚安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ǎn'ā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안녕히 주무세요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如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rúguǒ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만약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熟人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shúré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잘 아는 사람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ě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등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따위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表示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iǎosh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600" spc="-1" strike="noStrike">
                <a:solidFill>
                  <a:srgbClr val="000000"/>
                </a:solidFill>
                <a:latin typeface="Arial"/>
              </a:rPr>
              <a:t>나타내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关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guānxīn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관심을 갖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空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ò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틈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收拾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shōushi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정리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挺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ǐ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매우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房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fángjiān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방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机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īhu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기회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的话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ehuà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하다면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大衣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àyī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외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先生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654240"/>
            <a:ext cx="62643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xiānsheng</a:t>
            </a:r>
            <a:endParaRPr b="0" lang="en-US" sz="9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선생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씨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帮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ā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돕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不错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úcuò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좋다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괜찮다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书法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ūfǎ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서예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点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iǎnxi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간식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과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饭店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fàndi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호텔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식당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哇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ā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감탄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放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àngxī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안심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工夫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ōngf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여가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틈 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工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gōngzuò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일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汽车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ìchē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자동차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所有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uǒyǒ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모든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小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ǎoxī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조심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新闻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īnwé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뉴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照片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zhàopiàn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사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机场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īchǎ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공항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长城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781320"/>
            <a:ext cx="6264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000000"/>
                </a:solidFill>
                <a:latin typeface="Arial"/>
              </a:rPr>
              <a:t>Chángchéng</a:t>
            </a:r>
            <a:endParaRPr b="0" lang="en-US" sz="7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만리장성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京剧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īngjù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경극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讲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ǎ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설명하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2:44:05Z</dcterms:created>
  <dc:creator>System</dc:creator>
  <dc:description/>
  <dc:language>en-US</dc:language>
  <cp:lastModifiedBy>System</cp:lastModifiedBy>
  <dcterms:modified xsi:type="dcterms:W3CDTF">2014-01-28T04:11:22Z</dcterms:modified>
  <cp:revision>15</cp:revision>
  <dc:subject/>
  <dc:title>슬라이드 1</dc:title>
</cp:coreProperties>
</file>