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AF5-3E2B-4D53-878E-B034F0D07F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73F-ACFF-4085-B2F3-94C145AAE1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6B9C-1727-4724-97DD-A62B8B018B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095-264A-4BD1-93BD-1A5A722D1C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496-E8D1-4C05-A475-5DE97FD0AB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B5FF-6096-4F28-8F9E-8634B7776B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18C9-01CE-46AF-A1A7-FF13A4D05B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A224-B35B-4C5B-B095-7FEB696CE0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B52A-AEF1-4478-A2E1-ED38F0F32A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7FB8-A56A-4A71-95FA-D6834E966D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C6B-8A0E-47DE-96CF-F5807124F1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6BE-2C48-4BAB-ABB9-B0A41EE820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B954-B1F6-4ADC-90B8-03C6274324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68F9-764A-4EA1-8B37-5AABA42FE5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1302-3580-4C57-BF0A-F3888CA2A9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2E5A-6046-429E-B37C-8F0A778C96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0653-0FF7-4516-8800-836D136496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6B53-C51C-4F15-AA80-F8E48276E6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859-D4BC-43FB-9063-0E1CBE5496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2EE0-F378-40A8-A2F8-E57AD63C61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9588-98AB-4895-B5EA-13B54629F2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F136-EB39-4AF8-831E-F470CAA6BC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4396-6095-408B-A1DF-49B16841D6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9DF-E963-479E-84EA-F450151BD2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E3D-92F7-4F9C-BE0A-95368A3F58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A72-7AEE-47AD-B521-22C734E576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CD45-8B1D-414E-960C-545C1112D1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455-5BE4-4532-AA97-501C29EC7F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0CD6-1E31-4465-A5F5-E85AECF55C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B8B4-8484-4EE8-9E69-E8B0D232DD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95F-CBF5-4BEF-BDD9-1286A91037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F30-0A15-431E-A631-72CBA66103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AD6-6A3B-4FAC-A803-76A2D3EC97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8E43-66EE-4BC3-9A28-BE6DB4C554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789-48A4-4F7E-A02B-961758EEA6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BB0-8560-4D9F-94BF-24B2BC6FF3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567-EF6A-43BF-845C-24BB7A6C98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C10-C16F-4BEC-8FA8-2222B2D421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E06C-22E0-4112-A08D-C46A2D35B4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9C72-B09C-4155-8C16-C02A2DE188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F9BC-2F81-425C-8DD6-6187C65F07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1CD9-B712-4D4C-B632-9F90838A88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9447-2414-42D8-A040-2686303685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C45-1D78-490A-9430-9ADA5A2549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56D4-AACD-428F-80E7-93F90127D2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9A43-EA3A-47C0-A2BE-F1AFCCF22E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F5B8-E1E0-4D33-9B7C-F370828C72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5495-545A-4F8B-BEF9-A6B7080550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6D2-BC3C-4CD4-83DC-A02B35E6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D27-A724-4612-926A-D5AD1933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31E-F321-4BF7-B624-9B5B50CB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13F-E2B6-43A0-AABE-50229181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6EB-9A46-4B8C-B539-4CA411C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5FF-E935-4F2E-80F6-DBBE2D5C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812-54F8-4C6B-B364-5932183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0C0-D150-44B3-BF48-14A782D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642-7807-43F4-9AC4-83F50382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AF1-DDD4-4417-B3E9-7ED9841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011-F2D6-4173-A1D1-1BA2A002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F97-EA1A-4A54-A747-75A39CFB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D5F-E5D7-42B0-B9B1-35E44E413778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tīngshuō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자 하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층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ǐ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帽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mà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모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로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각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219640"/>
            <a:ext cx="6381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300" spc="-1" strike="noStrike">
                <a:solidFill>
                  <a:srgbClr val="000000"/>
                </a:solidFill>
                <a:latin typeface="Arial"/>
              </a:rPr>
              <a:t>일으키다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300" spc="-1" strike="noStrike">
                <a:solidFill>
                  <a:srgbClr val="000000"/>
                </a:solidFill>
                <a:latin typeface="Arial"/>
              </a:rPr>
              <a:t>생기다</a:t>
            </a:r>
            <a:endParaRPr b="0" lang="en-US" sz="6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ó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부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chúfáng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la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나오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장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최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旁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ángbiā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옆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근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饺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통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ì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礼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ǐw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선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도착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为什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743520"/>
            <a:ext cx="626436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000000"/>
                </a:solidFill>
                <a:latin typeface="Arial"/>
              </a:rPr>
              <a:t>wèi shénme</a:t>
            </a:r>
            <a:endParaRPr b="0" lang="en-US" sz="8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刚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āngcái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금 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人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énk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óji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반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n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식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个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è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0" spc="-1" strike="noStrike">
                <a:solidFill>
                  <a:srgbClr val="000000"/>
                </a:solidFill>
                <a:latin typeface="Arial"/>
              </a:rPr>
              <a:t>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키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크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包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o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바오즈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소가 든 찐빵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火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ǒg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훠궈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중국식 신선로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卖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iǎomàibù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成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70716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énggōng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성공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àxu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대학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民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z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민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àiyá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양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阴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흐린 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흩어지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墨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òsh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먹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b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칠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参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āngu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견학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àn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텔레비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fāngxiàng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qiānwàn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부디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엄청나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建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50760"/>
            <a:ext cx="6264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500" spc="-1" strike="noStrike">
                <a:solidFill>
                  <a:srgbClr val="000000"/>
                </a:solidFill>
                <a:latin typeface="Arial"/>
              </a:rPr>
              <a:t>jiànshè</a:t>
            </a:r>
            <a:endParaRPr b="0" lang="en-US" sz="1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건설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说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ōhuà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表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27080"/>
            <a:ext cx="6264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biǎoyǎn</a:t>
            </a:r>
            <a:endParaRPr b="0" lang="en-US" sz="1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공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精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gcǎ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훌륭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午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ǔ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점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l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콜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04:16Z</dcterms:created>
  <dc:creator>System</dc:creator>
  <dc:description/>
  <dc:language>en-US</dc:language>
  <cp:lastModifiedBy>System</cp:lastModifiedBy>
  <dcterms:modified xsi:type="dcterms:W3CDTF">2014-01-28T04:11:46Z</dcterms:modified>
  <cp:revision>7</cp:revision>
  <dc:subject/>
  <dc:title>슬라이드 1</dc:title>
</cp:coreProperties>
</file>