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7B64-D3CB-44B7-B032-9B44A1F0C3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C7D-3376-45EF-9BE0-334E2279B6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F3E4-2CAF-4C4F-A1E7-7A49059B3F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47F-A102-449F-A216-4A5066C977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0A27-614D-4361-ACC4-1AB3DE4742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C371-A8F7-4AF3-B27F-9DF44BDEF7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D9EF-8E6C-40F0-9194-2241C12E96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C61D-18A8-4069-8B74-5C417A78F7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F8C3-B6F2-4FCB-9CA9-B29682CB6D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ED73-C605-4502-A46C-322649D152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C146-DCC8-40C5-8D27-0645DE7350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AE84-788E-4207-92CF-3AB6147EBDE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10E5-C3DA-4A27-B1D7-8E9E1CF1C3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6C82-E91D-4A6C-8F7C-3C773C82E9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6108-EB33-4AB2-95B1-E2587A00F4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713F-2CD8-4ED9-A57B-BE54DC5289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445C-72B4-4A91-AF1E-CBEF8E1F8D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A32-CB29-49E9-A950-2635201A1C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2639-F1A4-44FB-A958-DA684E1528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0015-929A-4690-BB7D-663D495A9F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EB14-58BB-4FEB-94F4-B42CC93169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5C09-A0FE-409A-A4F6-91B17FB2D1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1CE-542B-47EF-B938-95AFDEE1E2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98C0-B959-4204-8E41-62C4830B2E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5515-74B0-4E18-9D68-0A84739D77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62C-FD51-47EF-B625-3B6C739DD6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FC64-8EE8-4E97-87F8-0F2017E85C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3251-EFCD-42BF-80C2-E1FE38F5A1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26F1-E826-4DD8-A83B-15981A0E7D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9411-8A1F-45C3-948B-33F9248608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E523-8B24-4D49-B58E-9CD4F21160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7B0D-F012-4CCE-9EAD-681908B084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A8F5-6D1E-4296-8061-8DEE05812A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180-AD94-4359-87E9-D3411BE6CB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BAD7-9045-4CE5-B354-A4145465B8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1244-952F-435E-8A64-BCB33A39FD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C552-D0F7-4B21-9903-5054F2DE61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C9A-ED2A-47CB-BA2E-B1074628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91D-09FC-49F2-82D4-B77E4C88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CC5-7051-4994-93DE-3E483F44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F1B-6AC4-48C2-ABC6-5F625C79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1A5-55DF-45D7-A1A5-AEFCF045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EE1-E3B7-42AB-8663-6557AE65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34C-F2B1-4643-A41F-477FCB27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325-9F95-4E13-8945-CDF004F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CD1-EE6C-4AFF-8095-58FFA63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633-38F8-4943-9CAC-9DB523F2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E97-97BF-49C3-BDDE-AF3F76A4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946-BEE1-4217-8D39-59D029B7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16B-B5CF-450A-A0B5-3BAD9B344055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心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l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음 속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嘛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355720"/>
            <a:ext cx="6381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어기조사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당연을 나타냄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b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보통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参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nji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참가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高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āok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355720"/>
            <a:ext cx="6381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000000"/>
                </a:solidFill>
                <a:latin typeface="Arial"/>
              </a:rPr>
              <a:t>중국의 대학 입학 시험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多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dàduōshù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대다수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省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ěngfè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성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省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험 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每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měiniá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하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처리하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上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728760"/>
            <a:ext cx="6264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hàngwǎng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인터넷을 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í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급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认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rènzhē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진지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明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míngniá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내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iǎoxué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초등학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初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ūzhō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학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当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āngrá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당연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好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ǎohāor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努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ǔl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력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랑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옮기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帮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bāngzhù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돕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重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òngyào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요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毕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ìy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졸업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u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입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쓰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끼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잃어버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访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fǎngwè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문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负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z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책임지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干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相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iāngxì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믿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ìj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신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기조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愿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àny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소비하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쓰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me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렇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5:55:50Z</dcterms:created>
  <dc:creator>System</dc:creator>
  <dc:description/>
  <dc:language>en-US</dc:language>
  <cp:lastModifiedBy>System</cp:lastModifiedBy>
  <dcterms:modified xsi:type="dcterms:W3CDTF">2014-01-28T04:12:05Z</dcterms:modified>
  <cp:revision>4</cp:revision>
  <dc:subject/>
  <dc:title>슬라이드 1</dc:title>
</cp:coreProperties>
</file>