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799AD-09BA-4A01-8666-75A3769B023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52B1E-F988-4789-9060-EF0DB6D6341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B1B8B-C102-4D48-B2CD-B0C98F000A5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EF8BD-1B64-48A8-8F1C-FF23BF50F57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71ABC-6FFD-4ECD-9D62-98BA6454C20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01EB2-4856-4D73-A24E-8311CAC5845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F90FB-6DFA-49E2-8685-09BBA126730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0085E-8162-4C59-B4E1-59700AF0C28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E2509-5EED-4AA3-81A4-70E45E7B321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41419-4CA7-49A5-9203-F6221BA28AB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1F7FE-7673-43BD-B733-994B1EC0B2D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E22F4-9B15-4D78-867C-E00F3D777D8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56A3C-DC9C-4C70-B6C0-A4BDF180709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ACB4C-BED0-42F2-A558-AF2BE9A7F09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40C4D-A32A-4881-A4BC-8DD793649AB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D2F8F-ABE8-4BC2-925A-E92A5675B0D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51E5E-E00F-434E-AF39-90BE30DC64A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41940-CEAD-4A09-BE34-2D2D5C68CDA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72F5C-B9AE-4D1A-8B8C-127F63055D3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12372-5609-4D4D-9495-CB5CFBACB3F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5A761-467F-4A31-BF17-6C4CF8CBBD9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FA3E3-F952-4BE7-AF91-2B959981358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57E7B-C765-4FA0-BFF0-912F3244E04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A6C28-2C04-4A49-B055-74F28217AAB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8AFCB-6303-449D-9CCA-BB496CE920B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B2807-8B48-4BB9-BF34-4842147E904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6C177-3E06-4A8F-A939-B5D9A7837CD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9E94-E526-4828-9FE2-1B33B5D6EC0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30EA1-500A-4376-995E-924F873ECC5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61DA6-7CD9-48FB-A575-451A3EFA620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F5B2D-D8A5-43A1-B69F-0F67B6987E3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2F27B-B6C0-4EF8-A79B-364A731FC5C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BE2ED-C6CB-4DBF-B39C-412A3BDE2DA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1797B-28D4-41AC-8341-95689759393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54E5-EB78-41A2-B96E-525A12F97B5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3F4B6-6E4E-4A71-AC9E-3C0D6493427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0BEA4-445D-402D-8F53-8AB152FDBAC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ED71-35C5-4336-A35C-F0C7DC0AF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86EC-97E5-48AE-A846-467F21B8C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0BDF-A4A7-462A-87CF-DB15FB278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E461-8176-4A90-ABFE-73A1B7E52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0105-B78C-4CBF-923B-581988085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AB9A-A557-4820-A9BC-68013E08A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D86D-AC52-4337-A9F3-DDED60091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6875-B4E2-4A9D-BEF7-579185EE2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3D35-BE57-4A64-B345-282AF1FC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F28D-B5AF-470F-A523-FDA57D88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D1CE-CF40-4B6F-B9F1-C213964B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1AF9-9331-486B-89E9-CEE7943E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E2A64-FBC8-4D97-9DE2-AC5AF1D4290B}" type="slidenum">
              <a:rPr b="0" lang="ko-K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边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iā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가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변두리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拿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ná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가지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只是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hǐshì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단지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同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tó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같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而已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éryǐ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뿐이다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日语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Rìyǔ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일본어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普通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pǔtō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보통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苦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kǔ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쓰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客人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kèré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손님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完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wá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동작의 완료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要是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àosh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만약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坐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uò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앉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主人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hǔré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주인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以为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ǐwé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8"/>
          <p:cNvSpPr/>
          <p:nvPr/>
        </p:nvSpPr>
        <p:spPr>
          <a:xfrm rot="10800000">
            <a:off x="215640" y="5090760"/>
            <a:ext cx="638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라고 여기다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准备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zhǔnbèi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준비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够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gòu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충분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剩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hè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8"/>
          <p:cNvSpPr/>
          <p:nvPr/>
        </p:nvSpPr>
        <p:spPr>
          <a:xfrm rot="10800000">
            <a:off x="215640" y="5090760"/>
            <a:ext cx="638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남다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남기다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情况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7"/>
          <p:cNvSpPr/>
          <p:nvPr/>
        </p:nvSpPr>
        <p:spPr>
          <a:xfrm rot="10800000">
            <a:off x="333000" y="6690600"/>
            <a:ext cx="626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000000"/>
                </a:solidFill>
                <a:latin typeface="Arial"/>
              </a:rPr>
              <a:t>qíngkuàng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상황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一样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íyà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같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安排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ānpá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준비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窗户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chuānghu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창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擦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cā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닦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凉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liá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차갑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打开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ǎkā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열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记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jì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기억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事情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hìqi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일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趁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chè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을 틈타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丰盛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7"/>
          <p:cNvSpPr/>
          <p:nvPr/>
        </p:nvSpPr>
        <p:spPr>
          <a:xfrm rot="10800000">
            <a:off x="333000" y="6690600"/>
            <a:ext cx="626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000000"/>
                </a:solidFill>
                <a:latin typeface="Arial"/>
              </a:rPr>
              <a:t>fēngshèng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풍성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厨艺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chúyì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요리솜씨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帮忙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7"/>
          <p:cNvSpPr/>
          <p:nvPr/>
        </p:nvSpPr>
        <p:spPr>
          <a:xfrm rot="10800000">
            <a:off x="333000" y="6690600"/>
            <a:ext cx="626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000000"/>
                </a:solidFill>
                <a:latin typeface="Arial"/>
              </a:rPr>
              <a:t>bāngmáng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도와주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香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xiā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향기롭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勺子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sháoz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숟가락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除了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chúle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외에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汤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tā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탕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국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以外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ǐwà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외에도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筷子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kuàiz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젓가락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8T02:20:51Z</dcterms:created>
  <dc:creator>System</dc:creator>
  <dc:description/>
  <dc:language>en-US</dc:language>
  <cp:lastModifiedBy>System</cp:lastModifiedBy>
  <dcterms:modified xsi:type="dcterms:W3CDTF">2014-01-28T02:57:59Z</dcterms:modified>
  <cp:revision>4</cp:revision>
  <dc:subject/>
  <dc:title>슬라이드 1</dc:title>
</cp:coreProperties>
</file>