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8DCB-9631-49D0-AD54-B4D7DCEB8BE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0969-99D1-457F-88B1-296A967310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E38E-916C-4ABA-B014-FBA931D91C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F1DE-6554-42C5-8A95-7FAE65A8338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E24D-AA38-4DFE-901C-649DC4B8C1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A49F-776B-4105-B065-A66EF468F9E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A8E8-1A3C-48FD-AA83-DB9B37D799C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4A02-6672-4C7D-9028-53377FF438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16E7-8015-4863-9714-F8DAAE5A865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32DB-2FEE-4592-8254-A99D997AB8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3AFE-5E84-4C83-898D-846B4CD7006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517C-04E6-42B5-AE1A-8B6F054B0C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473E-F0DD-4F63-AB2E-D6EDC0E054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C70C-F60C-4092-845A-77A68E873E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945F-2BD0-4A0C-9BD0-072FDB0DC5A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7251-911B-426B-BA5A-0D096CE1216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3A2A-C964-40E9-869B-E38AF970ADC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B0B3-33C5-4ECC-8C63-558064D3B7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63D5-8A3A-456F-8688-BD7ABE3995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22A3-4B6E-4B80-9EDC-C76A20B53CB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3F23-E2BF-483E-A641-2569041FAC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E4AB-535D-433D-BAA8-FF554C888C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52FA-804C-4D4D-B024-9F59E18C8E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692F-B465-4B06-99F6-FC8575B462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A6BC-A16F-4CC7-B0B9-0A809274F5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DF08-9878-4844-AD17-F7EBFE49E2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B472-4E3E-479C-894C-5165817B5A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2A48-4D90-4F4C-ACB2-A76BFE3561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F24B-46DF-419C-AEEF-8E2722A443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4EB6-916D-42FB-8F67-916697E81A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A448-6619-4C28-BBBA-F5785B207CD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E78E-1115-4BAA-9D44-F65281E1A2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A319-1D93-43A9-A943-69090F1619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95ED-45F8-4B9F-98C9-6F09C9A5608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B65A-3DA1-4A8D-BAD6-F35160135CF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AA59-BC62-460E-9B9C-9950926BCD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EDCD-51D7-443A-8A5E-331A4A0944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4CBB-F4D5-4717-B2E8-399CB6C86D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6D3D-8BFA-4CA3-B3B9-0B64024690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320F-8A90-4B88-97C8-D8DFE94C9D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820B-19E0-46E3-ADE6-7266C5976F4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DC23-6D4E-419F-98A4-9D0BA93A84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D2E4-801D-48DA-9EDF-9C7A943E2D7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3BB-7855-4C6F-851C-78EF09D2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9A1-394D-496B-9111-F9DEDCE1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8D3-DFA9-482A-A492-26AB8C92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75E-A546-4A7E-8B8E-046E2A55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641-B1D2-47DD-B442-2BEF1448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E9F-B083-46E9-9AF3-876E08BD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A66-CA96-4F57-BB17-237AD238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B1D-F7B6-4959-A53D-9B56EDE8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0F2-9BBD-4205-8CFE-B8E81A9F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5D8-933F-45DE-A8D6-CED7EBB5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8B0-25F6-4CE2-9538-6CB05FF8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60E-85C6-4050-83B2-DAEF9431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40E9-5A10-4CF5-BA73-EF3481EFBB4C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麻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áfa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귀찮게 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调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427080"/>
            <a:ext cx="62643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500" spc="-1" strike="noStrike">
                <a:solidFill>
                  <a:srgbClr val="000000"/>
                </a:solidFill>
                <a:latin typeface="Arial"/>
              </a:rPr>
              <a:t>diàochá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조사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讨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ǎolù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토론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수리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电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iànt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엘리베이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上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àngxià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쯤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량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首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ǒu'ě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서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首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ǒud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수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已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ǐji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zh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úd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뿐만 아니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外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wài</a:t>
            </a: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와이탄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지명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发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ādá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발달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而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érqi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게다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干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ānjì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깨끗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使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ǐyò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용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交通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jiāotōngkǎ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교통카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单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dānché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편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极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í l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매우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몹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ě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매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마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充值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hōng</a:t>
            </a:r>
            <a:r>
              <a:rPr b="1" lang="ko-KR" sz="9600" spc="-1" strike="noStrike">
                <a:solidFill>
                  <a:srgbClr val="000000"/>
                </a:solidFill>
                <a:latin typeface="Arial"/>
              </a:rPr>
              <a:t>zhí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j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충전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报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0" spc="-1" strike="noStrike">
                <a:solidFill>
                  <a:srgbClr val="000000"/>
                </a:solidFill>
                <a:latin typeface="Arial"/>
              </a:rPr>
              <a:t>bàomí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신청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èl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东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ōngx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물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ǎ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생기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聪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ōngmi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총명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不好意思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bùhǎoyìs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미안합니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b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편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哈尔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Hā'ěrbī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하얼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ǎ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키가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작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ǎ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늦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i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밝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ē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검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어둡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比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ǐji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비교적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목이 마르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ǎ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부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ā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더럽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먼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南京东路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163920"/>
            <a:ext cx="62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ko-KR" sz="8000" spc="-1" strike="noStrike">
                <a:solidFill>
                  <a:srgbClr val="000000"/>
                </a:solidFill>
                <a:latin typeface="Arial"/>
              </a:rPr>
              <a:t>án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jī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dōng</a:t>
            </a:r>
            <a:r>
              <a:rPr b="1" lang="ko-KR" sz="8000" spc="-1" strike="noStrike">
                <a:solidFill>
                  <a:srgbClr val="000000"/>
                </a:solidFill>
                <a:latin typeface="Arial"/>
              </a:rPr>
              <a:t>l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먼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然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ánh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그리고 나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g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대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小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ǎosh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8:15:39Z</dcterms:created>
  <dc:creator>System</dc:creator>
  <dc:description/>
  <dc:language>en-US</dc:language>
  <cp:lastModifiedBy>System</cp:lastModifiedBy>
  <dcterms:modified xsi:type="dcterms:W3CDTF">2014-01-27T08:56:43Z</dcterms:modified>
  <cp:revision>6</cp:revision>
  <dc:subject/>
  <dc:title>슬라이드 1</dc:title>
</cp:coreProperties>
</file>