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DBEF-6039-499D-85EE-90B893E438D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D604-636B-4CAD-A3E2-01EF95DA4DB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5584-F272-4E40-B1E6-16DD02CE424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8F2D-C338-4F41-9FA1-466953018D4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DCA9-6270-45BF-85EB-C27DCADE7E7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0D83-590D-4BF9-B2CD-393F336FFC3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A37F-D13C-4F2A-9265-2E7622F4CA5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49F7-36E7-4A04-8316-80DCF437DCE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7F62-843E-49D1-AE90-3958369C940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F06A-D7BC-4CE8-9647-598AE64A17B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0F08-B0AA-438E-BDDD-B29AD14D600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3732-B776-4AE7-A4EF-C4DEBCE4D4E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92A8-24C3-418E-BB7A-A8F4E728FB8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B35A-F1D3-4DA6-BF05-30C865149BF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AF08-1030-4CB4-9407-06B12B47D5A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06C3-D82D-46D7-8DF5-97CEE96D16C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A6D0-0AE1-48A0-A79D-7A5F688F792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E651-8F9E-4FD2-A2BE-20A2930BEFF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9E5C-32B0-4D54-B4D2-4743DA4739D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FE76-966D-4DFF-B222-C408CDCB270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E3B8-4BC1-4A59-B71C-9C89F86BDC1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82B4-78DD-4FCD-8908-3D0AE41FC51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0859-5746-4003-B9CA-66B5325B741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4250-2160-4ADD-B078-7A82E61D4C2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1026-5DDD-4446-9FCC-F64200BE671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DA19-49E0-437B-BBE6-CD68B31A5E2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8F94-DBB7-4923-AA94-AFEB776C9DC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46A8-BA96-424F-B134-318DFFFB014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DA72-817B-4A08-9CA7-F0452199DD6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83EC-3838-435E-966E-542D50DB5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181C-BE11-4A34-9799-DC9FC185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9C34-3F2D-414D-8EC4-1B6AC6984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836B-5041-4B02-AB8B-7AEE21041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30CA-AB2D-4B24-902C-2F3A295B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6D52-914C-42F3-9974-83282D5D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634E-B0EB-4D07-8777-62C6E670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2723-31F7-4571-BCD2-34559DB6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1584-0961-40DB-8F83-92FB5A59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9098-0EB8-4371-8581-66F6370D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63F0-9108-48A6-A18B-43043D6F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240B-9F53-4BD7-8847-7D5F74D9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AE64-0C9E-4CA4-B400-96F84D910DE2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2095200" y="6389640"/>
            <a:ext cx="28112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ǒ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나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忙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á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바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呢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어기조사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의문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她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ā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그녀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是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이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哪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nǎ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어느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国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uó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나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韩国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690600"/>
            <a:ext cx="633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Hánguórén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한국인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都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ō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모두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吗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어기조사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의문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中国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805440"/>
            <a:ext cx="633564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zhōngguórén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중국인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叫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à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나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学生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690600"/>
            <a:ext cx="633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xuésheng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학생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日本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539760"/>
            <a:ext cx="63356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Rìběnrén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일본인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美国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690600"/>
            <a:ext cx="633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Měiguórén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미국인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朋友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539760"/>
            <a:ext cx="63356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péngyou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친구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体育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ǐy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체육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体育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ǐy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체육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音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īnyuè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음악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贵姓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uìxì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성함</a:t>
            </a: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존함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姓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ì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성이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이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什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465600"/>
            <a:ext cx="633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shénm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굴림"/>
              </a:rPr>
              <a:t>무엇</a:t>
            </a:r>
            <a:r>
              <a:rPr b="0" lang="en-US" sz="9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굴림"/>
              </a:rPr>
              <a:t>무슨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名字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íngz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이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认识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rènsh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알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Arial"/>
              </a:rPr>
              <a:t>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ě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매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Arial"/>
              </a:rPr>
              <a:t>高兴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539760"/>
            <a:ext cx="63356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gāoxìng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기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也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ě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도</a:t>
            </a: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역시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他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ā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그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4T01:14:24Z</dcterms:created>
  <dc:creator>System</dc:creator>
  <dc:description/>
  <dc:language>en-US</dc:language>
  <cp:lastModifiedBy>System</cp:lastModifiedBy>
  <dcterms:modified xsi:type="dcterms:W3CDTF">2014-01-24T02:35:31Z</dcterms:modified>
  <cp:revision>10</cp:revision>
  <dc:subject/>
  <dc:title>슬라이드 1</dc:title>
</cp:coreProperties>
</file>