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677-8012-46D5-ABE4-DEDC734261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B526-E95A-428F-958B-3BFDB80383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10A2-A271-4A3A-AA97-69AFA1C809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6BB7-60E7-4D54-8000-58A95C2821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071-15E3-4B29-87ED-065B51445C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3675-75B8-490F-B325-8AEBF4DB42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51E-96DD-48DF-89D8-31B4D8E4D7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252-B9F0-4BB5-B1C2-BA531B9E1D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600C-F45E-4EE8-BD45-547E7B6827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2C6-BD94-4EF2-8008-C058EB1B79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8670-1C4B-4135-B5A3-2508F3E1CC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CA24-965C-4403-98F5-999AC7EB4B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405-DECB-4287-B58E-FBD8517DA3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FAF-07E1-4C73-BDB1-A6F8DC084F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FC3-79F5-4774-B3E0-251C1766F2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036F-802A-431E-89D0-833D0C8C35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7E5-709E-495C-B2C4-E0FFD0CE58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09D-7C51-442B-ABC1-98AA489544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0857-70FC-4E78-8C80-48799831B5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F7BF-5B6D-43B3-B06C-18F94580D6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1F0-D788-4690-A4DF-111CF1E124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2C07-D05B-4225-BB47-FAC75BECCF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F7B-67A9-4251-A5F9-3E74E352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F2B-9994-4C79-B021-CBAE7314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007-277D-418D-B007-64DB447A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4F5-8346-454B-AB92-9D18E586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AF8-D053-4BCD-AF8D-054B55B9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739-AEB9-4D1F-AFE8-137F4112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CC2-0B36-4454-BC35-0AC424B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2AB-3474-4A53-928F-E429F90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886-3DC9-4CF9-B0D5-D6D3F5C3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B48-6C45-4A43-90C0-D15602D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C94-1630-4C41-AD60-3B6AF88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A83-2BCA-47C9-9F88-98BD350E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17E-7EEF-404A-B85F-FE90B3003E7A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春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nj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중국 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wènhǎ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부를 묻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m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부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赶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ǎnkuà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어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빨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寒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hánj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겨울방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旅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ǚyó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행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新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开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ix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时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ího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에 대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非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fēicháng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865400"/>
            <a:ext cx="638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시간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기간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날짜가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su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할 계획이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ōnggu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ē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과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家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가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过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uòniá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설을 쇠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러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0:39:43Z</dcterms:created>
  <dc:creator>System</dc:creator>
  <dc:description/>
  <dc:language>en-US</dc:language>
  <cp:lastModifiedBy>System</cp:lastModifiedBy>
  <dcterms:modified xsi:type="dcterms:W3CDTF">2014-01-27T01:19:55Z</dcterms:modified>
  <cp:revision>5</cp:revision>
  <dc:subject/>
  <dc:title>슬라이드 1</dc:title>
</cp:coreProperties>
</file>