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2E3C-7BED-40A3-BCCD-CC40C37CFF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AEAD-E1E6-4E48-8AE8-A89519CC8F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D67C-6875-4773-BE14-B9300A4B59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6E99-0145-444B-A83B-BC7487B35BE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A512-E8C0-4B1C-9DE2-414CC8DAC4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6154-9B5A-4E57-98C1-97B90034D2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776-2BED-42BE-BB4C-A26009DF45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3CA-143A-4EDF-A4C9-D1AF2BC071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3C0-E150-4D83-807A-DCC134A1DE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35B-1058-4DFA-9F4C-A6921FA6EB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80F2-4E28-4CF4-B4CE-8D52A9F0AD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CB1-5913-4266-B98C-9685249F62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C135-8D35-43DA-85D9-7ECA95EFB5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CD0B-FC22-4861-8E27-8D6C439AB1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A166-8586-4B16-A044-CFC4F8C71E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9EE4-35DD-4697-B1D3-30E75FF919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78B5-CA53-4742-A3D5-B9581F70B2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22C9-2FC3-4712-939E-CAE50A8CA6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C012-2D93-4052-99AB-C6704C48E4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BD28-DFE5-407F-A96B-729460490F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C1C1-B2A1-48E2-A64E-7303AB561E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6027-53C1-45F6-B70F-0D6B36D800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C2B-904D-4CC6-9772-44B16A551B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AF9E-990E-4796-842C-775FB65328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C278-DDFE-4969-973D-7C9CC90AA5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C8C5-9C4B-4A4D-AB74-33289152F7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0D2F-E1BD-459D-BA93-C6E422C565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A1C-32D9-44B2-A780-F69D81E677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EAEC-D477-4CAC-92C6-4AA42B614B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5003-93F7-4018-8213-53CCCB7C61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60B4-D329-455B-A849-9E780B6E6F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04A5-BA19-4B2E-B1AA-79E362FF4D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E1B6-30A6-42CC-97A9-1D687D4BB9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677-CAF3-490E-B57A-17D96985FE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FD76-DE18-444E-A9F7-864F378E2E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FB2-7121-4560-82C2-87552B56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8B2-D759-45C3-AD77-CDE0C969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D5E-81F6-4C01-B71D-13B9A4F7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ADC-D253-4A4A-BFFE-F224F7B8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23F-4CE3-4967-AC3D-AC4C4479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91F-233F-40B6-9D91-A8138C83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CC4-FE29-4A12-921E-947A3D92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1EB-FD5A-4207-800D-7A41085F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EA7-5EE2-40EA-8527-5E58ADB8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30A-1F5D-4B83-9890-FE3F0E11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26F-A0C3-4C99-B673-3C28162E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74E-E226-4494-A996-A5E2B5C2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7C05-EFB1-461C-8262-64D6FAD9C21B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2095200" y="6389640"/>
            <a:ext cx="2811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집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姐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ěji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언니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누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éiy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없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명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孩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女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ǚ'é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정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'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귀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h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이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이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妹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èime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여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살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历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ìsh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역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얼마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나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연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爷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éy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아버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奶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ina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머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姥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y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외할아버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姥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la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외할머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叔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sh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삼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漂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piàolia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예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멋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j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gāozhō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고등학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식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1412640" y="6389640"/>
            <a:ext cx="3816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누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爸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b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ām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엄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弟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d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남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과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2:35:48Z</dcterms:created>
  <dc:creator>System</dc:creator>
  <dc:description/>
  <dc:language>en-US</dc:language>
  <cp:lastModifiedBy>System</cp:lastModifiedBy>
  <dcterms:modified xsi:type="dcterms:W3CDTF">2014-01-24T03:05:50Z</dcterms:modified>
  <cp:revision>3</cp:revision>
  <dc:subject/>
  <dc:title>슬라이드 1</dc:title>
</cp:coreProperties>
</file>