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4453-1C17-41CF-94B2-1E62C7104D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3CD8-7FBA-4391-8523-2C9F8A82BA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D7CC-BA32-4A10-B4A6-6E51A8D287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F6F2-6438-4CDE-9E44-47B4E50B64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4A6C-ED59-42C4-8EC5-92978F474C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4783-16F0-45AA-913E-0481ED76F9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6ED4-CC8B-4BF0-A67B-9533DBFAAE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9FE0-5932-4AC6-B74F-CA9E4414F0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257A-8861-4812-892F-934ED769D5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CA2A-F508-4A04-BCC2-A726799BE5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EAD5-AFB1-4A32-9414-31B67CF853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DF0-C067-43C6-B50F-0BFC2115D2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1A92-6E39-4062-9FE0-81A74FC90D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A080-8206-4042-AC7C-83558AD771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80A-FD48-41B5-855E-9D6654EBE8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9C6B-ACAA-4927-A303-589838540D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694B-2FA4-434D-AD39-AA104B00C8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942B-6844-4D98-9DEB-E69A45A936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32D2-3F4B-4736-B4C8-891128321E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9FC8-D72D-4BDC-8E53-62A748C58A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1A4B-BDBB-49D3-AE81-517FABB4C2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11AB-E2E5-4D88-A980-0262193D40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5409-E712-4CDC-829F-20685723E8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989-68A5-4D34-A714-6F7487BBB3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15FF-0B74-4D26-BBDD-4EA202FF6E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0CB-BC98-44EB-A4CC-F4E82B64E0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6BB2-38FB-4DD0-85BC-3A8F2883F2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DD8-54B7-452B-83C7-3CDAF67DA7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6344-7D80-49DC-B7BD-01E37C97DE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D00F-82A2-41A8-8ED8-ECD1E49401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71C0-2987-44BD-931C-AF537B8520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C5EB-6A46-4109-AD96-7B93605C7D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CD74-EFBE-49DF-A7A7-BB1BCAFCE9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1FFA-F4CA-4ABD-8595-380279A85B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4E0B-63AB-43D2-B101-A5CAB36BF5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24B3-3EBF-45A1-B907-991ED204FF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29DF-D13B-4302-9F64-FE1F292FE6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45D2-BBFC-4B8E-BDAE-33183C7CCD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A584-613D-45EA-820A-0F71798535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F08F-2008-4473-9FDD-1198D6C3CF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57E4-EE47-4B97-9892-F6CBEE1598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B895-80E3-46A2-906D-6535A98372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C450-0365-41EE-B29F-2AEE9FACBB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994-7907-4E33-B822-A3BEBDE4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0B7-4B07-47D3-B427-21967FFD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5C6-FACB-4B90-B4CF-357FB755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0EE-3357-4BEB-8A59-B8B1470B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6E5-3F34-4E09-83B6-F0AE38CF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293-619B-4A31-B083-779B36FB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78E-739B-4CFC-8F40-EF2338C1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7EE-EC53-4854-B746-76316D24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A7A-1F12-4FCA-9CCA-A12C73FB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D6D-0991-46B2-940D-90698094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AEC-6972-402B-A90A-78BDDC6C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696-99B0-4B7B-BAA4-20B0472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30DF-CECA-4B4C-874A-E9FDF2D8F0BD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请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qǐngwè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말씀 좀 묻겠습니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로부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ǎ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bú t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그다지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않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글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읽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ǒ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왼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돌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른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t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지하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医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yu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병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깝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40644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东大门市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404280" y="4997160"/>
            <a:ext cx="626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ōngdàmén Shìchǎ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동대문 시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교통수단을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타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方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fāngbià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편리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需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ūy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필요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길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íj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左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ǒy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량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류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北京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5752440"/>
            <a:ext cx="62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Běijī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8284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베이징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十字路口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shízìlùkǒu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거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公共汽车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5922000"/>
            <a:ext cx="62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ōnggòngqìch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128920"/>
            <a:ext cx="6381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500" spc="-1" strike="noStrike">
                <a:solidFill>
                  <a:srgbClr val="000000"/>
                </a:solidFill>
                <a:latin typeface="Arial"/>
              </a:rPr>
              <a:t>버스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火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ǒc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飞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ēij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비행기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항공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q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ìxíngch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전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맞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há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车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hēzhà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류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怎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ěnm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떻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租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ūzūchē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택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128920"/>
            <a:ext cx="6381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7500" spc="-1" strike="noStrike">
                <a:solidFill>
                  <a:srgbClr val="000000"/>
                </a:solidFill>
                <a:latin typeface="Arial"/>
              </a:rPr>
              <a:t>번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500" spc="-1" strike="noStrike">
                <a:solidFill>
                  <a:srgbClr val="000000"/>
                </a:solidFill>
                <a:latin typeface="Arial"/>
              </a:rPr>
              <a:t>버스 노선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z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行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íng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행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z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곧바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쪽으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앞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5:15:58Z</dcterms:created>
  <dc:creator>System</dc:creator>
  <dc:description/>
  <dc:language>en-US</dc:language>
  <cp:lastModifiedBy>System</cp:lastModifiedBy>
  <dcterms:modified xsi:type="dcterms:W3CDTF">2014-01-24T06:10:13Z</dcterms:modified>
  <cp:revision>6</cp:revision>
  <dc:subject/>
  <dc:title>슬라이드 1</dc:title>
</cp:coreProperties>
</file>