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7F1E-B4AA-4583-81D3-8987A8B68F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2CCD-7F1E-447D-8A46-F8BA021E320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C60A-C10B-49C9-8CB3-8678A09468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8CDD-4A2E-4AD2-B252-A85FB65081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CB48-045D-43EF-A9C4-DA13DCFA36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4C12-0FCD-4256-81F2-A407429557E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742B-9F49-4AF4-A1B4-34D8E492882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F6F1-B182-4648-AC3B-25B7E502C06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721D-6467-43C2-ACC0-DE5C10889E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4883-BF8A-439E-A0F3-048537070A0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4D64-B2C5-4C4D-A819-7E5CBB3711A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3E18-0807-4CD8-BB9E-DD0A5E9D313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4887-63B6-4210-B889-30580B5056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DFF5-0906-4487-AE22-622C81DF8D6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F4BF-0107-4506-AB8D-27FA72EDACB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0255-52BF-477F-BD2C-EFB79A854D8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15B4-A711-41CF-8E1D-857B365A3CB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8164-2D86-498F-B2C9-3E206B1BEB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4586-CA86-44FD-8754-AD793317CA7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F527-67EB-4517-8068-47CDE0FA2E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271E-51DF-4B80-A719-606CAD0145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BC69-EA4F-4240-A04A-1A7B103793E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842F-97B1-4CCF-9CEF-2FB52E97DC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658F-32D4-4FEA-A2B8-8D5F8DE8917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C36D-FB8B-42FD-958D-A59ECB5B51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5099-8B63-46A9-A4BA-DFF0E09C4F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6DDC-CFAA-4505-978C-6731C33780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0CDF-FE75-4DD6-A344-D529A47A7A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1FE0-838B-4FD1-BCE2-7389E157148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DB29-8CD2-403D-8987-F3900527CF2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5B01-DB65-44FF-8E4F-DCF169579AC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02DC-C0DD-4BEA-8C5A-47F34CD2865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34C0-C30B-4AF7-B2F7-86896CB7A5F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06C0-4C3D-4BDA-AF99-F7F9FD26100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56DA-20B9-4920-B9C6-E0946B01CBC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4E31-3856-40DC-B58C-648BB2AA73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D9AF-4A79-4CEC-BB5A-DE353549B0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82DD-D80C-491B-9B1A-6386367132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DB82-E366-43FB-9874-875576780E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BFC-2D9A-4E48-BD17-93A69C1C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C37-426B-43E9-B7A2-15B3C00F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089-DBB0-4018-86F0-F55DC2BC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5D0-E7C6-4E22-9742-F3A26C64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FC2-63CA-471A-B3E2-75DF8034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EC55-8DF6-437D-8E67-DCE43DB8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6E2-8688-4A11-8AE4-D08CFEFB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444-0397-43D0-A7CF-C24CDF25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58F-33A0-452D-A0BE-79B3FC21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C53-9254-4D5F-99DA-60C5AA57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EC00-F027-41E4-916D-848E65A5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50C-CCC5-4E8D-BA10-3262EDD7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A02D-1326-446A-8ABA-86179340C0C1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ō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이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벌써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à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맵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味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idà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맛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á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짜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i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주문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요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á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86920" y="5025600"/>
            <a:ext cx="638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어떤 동작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행동을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하다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鱼香肉丝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012720"/>
            <a:ext cx="62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0" spc="-1" strike="noStrike">
                <a:solidFill>
                  <a:srgbClr val="000000"/>
                </a:solidFill>
                <a:latin typeface="Arial"/>
              </a:rPr>
              <a:t>yú</a:t>
            </a: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xiāng ròusī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위샹러우쓰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宫保鸡丁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127200"/>
            <a:ext cx="62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gōngbǎo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jīdīng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궁바오지딩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á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또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더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ié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다른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별도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고프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wǎn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그릇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米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mǐfàn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쌀밥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麻婆豆腐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728760"/>
            <a:ext cx="626436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Arial"/>
              </a:rPr>
              <a:t>mápódòufu</a:t>
            </a:r>
            <a:endParaRPr b="0" lang="en-US" sz="8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마파두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还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áish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하는 편이 좋다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商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shāngdiàn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상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píngguǒ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í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香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xiāngjiāo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바나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炒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chǎofà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볶음밥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有点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yǒudiǎnr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조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糖醋里脊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tángcùlǐjǐ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탕추리지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iá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달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uān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è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피곤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kù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졸리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bā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포장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炸酱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5937120"/>
            <a:ext cx="626436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Zhájiàng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miàn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짜장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牛肉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5860800"/>
            <a:ext cx="6264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Niúròu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miàn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소고기 국수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玉米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578280"/>
            <a:ext cx="62643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Arial"/>
              </a:rPr>
              <a:t>yùmǐtāng</a:t>
            </a:r>
            <a:endParaRPr b="0" lang="en-US" sz="10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옥수수 스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ī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먹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밥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中国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0" y="6728760"/>
            <a:ext cx="6858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Arial"/>
              </a:rPr>
              <a:t>zhōngguócài</a:t>
            </a:r>
            <a:endParaRPr b="0" lang="en-US" sz="8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54400"/>
            <a:ext cx="6381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500" spc="-1" strike="noStrike">
                <a:solidFill>
                  <a:srgbClr val="000000"/>
                </a:solidFill>
                <a:latin typeface="Arial"/>
              </a:rPr>
              <a:t>중국요리</a:t>
            </a:r>
            <a:endParaRPr b="0" lang="en-US" sz="8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主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ǔy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생각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ǎochī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맛있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韩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Hánguó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한국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7:56:39Z</dcterms:created>
  <dc:creator>System</dc:creator>
  <dc:description/>
  <dc:language>en-US</dc:language>
  <cp:lastModifiedBy>System</cp:lastModifiedBy>
  <dcterms:modified xsi:type="dcterms:W3CDTF">2014-01-28T04:09:47Z</dcterms:modified>
  <cp:revision>9</cp:revision>
  <dc:subject/>
  <dc:title>슬라이드 1</dc:title>
</cp:coreProperties>
</file>