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7DD1-20D4-471C-BF67-AEDD56BB2D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98C8-710A-4451-95EB-BD433600ED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742E-6F7C-457C-A955-8BF2A23B2C8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F98B-618C-4D30-8EF2-CF4B0FF7FE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DC25-C286-40C3-8FD5-6C2D336187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8D00-CD0D-453E-886F-09622DD7AA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A8A9-C6CD-4C4F-BA28-EA2735AC95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93AF-5DBA-405C-829A-6C8453067A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C526-6373-49BC-B65A-BBE9A87DF7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E1E6-6035-4A44-BB1B-E0B927B7B2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B687-6C4E-47B9-A313-C86AFF2F9C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3E6A-4F61-4A3E-973C-2E36312C2D5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BE17-CA86-4E5F-9579-D817E8721D2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6046-ED9E-4E3D-B23D-F64455F8E05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7B9A-CE2C-4E56-A41E-AD9BED440B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DB84-B083-48C4-B5EE-45B25162536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FBB2-EE34-4540-B324-9A171B7F65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FF13-54F6-4CC2-B335-261A726CBD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2D2D-9932-4265-B884-5F5CFE2BFD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6CEB-7C3F-462B-A157-A05241E823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633F-AB60-407C-876B-342F407E5A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5319-A182-4F10-B5FE-E8F35777F0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3B81-BA21-4E32-8F0C-D72A8195FA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21F3-1E71-4F80-A0C7-42552C473B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82ED-FDB1-453C-95DA-2CA9030561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0A60-E817-42C6-9998-396C2A35D0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C29F-5EE7-43EE-A275-ADD286C67E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F7D6-0A49-469C-84BD-31324AE0C9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6BE7-45B0-472B-99E5-31F6AA72E2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0106-64B1-4EB1-9F33-C1B2355C68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529D-7404-4A0F-AEC9-4CB5868E6E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360A-CEF2-42AE-BC32-CADFE04BF7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A2FF-DF8F-4265-8F43-321BE4DBED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5E05-9DEB-4CCF-B6A1-01358A8B0B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3666-0E13-4283-8C61-E10ACE1472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4CDC-38E2-425E-8447-A9C4AF29AA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5E02-403B-4378-9E25-24C4086761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4B08-37CE-4D04-AF44-510BA1D8E6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8456-35C3-455F-BC85-85FE83A639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E92B-C9A3-488F-B7C9-B2BE8232B1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21F4-6BCD-48B0-8345-766205907C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2D91-A465-4883-9F21-75FB0E411B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7346-B03C-4501-85D0-73F3922604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CCC0-64AA-44BE-A553-C9DD720933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4CB8-BFB3-4C33-B8F9-86BBFDC203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05B0-5620-4F29-B456-CB198EE3FE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FC28-EA67-4470-9FED-58AF00A55D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646-A23D-49A8-80E3-92448755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C98-E16B-42EF-A059-F0451BE1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194-7618-4460-B805-88E57DDA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5AE-CE29-4287-8B76-AE60E753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E76-E72D-4859-9A7D-D0677D9E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608-0D74-42F5-9928-1D7FD66D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D74-9BE3-44A9-A6F1-513B7DC2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B00-EFBF-4A25-8C03-FB1CEC5E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CD4-BE23-41A5-8DE9-662E1B27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022-A6A3-48EC-AFA0-25082BC0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A09-F9B3-485D-9994-95B34829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8C5-4E45-4DE8-B528-F8EAC7F3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51A5-7C3D-4F97-8257-2F109C16B04D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怎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ěnme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어째서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hūntiā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夏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àti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秋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ūti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冬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dōngtiā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겨울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暖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nuǎnhuo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따뜻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덥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凉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liángkuai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大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if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舒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f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头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tóut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머리가 아프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感冒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ǎnmào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감기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걸리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发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sh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열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厉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ìha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ō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많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水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shuǐguǒ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과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ě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해야 한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打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zhē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주사를 맞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할 것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uō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哪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l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천만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겸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uǒy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래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xí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되다</a:t>
            </a:r>
            <a:r>
              <a:rPr b="0" lang="en-US" sz="8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괜찮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作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y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숙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一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ídì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반드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y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uě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tó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머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프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肚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ù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적게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할 수 있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电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iànnǎo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컴퓨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蔬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c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채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看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kànbìng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59920" y="4881240"/>
            <a:ext cx="638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진찰을 받다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진찰하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眼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ǎnji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鼻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í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입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耳朵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ěrdu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最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ìjì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최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天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ānq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날씨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ě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날씨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注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ùy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의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身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ēnt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건강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8:49:04Z</dcterms:created>
  <dc:creator>System</dc:creator>
  <dc:description/>
  <dc:language>en-US</dc:language>
  <cp:lastModifiedBy>System</cp:lastModifiedBy>
  <dcterms:modified xsi:type="dcterms:W3CDTF">2014-01-27T01:21:06Z</dcterms:modified>
  <cp:revision>10</cp:revision>
  <dc:subject/>
  <dc:title>슬라이드 1</dc:title>
</cp:coreProperties>
</file>