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F106-973F-491F-933E-126E04D394D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3051-19AD-4347-8DFF-D7421C087B2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4156-3C52-4DDE-9D6E-01FF847441C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93F9-F643-4822-955F-9FC5DF2302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70FA-2F68-4857-A2AD-E62720CC16E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6A6A-4986-4DCE-9CDC-E492E36BD29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1C5C-45D1-4065-B607-1CDB7DC99CB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AAEE-43AA-485C-9540-A7BC52FE32D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CE5F-0D91-43B4-86EA-93146762941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1D19-8D96-4B02-B79E-6B2837407F0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F989-AD82-496F-A382-C7385792282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4759-96B2-45FA-9F63-83FD92EFB5A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FD77-ACEB-4765-BA46-0A2BCD6876C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A94D-78A6-45F9-9A00-99B5AE1D349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A2F7-95DB-4E90-9165-218927FE676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9989-2A64-40C4-94BF-9C522A0B733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2CD8-9998-49A2-B686-6DC10BCC659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8D6A-878B-47E7-943F-C939117F955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2A62-1383-4581-A047-581131BE791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763E-7C9D-4E9B-9227-87582D11BDE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E83E-19F1-49C4-AA51-6C0A749FDDE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80AB-0C0A-4BC7-ACD2-D57711E49E2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BCE6-623C-43BE-9A2C-29F2B0B10D1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AF61-1F67-4F49-BFDD-DA1C2AD5140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D861-55B6-4AC8-9BA0-8FAAC760E1B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588F-FC46-4FB0-AA19-B4FC46A63A8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906C-1DBE-4489-A418-C5E4453EFF7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EA96-F2B0-4953-AD52-93A0BA589F4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A344-B91E-405A-8197-A939F8B1A54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F683-31D6-4740-A52E-4E6D1D305BE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52AE-F098-4A71-B9CC-60136AB9B74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016D-CF88-4E76-9191-E530BA9DA00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29E0-406C-4906-86B5-55BE25A9497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7149-EF71-4B32-9EF2-2D50467FE20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B6F7-3D2D-4F7F-90D5-FDB4EEF7F48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E1F4-1C2C-4370-9D56-6C24F4E1B10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32E3-8E06-4B7E-91FD-2448FB5B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C01-D076-4C99-81BE-CB1D0D1A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B61-BCCC-46F7-9FDD-18472D1A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C82F-C997-4838-B505-16677CDD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EFE3-C20A-4C3E-8D8F-7DC1BBC6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02A-AB9D-4E19-B7F6-F33CB87A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2C2-D277-4582-8A80-B15EDD13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A2D-0BDD-4B83-91AA-2FA3D09D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15F8-79EC-401D-B428-F7CEE293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609-F4D1-48D5-B8D7-94DCF126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C0F-2637-40E3-AD58-EFC57F47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80CA-EBE2-4DE8-B272-7F4ED759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C851-3002-4FAC-96BF-DB14899D5ABB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è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여보세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接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ē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전화를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받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전화를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끊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보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短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duǎnxì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문자 메시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있다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, 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에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서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哪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ǎ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어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书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shūdià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서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电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50376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diànyǐng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영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엄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见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6466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jiànmià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만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电影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260280" y="6805440"/>
            <a:ext cx="63374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diànyǐngyuà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영화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图书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69060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túshūguǎ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도서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每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ěit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公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gōngyuá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공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散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ànb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산책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바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出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ūq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나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邮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yóujú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우체국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操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cāochǎ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운동장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è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명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学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xuéxiào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학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门口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ménkǒu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입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手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ǒuj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휴대전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号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àomǎ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번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多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duōshǎo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얼마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í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영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 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ě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기다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一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íxi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좀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电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diànhuà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전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ò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사용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打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ǎ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전화를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걸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4:31:25Z</dcterms:created>
  <dc:creator>System</dc:creator>
  <dc:description/>
  <dc:language>en-US</dc:language>
  <cp:lastModifiedBy>System</cp:lastModifiedBy>
  <dcterms:modified xsi:type="dcterms:W3CDTF">2014-01-24T05:14:10Z</dcterms:modified>
  <cp:revision>5</cp:revision>
  <dc:subject/>
  <dc:title>슬라이드 1</dc:title>
</cp:coreProperties>
</file>