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D0AF-FDBA-4C8F-BD4D-EE2BE21BD9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E3A3-3C60-4290-8107-9558C97787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AEF-B773-4F18-B88C-C51DB01B22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B33-F0CC-48A1-AB0C-B7F634C61E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A43-E836-4525-ADFA-77B0E08FA2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3CD-9F9D-4D37-9FBB-7A26974D61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71A0-08CD-4349-97B9-4A8FD302E4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7292-DE84-4EC1-9EDB-5C6550081C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ACF-5E3E-4785-8125-B1B871DD0F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5DE-CCDD-4FFB-94B3-4F1D73F733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C49-1EAC-49E0-9A6C-B69119D548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22F-3E17-43D5-9867-D66CB16468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013-4EA0-4CFE-8B83-2F56BE35A5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1D8-E011-4E26-A698-ED90E4BA75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E09-CE29-4C21-BE4B-3E18F74530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AA5-F391-4D5C-A2F9-8701090F97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9A40-39BD-4C00-B01A-1B0FCC2C1D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DD06-AB14-498D-A47B-34F57274F9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F24-F166-4012-81F6-6ECF55FDB7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2FF-7FD0-4F5D-BCF5-2DB9176C8B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274-D475-4FBF-B6E8-A5413BEBBB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1E4-C5AF-45B1-B56C-2E103CD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764-53CD-4A96-9F02-7CF90A7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41A-621D-431C-94F1-BE475893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F96-6A90-4E20-BDDF-DACAA853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A18-64E0-4A08-93F4-93596009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675-AE5B-4C76-9276-98FF0BF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00F-7A9A-4AAF-95F3-27CCF45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6D4-443C-438D-BFD8-BE6ACFB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B2F-E064-40CA-9536-B3301A4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E1C-C770-445F-9610-E50F728A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528-2A5C-4D5F-9115-9772346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CAE-A397-4107-9728-AD595F9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6994-1AF5-4C0B-9C82-5331048344A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ǎn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电子邮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zǐyóuji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健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jiànkā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暑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ǔ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uóqìng Ji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경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进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향상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一路平安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yílùpíng'ā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는 길이 평안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梦想成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èngxiǎngchéngzhē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꿈이 실현되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万事如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5786640"/>
            <a:ext cx="6264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wànshì rúyì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59920" y="521604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</a:rPr>
              <a:t>모든 일이 뜻대로 이루어지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에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hu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愉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ú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유쾌하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즐겁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流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ú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1:20:06Z</dcterms:created>
  <dc:creator>System</dc:creator>
  <dc:description/>
  <dc:language>en-US</dc:language>
  <cp:lastModifiedBy>System</cp:lastModifiedBy>
  <dcterms:modified xsi:type="dcterms:W3CDTF">2014-01-27T02:01:24Z</dcterms:modified>
  <cp:revision>5</cp:revision>
  <dc:subject/>
  <dc:title>슬라이드 1</dc:title>
</cp:coreProperties>
</file>