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884-1E9F-444E-BB74-C77291B891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0A7A-54B9-4B2A-9902-7DA4EB239B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D03-EDF3-4CD4-9B66-6BD8D72888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4BC6-0481-4985-9440-737019691A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4F4F-358E-4A87-8206-E73F8C1B3A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552F-A5D4-4A4F-A195-6C45539F65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98DF-C1FF-49A1-BD9A-3357E38859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C7FF-557E-4D81-A713-219E783156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E6D3-4A15-404A-B2A6-4C7098EAAE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509-00D4-4EB7-BFFE-059F354305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AA6E-828C-4CEE-AB26-85C66A9B2D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750C-E0E4-4327-BB6C-73210D1975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157-0393-412F-BA1A-27E4B4DED3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01C-75B5-4171-9E1E-2341AABC59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A56-818B-4FC2-A109-8AB2D71FBD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CC4-3F09-4D9E-8AFA-8A5E2F182A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91B-7405-4057-B54A-B58CEF12B8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1339-5146-4E0A-AAE4-501888D7CB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930-4819-4246-B9CE-7722DE1E67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9A32-6A86-4966-A140-26C41CB1B0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15D-3DB8-440A-8CF2-4E8FD0F5B9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58B5-3519-4C52-8E5D-8AD681A78D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88D0-2B77-4BB0-BBAE-58051F5E27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5D8D-14D9-4A23-AAB9-66D20265EC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7AB-A83B-4E27-A221-FBCC0C40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126-3094-46F7-8BDE-A5863929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CBF-F926-40AE-BB71-EC5CF47F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011-E9B7-4D2A-A29F-86C3AC51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896-F18E-48CA-92D0-45FD9273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358-5DE2-4614-B86C-6A84B9AE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DCA-A126-469B-97C5-746AEF05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806-26F1-4735-B818-3103B240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2ED-C634-441F-BD1A-50FC1C8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EA1-E50A-4024-9800-2A8F8B4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825-99A7-4F05-AB22-2627651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FE8-77A6-4738-91D9-C423925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27B-9408-46A8-9715-7DADD8B0817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굴림"/>
              </a:rPr>
              <a:t>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  <a:ea typeface="Arial"/>
              </a:rPr>
              <a:t>n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너，당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关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méiguānxi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괜찮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èxi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고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客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èq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사양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없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事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hì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y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할 필요 없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러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tóngxué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학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  <a:ea typeface="Arial"/>
              </a:rPr>
              <a:t>h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좋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wǎnshang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저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会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huì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잠시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잠깐 동안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í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당신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你의 존칭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早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ǎosha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잘 가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또 만나자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íngtiā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내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s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선생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들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복수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下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w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不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ìbuq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미안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2:03:04Z</dcterms:created>
  <dc:creator>System</dc:creator>
  <dc:description/>
  <dc:language>en-US</dc:language>
  <cp:lastModifiedBy>System</cp:lastModifiedBy>
  <dcterms:modified xsi:type="dcterms:W3CDTF">2014-01-27T02:37:10Z</dcterms:modified>
  <cp:revision>4</cp:revision>
  <dc:subject/>
  <dc:title>슬라이드 1</dc:title>
</cp:coreProperties>
</file>