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F6F7-0CAE-4613-8714-103907B457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8B0-DE2B-4272-AF0D-F2B032A6CC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1330-29B4-48C7-B970-A38587FE78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65DF-980F-471C-ACD6-349630967F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888-2F87-4C48-A900-104C6A459D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B53-2375-4269-9A00-39DCBB58C3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672-47EC-4562-8CB3-B5C153EB56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C01-D307-48F5-B691-1E0D6DDBB9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8B87-2268-4D92-9549-257CB7EBA5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7D4C-8C14-4590-818C-4B52BCEF37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107-F241-41C3-BB7D-E725E3706B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D37-3B4C-4B27-939B-2BD3FD59A2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DC31-3F5B-4268-87C7-090C007A51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732-F0DD-4DC2-94D4-91F6575AB4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287A-9A73-4ABF-997F-0162993213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2313-435E-46AE-9D89-7AD0ABBDCC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B03-070F-4608-8A32-933CC2A7D1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1913-AC89-4C32-9B59-48D914819D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5B5C-8B7A-4316-8923-91A692E165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AFF-A0DC-49F9-9072-CC69DDEC2B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3E48-A882-4C92-8EF2-64F14D8511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0AF-DC23-4DFA-8CEF-C8347F279A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C56-A924-47A7-A5BA-04527B509E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37B3-4CCF-4BE9-AF6C-10A6CF641E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033-D284-48FB-874C-67DD84B66E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404-5742-4731-955E-F03F248444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2B2-AB36-43B9-AFBD-5B415F8595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DC0-AB35-4558-AA90-C6AE5260CB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69E-B3C3-4090-AFC4-980AB13320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203F-1207-4643-B4CE-2ADA4FE8C9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E42-D7D3-4E57-B2D4-796E49619B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054D-2414-4F2C-8131-D425C34351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4C5E-133A-44F5-948D-4A4F9B70E5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BADB-3FCA-4579-9A24-A660B0E68B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411-DB0B-4218-967B-2D620E12B2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9B46-8ACB-4F24-8539-907E7B3E50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91E2-4931-4959-BA04-8353C750D5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631-0107-4A8C-8BE6-38F76F0216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8D0-C49C-41CC-95BE-8593F63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BCF-2A9D-4A11-9B6C-6D8C441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74E-B0BA-4D68-B77C-D45F8C30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950-1EB8-45CF-B8EA-9F0FB928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023-5D9A-43E8-8FFF-D064BAC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D6D-8DC7-4035-B1C5-C254D82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065-6E23-49B4-B621-16CA16E5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FE8-2135-40D8-879D-E34E6F9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D88-F2B6-4EE5-949A-D48838E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EA2-2335-444F-86EA-B6BE3FF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CDB-BBE0-4A7D-9A0C-F35849F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BA3-5C71-4AEB-8E92-1D3C16C4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43B-49AA-41FF-96F3-B0950C83BD0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ǐh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羽毛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ǔmáoqi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드민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ú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축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óuyǒ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今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올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추측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将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ng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고 싶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ùndò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yīshē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n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렵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意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yìs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재미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ōum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x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ù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호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n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운동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极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tàijíquán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극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래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Zhōngguógē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 노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泡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oc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김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대단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pīngpāngqiú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탁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줄 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전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르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t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농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gqi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야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17:04Z</dcterms:created>
  <dc:creator>System</dc:creator>
  <dc:description/>
  <dc:language>en-US</dc:language>
  <cp:lastModifiedBy>System</cp:lastModifiedBy>
  <dcterms:modified xsi:type="dcterms:W3CDTF">2014-01-24T06:53:43Z</dcterms:modified>
  <cp:revision>4</cp:revision>
  <dc:subject/>
  <dc:title>슬라이드 1</dc:title>
</cp:coreProperties>
</file>