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DBB5B-A98B-4800-9537-B50724DA07D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68BC8-5F6D-4C44-8A36-44704A4D6E5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D86D8-5C38-4B70-A93C-6E18C04518D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06036-4C39-483B-8445-328524F4398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4ADEF-7A54-4868-8C17-09BEAABC844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E293F-A1B9-499F-9766-7D35EAB79EE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9029C-9C3B-4F3C-ACDF-C3196E36263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6201F-B862-4979-B6D8-19E2565F4D7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4B286-FCEF-42E9-B5F5-1F96A8A209A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AB76F-B29C-4EFD-8903-9D958DC2A6D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57DF8-3A61-47D3-AA9C-1FC120CDE06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028F3-621F-434C-A859-798803D19B1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55162-CA64-4B12-A71B-51C53B9A40E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CE674-E4FE-4EB6-A2C1-D3213AA84C0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BB311-2672-4150-BEAC-F8FB6D2EA02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0D722-A92C-4094-A896-B65A3F42955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6B7D1-C9FC-4F9D-96B2-E95D2918FEE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B2037-7953-4A94-B794-0ABEF918886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EE7FE-0719-4381-BCA3-2CF2DCE1C59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46D39-A1EC-4F97-BECE-527A54FB3A1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A5EF8-E552-44F2-A101-C73DF41A02E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31A4C-1514-47A6-8171-512F2188C63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B21F-566A-48BE-9AD5-98AF404C96F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85FB9-CCA8-4B41-AE7D-A8036068855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46632-704C-4A7C-BC23-A0773519497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333D3-4EB8-401B-B19A-6DA74DB7035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1205C-0202-481B-A12E-872B12D1C48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44E97-7DFC-43CC-9969-B2DE4196B9F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97E28-5A82-4BAB-906F-A5D25322832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ACD8D-042F-44A5-A171-AB89A003E8D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B91FB-69EE-4824-B17A-98975FD893B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B195-C4AD-4193-9EA6-99414C6A2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60B0-5868-475B-B811-5683CCFBE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6859-6EEA-4085-B01F-08AC0F8C1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FADE-A6F3-4CA9-9756-6D50C8D56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13F4-5DD3-4389-91B7-3B5FD2DBC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DCC1-1CA9-4F12-8FA8-5A59C23DA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58FA-0A7A-469F-8E5D-A3FC72001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81A4-EA6C-43B6-AA92-0B287E1A1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AFBE-A960-43DE-8851-613AD4276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7776-F55C-4BF2-91FF-68353A2E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0247-D9E7-4A2A-BFCB-9E497C38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7E87-3161-4848-A442-166138A0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9C5AF-1581-44A1-82B6-784F666D41F3}" type="slidenum">
              <a:rPr b="0" lang="ko-K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今天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īntiā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오늘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考试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kǎoshì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시험을 보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还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há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아직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两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liǎ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둘</a:t>
            </a:r>
            <a:r>
              <a:rPr b="0" lang="en-US" sz="9000" spc="-1" strike="noStrike">
                <a:solidFill>
                  <a:srgbClr val="000000"/>
                </a:solidFill>
                <a:latin typeface="굴림"/>
              </a:rPr>
              <a:t>, 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天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tiā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0" lang="en-US" sz="9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날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一起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ìqǐ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함께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学习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xuéxí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공부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吧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a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 rot="10800000">
            <a:off x="215640" y="5128920"/>
            <a:ext cx="638172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500" spc="-1" strike="noStrike">
                <a:solidFill>
                  <a:srgbClr val="000000"/>
                </a:solidFill>
                <a:latin typeface="굴림"/>
              </a:rPr>
              <a:t>어기조사</a:t>
            </a:r>
            <a:r>
              <a:rPr b="0" lang="en-US" sz="75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7500" spc="-1" strike="noStrike">
                <a:solidFill>
                  <a:srgbClr val="000000"/>
                </a:solidFill>
                <a:latin typeface="굴림"/>
              </a:rPr>
              <a:t>청유</a:t>
            </a:r>
            <a:r>
              <a:rPr b="0" lang="en-US" sz="75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星期一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xīngqīyī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월요일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星期二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xīngqī'èr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화요일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星期三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xīngqīsān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수요일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uè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월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星期四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xīngqīsì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목요일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星期五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xīngqīwǔ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금요일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星期六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xīngqīliù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토요일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星期天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xīngqītiān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일요일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休息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xiūx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쉬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来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lá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오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玩儿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wánr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놀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复习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fùxí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복습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加油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iāyóu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8"/>
          <p:cNvSpPr/>
          <p:nvPr/>
        </p:nvSpPr>
        <p:spPr>
          <a:xfrm rot="10800000">
            <a:off x="215640" y="5279760"/>
            <a:ext cx="638172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500" spc="-1" strike="noStrike">
                <a:solidFill>
                  <a:srgbClr val="000000"/>
                </a:solidFill>
                <a:latin typeface="Arial"/>
              </a:rPr>
              <a:t>힘을 내다</a:t>
            </a: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5500" spc="-1" strike="noStrike">
                <a:solidFill>
                  <a:srgbClr val="000000"/>
                </a:solidFill>
                <a:latin typeface="Arial"/>
              </a:rPr>
              <a:t>응원하다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祝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hù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8"/>
          <p:cNvSpPr/>
          <p:nvPr/>
        </p:nvSpPr>
        <p:spPr>
          <a:xfrm rot="10800000">
            <a:off x="215640" y="5167440"/>
            <a:ext cx="638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빌다</a:t>
            </a: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기원하다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号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hào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일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快乐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kuàilè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즐겁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的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의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生日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hēngrì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생일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儿童节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"/>
          <p:cNvSpPr/>
          <p:nvPr/>
        </p:nvSpPr>
        <p:spPr>
          <a:xfrm rot="10800000">
            <a:off x="333000" y="6654240"/>
            <a:ext cx="62643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500" spc="-1" strike="noStrike">
                <a:solidFill>
                  <a:srgbClr val="000000"/>
                </a:solidFill>
                <a:latin typeface="Arial"/>
              </a:rPr>
              <a:t>Értóng Jié</a:t>
            </a: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어린이날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昨天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zuótiān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어제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后天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hòutiān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모레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星期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xīngqī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요일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4T03:06:06Z</dcterms:created>
  <dc:creator>System</dc:creator>
  <dc:description/>
  <dc:language>en-US</dc:language>
  <cp:lastModifiedBy>System</cp:lastModifiedBy>
  <dcterms:modified xsi:type="dcterms:W3CDTF">2014-01-24T04:31:19Z</dcterms:modified>
  <cp:revision>9</cp:revision>
  <dc:subject/>
  <dc:title>슬라이드 1</dc:title>
</cp:coreProperties>
</file>