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7FC-31DB-498E-8FD2-A0FA178E37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4B14-8B08-450D-9D99-C9BCE3CF23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736-F0A2-4B0C-9944-A2197AE69C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EC4-29A0-49AB-A7BA-183528F1DE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455-B59F-4151-86E6-9088D41A13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A99-3A6D-494A-8B94-997E5145B9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7E8-461E-4649-BB6C-6019381644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835-0853-43E8-BCCD-2688EA07C3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506-5F03-4344-9BA1-DFFB5F48C2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EA0D-01F4-440D-97F2-B9F154D5B9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4905-F4D7-4251-9CCF-540DCD1B80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8C29-5314-4AC6-A168-B706675440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B00-26C6-4B69-BFAA-C232DBFA19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ECD-6520-4CAB-AC0B-985A188701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B81-C8EB-47C5-9759-0B500E4FFC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9D1-8C6C-47B4-B512-9D20502F38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DAA5-C1BA-4F4D-9A8F-EF129E9DCE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245-BD89-4F99-8B07-41341D1092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8A43-31E3-45F5-984F-3530288431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A69-8A40-4BA5-8426-D1DB5C8547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8A2C-885E-41D7-8308-604FEBA60D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5EA-ED39-4815-BE30-D4BB39A28C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1417-1289-4358-804A-79EB7D7B60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7FC-59C8-42E4-B2A5-1B204C4CCA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31E-F2DD-45C9-A7C6-067B460362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0FC-4701-4527-BBE9-1B47AE5C72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E91-110A-45AC-A99E-839CB4894D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3CB5-051F-4512-B035-AB054EFA63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404-D79A-481D-A9EB-412BA6A69A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AAE-4163-41C4-9A03-D703569600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016D-152C-4B7A-A642-2A53BF786C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6BF6-B305-4F45-9C0F-208A6AD57A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3BA5-DBE3-401B-9E09-FD946BE9C7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3D6-0339-4E4D-B5D2-EFF1B78F09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75D3-5595-435A-ADFF-52FB726D87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D43-359D-4321-9E78-2CA0F40036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D1BF-8861-4935-A51B-2180840929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C6ED-23E3-48D8-A04C-2D5793DA9F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19E-A71D-4245-A1E5-EC8F02FCFF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AFA-C208-46D1-B33F-18DC368D94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0EE-43A3-49BB-92E0-D09739B8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B21-6857-43C6-A5FB-2BD7063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B82-F585-4B61-905A-69214F2E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039-F446-482B-A665-ADC763AA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1F3-B015-41CE-9415-E005AAA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52C-4ED2-41D7-984B-EC114C8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9B1-D174-4353-A32D-2D072B9F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CA7-2091-44B7-BE6B-DF5DAE8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64C-B95D-409A-9A1A-9EC4AAB8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870-FABD-455E-84DA-E53B68CB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68D-6874-4CE6-A490-00A4D37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F1C-B196-4767-B09B-BFF1AC8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72B-2868-4A52-B2B3-2473E026F7F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하려고 하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f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옷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u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쌍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裤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ù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本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공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b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가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úwù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업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10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ány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값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싸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ěnmeyàng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때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자루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圆珠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yuánzhūbǐ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볼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위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마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자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裙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ú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치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짧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uángsè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인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p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치파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중국전통의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n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색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óng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간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시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面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bā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53:48Z</dcterms:created>
  <dc:creator>System</dc:creator>
  <dc:description/>
  <dc:language>en-US</dc:language>
  <cp:lastModifiedBy>System</cp:lastModifiedBy>
  <dcterms:modified xsi:type="dcterms:W3CDTF">2014-01-24T07:56:08Z</dcterms:modified>
  <cp:revision>7</cp:revision>
  <dc:subject/>
  <dc:title>슬라이드 1</dc:title>
</cp:coreProperties>
</file>