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C9AF-905E-464C-AAD5-9F397B53E1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FDDC-4D50-413D-A325-E5E72993A3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D0AB-7B57-4B26-9A52-C4D46F5A06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5FB7-DC8E-419B-9DCC-EA26B95B89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0EBE-71A6-4F18-BCB2-B085CE00B0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1893-196C-4FF7-B097-C8FD4C489A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B52-F7AD-4F57-B1E9-CE1E958713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请问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254160" y="5100480"/>
            <a:ext cx="627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请问</a:t>
            </a:r>
            <a:r>
              <a:rPr b="1" lang="en-US" sz="6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你家在哪儿？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말씀 좀 묻겠습니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ǐngwè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25992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学校离这儿远吗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에서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부터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这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这儿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è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远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115920" y="5128200"/>
            <a:ext cx="627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学校离这儿很远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멀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uǎ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医院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去医院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병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yu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学校离这儿很</a:t>
            </a:r>
            <a:r>
              <a:rPr b="1" lang="zh-CN" sz="6400" spc="-1" strike="noStrike">
                <a:solidFill>
                  <a:srgbClr val="000000"/>
                </a:solidFill>
                <a:latin typeface="SimSun"/>
                <a:ea typeface="SimSun"/>
              </a:rPr>
              <a:t>近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가깝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ì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怎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怎么去东大门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떻게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ěnm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东大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怎么去东大门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동대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ōngdà M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公共汽车去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 등을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ò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굴림"/>
              </a:rPr>
              <a:t>公共汽车</a:t>
            </a:r>
            <a:endParaRPr b="0" lang="en-US" sz="1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213840" y="51458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굴림"/>
              </a:rPr>
              <a:t>201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路公共汽车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69428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굴림"/>
              </a:rPr>
              <a:t>gōnggòng qìchē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几路车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노선번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洗手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洗手间在哪儿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화장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ǐshǒuj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车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车来了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자동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骑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4392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骑自行车去学校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자전거 등을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타다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自行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0" y="51001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骑自行车回家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자전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ìxíng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地铁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142560" y="5100120"/>
            <a:ext cx="67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굴림"/>
              </a:rPr>
              <a:t>坐地铁去东大门。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지하철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ìtiě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火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213840" y="5011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坐火车回家</a:t>
            </a:r>
            <a:r>
              <a:rPr b="1" lang="zh-CN" sz="54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기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ǒchē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飞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坐飞机去北京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비행기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ēij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火车站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역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右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Text Box 5"/>
          <p:cNvSpPr/>
          <p:nvPr/>
        </p:nvSpPr>
        <p:spPr>
          <a:xfrm rot="10800000">
            <a:off x="329760" y="5054760"/>
            <a:ext cx="62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굴림"/>
              </a:rPr>
              <a:t>右边就是火车站。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른쪽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òubi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学校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5"/>
          <p:cNvSpPr/>
          <p:nvPr/>
        </p:nvSpPr>
        <p:spPr>
          <a:xfrm rot="10800000">
            <a:off x="0" y="50108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在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éxi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北京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怎么去北京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베이징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ěijī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에 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上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0" y="5070960"/>
            <a:ext cx="685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怎么上学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등교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SimSun"/>
                <a:ea typeface="SimSun"/>
              </a:rPr>
              <a:t>着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142560" y="5070960"/>
            <a:ext cx="671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走着去学校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 Box 6"/>
          <p:cNvSpPr/>
          <p:nvPr/>
        </p:nvSpPr>
        <p:spPr>
          <a:xfrm rot="10800000">
            <a:off x="403200" y="6495840"/>
            <a:ext cx="6267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하면서</a:t>
            </a:r>
            <a:r>
              <a:rPr b="0" lang="en-US" sz="5500" spc="-1" strike="noStrike">
                <a:solidFill>
                  <a:srgbClr val="000000"/>
                </a:solidFill>
                <a:latin typeface="굴림"/>
              </a:rPr>
              <a:t>. ~</a:t>
            </a:r>
            <a:r>
              <a:rPr b="0" lang="ko-KR" sz="5500" spc="-1" strike="noStrike">
                <a:solidFill>
                  <a:srgbClr val="000000"/>
                </a:solidFill>
                <a:latin typeface="굴림"/>
              </a:rPr>
              <a:t>한 채로</a:t>
            </a:r>
            <a:endParaRPr b="0" lang="en-US" sz="5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哪儿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洗手间在哪儿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어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ǎr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服务员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是服务员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종업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úwùyuá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一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一</a:t>
            </a:r>
            <a:r>
              <a:rPr b="1" lang="zh-CN" sz="5800" spc="-1" strike="noStrike">
                <a:solidFill>
                  <a:srgbClr val="000000"/>
                </a:solidFill>
                <a:latin typeface="SimSun"/>
                <a:ea typeface="SimSun"/>
              </a:rPr>
              <a:t>直</a:t>
            </a:r>
            <a:r>
              <a:rPr b="1" lang="zh-CN" sz="5800" spc="-1" strike="noStrike">
                <a:solidFill>
                  <a:srgbClr val="000000"/>
                </a:solidFill>
                <a:latin typeface="굴림"/>
              </a:rPr>
              <a:t>走，左边就是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곧장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ìzh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走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SimSun"/>
                <a:ea typeface="SimSun"/>
              </a:rPr>
              <a:t>直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走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걷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左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洗手间在左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왼쪽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ǒbia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就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洗手间就在那儿。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바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5:05:25Z</dcterms:modified>
  <cp:revision>179</cp:revision>
  <dc:subject/>
  <dc:title>슬라이드 1</dc:title>
</cp:coreProperties>
</file>