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3707C-6FA9-4B9D-8A8D-C891657AA88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52F8A-8398-4588-ADDA-92C8FAC7A41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37AA4-1374-4F90-90DD-B8ED9617684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CE7FA-D97D-4C81-BB57-8199830CA11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C886-E8AB-4A1C-B35C-5ADE6589B13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F71E9-85CA-4DFB-94F7-721F2C5C1D1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단어카드A4반"/>
          <p:cNvPicPr/>
          <p:nvPr/>
        </p:nvPicPr>
        <p:blipFill>
          <a:blip r:embed="rId2"/>
          <a:stretch/>
        </p:blipFill>
        <p:spPr>
          <a:xfrm>
            <a:off x="-316080" y="0"/>
            <a:ext cx="7562880" cy="914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喜欢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5"/>
          <p:cNvSpPr/>
          <p:nvPr/>
        </p:nvSpPr>
        <p:spPr>
          <a:xfrm rot="10800000">
            <a:off x="329760" y="5064120"/>
            <a:ext cx="627084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5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6500" spc="-1" strike="noStrike">
                <a:solidFill>
                  <a:srgbClr val="000000"/>
                </a:solidFill>
                <a:latin typeface="굴림"/>
              </a:rPr>
              <a:t>你喜欢什么运动</a:t>
            </a:r>
            <a:r>
              <a:rPr b="1" lang="en-US" sz="65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6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좋아하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xǐhua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굴림"/>
              </a:rPr>
              <a:t>打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我喜欢打篮球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 Box 6"/>
          <p:cNvSpPr/>
          <p:nvPr/>
        </p:nvSpPr>
        <p:spPr>
          <a:xfrm rot="10800000">
            <a:off x="403200" y="6548400"/>
            <a:ext cx="626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4800" spc="-1" strike="noStrike">
                <a:solidFill>
                  <a:srgbClr val="000000"/>
                </a:solidFill>
                <a:latin typeface="굴림"/>
              </a:rPr>
              <a:t>구기 종목 등을</a:t>
            </a:r>
            <a:r>
              <a:rPr b="0" lang="en-US" sz="4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4800" spc="-1" strike="noStrike">
                <a:solidFill>
                  <a:srgbClr val="000000"/>
                </a:solidFill>
                <a:latin typeface="굴림"/>
              </a:rPr>
              <a:t>하다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dǎ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篮球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Text Box 5"/>
          <p:cNvSpPr/>
          <p:nvPr/>
        </p:nvSpPr>
        <p:spPr>
          <a:xfrm rot="10800000">
            <a:off x="329760" y="5064120"/>
            <a:ext cx="627084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5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6500" spc="-1" strike="noStrike">
                <a:solidFill>
                  <a:srgbClr val="000000"/>
                </a:solidFill>
                <a:latin typeface="굴림"/>
              </a:rPr>
              <a:t>明天有篮球比赛。</a:t>
            </a:r>
            <a:endParaRPr b="0" lang="en-US" sz="6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농구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lánqiú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乒乓球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 Box 5"/>
          <p:cNvSpPr/>
          <p:nvPr/>
        </p:nvSpPr>
        <p:spPr>
          <a:xfrm rot="10800000">
            <a:off x="0" y="5070960"/>
            <a:ext cx="6858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打乒乓球。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탁구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pīngpāngqiú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游泳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你喜欢游泳吗？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수영하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yóuyǒng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333360" y="111600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0" spc="-1" strike="noStrike">
                <a:solidFill>
                  <a:srgbClr val="000000"/>
                </a:solidFill>
                <a:latin typeface="굴림"/>
              </a:rPr>
              <a:t>考试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Text Box 5"/>
          <p:cNvSpPr/>
          <p:nvPr/>
        </p:nvSpPr>
        <p:spPr>
          <a:xfrm rot="10800000">
            <a:off x="142560" y="5070960"/>
            <a:ext cx="67150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明天有考试。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시험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kǎoshì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跳舞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Text Box 5"/>
          <p:cNvSpPr/>
          <p:nvPr/>
        </p:nvSpPr>
        <p:spPr>
          <a:xfrm rot="10800000">
            <a:off x="329760" y="5054760"/>
            <a:ext cx="6270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굴림"/>
              </a:rPr>
              <a:t>妹妹喜欢跳舞。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춤추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tiàowǔ 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唱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Text Box 5"/>
          <p:cNvSpPr/>
          <p:nvPr/>
        </p:nvSpPr>
        <p:spPr>
          <a:xfrm rot="10800000">
            <a:off x="0" y="5100120"/>
            <a:ext cx="685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굴림"/>
              </a:rPr>
              <a:t>弟弟喜欢唱歌。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노래하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chàng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歌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中国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노래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Text Box 7"/>
          <p:cNvSpPr/>
          <p:nvPr/>
        </p:nvSpPr>
        <p:spPr>
          <a:xfrm rot="10800000">
            <a:off x="404640" y="752868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gē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会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Text Box 5"/>
          <p:cNvSpPr/>
          <p:nvPr/>
        </p:nvSpPr>
        <p:spPr>
          <a:xfrm rot="10800000">
            <a:off x="0" y="5070960"/>
            <a:ext cx="6858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你会唱什么歌？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할 줄 안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 Box 7"/>
          <p:cNvSpPr/>
          <p:nvPr/>
        </p:nvSpPr>
        <p:spPr>
          <a:xfrm rot="10800000">
            <a:off x="404640" y="758880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굴림"/>
              </a:rPr>
              <a:t>huì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中国歌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我会唱中国歌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중국 노래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Zhōngguógē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运动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5"/>
          <p:cNvSpPr/>
          <p:nvPr/>
        </p:nvSpPr>
        <p:spPr>
          <a:xfrm rot="10800000">
            <a:off x="329760" y="5064120"/>
            <a:ext cx="627084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5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6500" spc="-1" strike="noStrike">
                <a:solidFill>
                  <a:srgbClr val="000000"/>
                </a:solidFill>
                <a:latin typeface="굴림"/>
              </a:rPr>
              <a:t>我喜欢运动。</a:t>
            </a:r>
            <a:endParaRPr b="0" lang="en-US" sz="6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6"/>
          <p:cNvSpPr/>
          <p:nvPr/>
        </p:nvSpPr>
        <p:spPr>
          <a:xfrm rot="10800000">
            <a:off x="403200" y="636696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굴림"/>
              </a:rPr>
              <a:t>운동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yùndòng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굴림"/>
              </a:rPr>
              <a:t>教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5"/>
          <p:cNvSpPr/>
          <p:nvPr/>
        </p:nvSpPr>
        <p:spPr>
          <a:xfrm rot="10800000">
            <a:off x="329760" y="5071320"/>
            <a:ext cx="62708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他教我踢球</a:t>
            </a:r>
            <a:r>
              <a:rPr b="1" lang="zh-CN" sz="5000" spc="-1" strike="noStrike">
                <a:solidFill>
                  <a:srgbClr val="000000"/>
                </a:solidFill>
                <a:latin typeface="굴림"/>
              </a:rPr>
              <a:t>。</a:t>
            </a:r>
            <a:endParaRPr b="0" lang="en-US" sz="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가르치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jiāo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问题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Text Box 5"/>
          <p:cNvSpPr/>
          <p:nvPr/>
        </p:nvSpPr>
        <p:spPr>
          <a:xfrm rot="10800000">
            <a:off x="329760" y="5054760"/>
            <a:ext cx="6270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zh-CN" sz="6600" spc="-1" strike="noStrike">
                <a:solidFill>
                  <a:srgbClr val="000000"/>
                </a:solidFill>
                <a:latin typeface="굴림"/>
              </a:rPr>
              <a:t>没问题！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 Box 6"/>
          <p:cNvSpPr/>
          <p:nvPr/>
        </p:nvSpPr>
        <p:spPr>
          <a:xfrm rot="10800000">
            <a:off x="403200" y="636696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굴림"/>
              </a:rPr>
              <a:t>문제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 Box 7"/>
          <p:cNvSpPr/>
          <p:nvPr/>
        </p:nvSpPr>
        <p:spPr>
          <a:xfrm rot="10800000">
            <a:off x="404640" y="752868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wèntí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说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Text Box 5"/>
          <p:cNvSpPr/>
          <p:nvPr/>
        </p:nvSpPr>
        <p:spPr>
          <a:xfrm rot="10800000">
            <a:off x="0" y="5070960"/>
            <a:ext cx="6858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你会说汉语吗？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말하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shuō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굴림"/>
              </a:rPr>
              <a:t>听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Text Box 5"/>
          <p:cNvSpPr/>
          <p:nvPr/>
        </p:nvSpPr>
        <p:spPr>
          <a:xfrm rot="10800000">
            <a:off x="142560" y="5100120"/>
            <a:ext cx="671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굴림"/>
              </a:rPr>
              <a:t>你听一听。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듣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tīng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帮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5"/>
          <p:cNvSpPr/>
          <p:nvPr/>
        </p:nvSpPr>
        <p:spPr>
          <a:xfrm rot="10800000">
            <a:off x="213840" y="5145840"/>
            <a:ext cx="66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굴림"/>
              </a:rPr>
              <a:t>我帮你吧。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Text Box 6"/>
          <p:cNvSpPr/>
          <p:nvPr/>
        </p:nvSpPr>
        <p:spPr>
          <a:xfrm rot="10800000">
            <a:off x="403200" y="636696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굴림"/>
              </a:rPr>
              <a:t>돕다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 Box 7"/>
          <p:cNvSpPr/>
          <p:nvPr/>
        </p:nvSpPr>
        <p:spPr>
          <a:xfrm rot="10800000">
            <a:off x="404640" y="752868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bāng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比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 Box 5"/>
          <p:cNvSpPr/>
          <p:nvPr/>
        </p:nvSpPr>
        <p:spPr>
          <a:xfrm rot="10800000">
            <a:off x="329760" y="5191560"/>
            <a:ext cx="6270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굴림"/>
              </a:rPr>
              <a:t>昨天的比赛几比几？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 Box 6"/>
          <p:cNvSpPr/>
          <p:nvPr/>
        </p:nvSpPr>
        <p:spPr>
          <a:xfrm rot="10800000">
            <a:off x="403200" y="6185520"/>
            <a:ext cx="626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4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0" lang="en-US" sz="4800" spc="-1" strike="noStrike">
                <a:solidFill>
                  <a:srgbClr val="000000"/>
                </a:solidFill>
                <a:latin typeface="굴림"/>
              </a:rPr>
              <a:t>~(</a:t>
            </a:r>
            <a:r>
              <a:rPr b="0" lang="ko-KR" sz="4800" spc="-1" strike="noStrike">
                <a:solidFill>
                  <a:srgbClr val="000000"/>
                </a:solidFill>
                <a:latin typeface="굴림"/>
              </a:rPr>
              <a:t>두 개의 수를 서로 비교하다</a:t>
            </a:r>
            <a:r>
              <a:rPr b="0" lang="en-US" sz="4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bǐ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굴림"/>
              </a:rPr>
              <a:t>赢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我们赢了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이기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yíng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踢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5"/>
          <p:cNvSpPr/>
          <p:nvPr/>
        </p:nvSpPr>
        <p:spPr>
          <a:xfrm rot="10800000">
            <a:off x="142560" y="5054400"/>
            <a:ext cx="671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굴림"/>
              </a:rPr>
              <a:t>踢足球。 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차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tī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足球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踢足球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축구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zúqiú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굴림"/>
              </a:rPr>
              <a:t>要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你们要做什么？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하려고 하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yào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参加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 Box 5"/>
          <p:cNvSpPr/>
          <p:nvPr/>
        </p:nvSpPr>
        <p:spPr>
          <a:xfrm rot="10800000">
            <a:off x="68040" y="5100480"/>
            <a:ext cx="660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굴림"/>
              </a:rPr>
              <a:t>我要参加足球比赛。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참가하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cānjiā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比赛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今天有比赛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경기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시합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bǐsài 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厉害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他很厉害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대단하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lìhai 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加油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 Box 5"/>
          <p:cNvSpPr/>
          <p:nvPr/>
        </p:nvSpPr>
        <p:spPr>
          <a:xfrm rot="10800000">
            <a:off x="329760" y="5071320"/>
            <a:ext cx="62708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加油！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응원하다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힘내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jiāyóu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0:55:21Z</dcterms:created>
  <dc:creator>Administrator</dc:creator>
  <dc:description/>
  <dc:language>en-US</dc:language>
  <cp:lastModifiedBy>Digital NEX</cp:lastModifiedBy>
  <dcterms:modified xsi:type="dcterms:W3CDTF">2012-05-17T05:36:05Z</dcterms:modified>
  <cp:revision>232</cp:revision>
  <dc:subject/>
  <dc:title>슬라이드 1</dc:title>
</cp:coreProperties>
</file>