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B9A7-7C89-44B4-96AC-B89DCD4506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3E7B-821C-43FB-BE3A-00AB7F7976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ED4E-3BAA-42DD-8D99-BC83266DB4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DE02-5223-4DDF-982E-3D7D2A350D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AACC-3961-4D74-8AFA-7B9CD08E59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苹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苹果怎么卖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íngguǒ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本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8320" y="5189400"/>
            <a:ext cx="62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这本书多少钱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권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책을 세는 단위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角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0" y="5100120"/>
            <a:ext cx="714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六块一角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1400" y="6609960"/>
            <a:ext cx="62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지아오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(1/10 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块两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마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1/10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á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分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142560" y="5138280"/>
            <a:ext cx="6715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毛</a:t>
            </a:r>
            <a:r>
              <a:rPr b="1" lang="en-US" sz="55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5500" spc="-1" strike="noStrike">
                <a:solidFill>
                  <a:srgbClr val="000000"/>
                </a:solidFill>
                <a:latin typeface="굴림"/>
              </a:rPr>
              <a:t>分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펀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1/100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ē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这件衣服多少钱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72440"/>
            <a:ext cx="6267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800" spc="-1" strike="noStrike">
                <a:solidFill>
                  <a:srgbClr val="000000"/>
                </a:solidFill>
                <a:latin typeface="굴림"/>
              </a:rPr>
              <a:t>벌</a:t>
            </a:r>
            <a:r>
              <a:rPr b="0" lang="en-US" sz="5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800" spc="-1" strike="noStrike">
                <a:solidFill>
                  <a:srgbClr val="000000"/>
                </a:solidFill>
                <a:latin typeface="굴림"/>
              </a:rPr>
              <a:t>옷을 세는 단위</a:t>
            </a:r>
            <a:r>
              <a:rPr b="0" lang="en-US" sz="5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5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àn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衣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这件衣服太贵了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옷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f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一百块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백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100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ǎ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太贵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너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贵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0" y="50544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这件衣服太贵了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비싸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8880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굴림"/>
              </a:rPr>
              <a:t>gu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便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不便宜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싸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iány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卖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苹果怎么卖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28400" y="6366960"/>
            <a:ext cx="62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팔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一点儿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便宜一点儿吧</a:t>
            </a:r>
            <a:r>
              <a:rPr b="1" lang="zh-CN" sz="50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조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ìdiǎn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杯水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잔</a:t>
            </a: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ē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0544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杯茶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á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张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05440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一张纸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장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단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ā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纸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05476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要两张纸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종이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太饱了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배부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ǎ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快一点儿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빠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慢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慢一点儿！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느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打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0" y="5130720"/>
            <a:ext cx="6858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打折吗？</a:t>
            </a:r>
            <a:endParaRPr b="0" lang="en-US" sz="5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격을 내리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ǎzh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售货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姐姐是售货员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판매원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òuhuòyu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苹果三块一斤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폐 단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苹果要三斤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ī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要几斤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필요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一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一共要三斤苹果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모두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합해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gò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共多少钱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i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元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两元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위안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폐 단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590400" y="633636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yuán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31:32Z</dcterms:modified>
  <cp:revision>207</cp:revision>
  <dc:subject/>
  <dc:title>슬라이드 1</dc:title>
</cp:coreProperties>
</file>