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现在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现在几点了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현재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지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ànzà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放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十二点放学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6"/>
          <p:cNvSpPr/>
          <p:nvPr/>
        </p:nvSpPr>
        <p:spPr>
          <a:xfrm rot="10800000">
            <a:off x="403200" y="63604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하교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 Box 7"/>
          <p:cNvSpPr/>
          <p:nvPr/>
        </p:nvSpPr>
        <p:spPr>
          <a:xfrm rot="10800000">
            <a:off x="214200" y="636804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àngxué </a:t>
            </a:r>
            <a:r>
              <a:rPr b="0" lang="en-US" sz="72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电视</a:t>
            </a: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200" spc="-1" strike="noStrike">
                <a:solidFill>
                  <a:srgbClr val="000000"/>
                </a:solidFill>
                <a:latin typeface="굴림"/>
              </a:rPr>
              <a:t>弟弟六点看</a:t>
            </a:r>
            <a:r>
              <a:rPr b="1" lang="zh-CN" sz="6200" spc="-1" strike="noStrike">
                <a:solidFill>
                  <a:srgbClr val="000000"/>
                </a:solidFill>
                <a:latin typeface="SimSun"/>
                <a:ea typeface="SimSun"/>
              </a:rPr>
              <a:t>电视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텔레비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iànsh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八点做作业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하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uò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作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妹妹八点做作业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숙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uòyè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七点看书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책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明天你有空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시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ò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现在六点。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iǎ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现在六点十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fē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开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电影几点开始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시작하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āish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半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现在五点半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起床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几点起床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기상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ǐchuáng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晚上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5"/>
          <p:cNvSpPr/>
          <p:nvPr/>
        </p:nvSpPr>
        <p:spPr>
          <a:xfrm rot="10800000">
            <a:off x="329760" y="5071320"/>
            <a:ext cx="627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晚上几点睡觉？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저녁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wǎnshang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睡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十二点睡觉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잠자다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uìjià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上课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九点上课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수업을 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àngkè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4:19:31Z</dcterms:modified>
  <cp:revision>143</cp:revision>
  <dc:subject/>
  <dc:title>슬라이드 1</dc:title>
</cp:coreProperties>
</file>