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6858000" cy="9144000"/>
  <p:notesSz cx="6858000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6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070000" y="723600"/>
            <a:ext cx="2718000" cy="362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3D23-095B-41B8-B437-823EC11FFDD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070000" y="723960"/>
            <a:ext cx="2718000" cy="3624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2A18-96E2-4209-9078-217D26A689A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070000" y="723960"/>
            <a:ext cx="2718000" cy="3624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8956-F92F-49EA-8A4A-7E8A35F3F9B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070000" y="723960"/>
            <a:ext cx="2718000" cy="3624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847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9903-61F5-490F-B774-5A6FEC76324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070000" y="723960"/>
            <a:ext cx="2718000" cy="3624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847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D3FF-02C8-40E6-ADB9-D070E61AC5F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070000" y="723960"/>
            <a:ext cx="2718000" cy="3624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8847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F726-74FB-489A-9D32-53C77EC7949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070000" y="723960"/>
            <a:ext cx="2718000" cy="3624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灯片编号占位符 3"/>
          <p:cNvSpPr/>
          <p:nvPr/>
        </p:nvSpPr>
        <p:spPr>
          <a:xfrm>
            <a:off x="38847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0B84-3FC0-492E-957F-4917CC52BEF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你吃饭了吗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먹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hī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上海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想去上海吗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상하이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ànghǎ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过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我去过北京。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한 적이 있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u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四川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我吃过四川菜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사천 요리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ìchuāncà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味道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味道怎么样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맛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wèida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有点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有点儿辣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조금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약간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ǒudiǎn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这个菜不辣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맵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à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但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189000" y="5191560"/>
            <a:ext cx="627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很好吃，但是有点儿辣。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그러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ànsh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好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0" y="51001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好吃吗？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맛있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ǎochī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0" y="51001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那我们吃四川菜吧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그러면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à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你们要点什么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주문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8880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굴림"/>
              </a:rPr>
              <a:t>diǎn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吃饭吧！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밥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f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33360" y="111600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굴림"/>
              </a:rPr>
              <a:t>麻婆豆腐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5"/>
          <p:cNvSpPr/>
          <p:nvPr/>
        </p:nvSpPr>
        <p:spPr>
          <a:xfrm rot="10800000">
            <a:off x="0" y="507096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我喜欢麻婆豆腐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마파두부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음식명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ápó dòuf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这个菜有点儿酸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시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uā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四川菜不甜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달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iá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有点儿苦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쓰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ǔ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5"/>
          <p:cNvSpPr/>
          <p:nvPr/>
        </p:nvSpPr>
        <p:spPr>
          <a:xfrm rot="10800000">
            <a:off x="142560" y="510012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那个菜太咸了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짜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iá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333360" y="111600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굴림"/>
              </a:rPr>
              <a:t>北京烤鸭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 Box 5"/>
          <p:cNvSpPr/>
          <p:nvPr/>
        </p:nvSpPr>
        <p:spPr>
          <a:xfrm rot="10800000">
            <a:off x="213840" y="514584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你吃过北京烤鸭吗？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베이징덕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7"/>
          <p:cNvSpPr/>
          <p:nvPr/>
        </p:nvSpPr>
        <p:spPr>
          <a:xfrm rot="10800000">
            <a:off x="404640" y="6431400"/>
            <a:ext cx="626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ěijīng kǎoy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炸酱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来一个炸酱面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짜장면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 Box 7"/>
          <p:cNvSpPr/>
          <p:nvPr/>
        </p:nvSpPr>
        <p:spPr>
          <a:xfrm rot="10800000">
            <a:off x="404640" y="6424920"/>
            <a:ext cx="626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ájiàngmi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糖醋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糖醋肉有点儿甜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탕수육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ángcùrò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333360" y="111600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굴림"/>
              </a:rPr>
              <a:t>泡菜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 Box 5"/>
          <p:cNvSpPr/>
          <p:nvPr/>
        </p:nvSpPr>
        <p:spPr>
          <a:xfrm rot="10800000">
            <a:off x="213840" y="5071320"/>
            <a:ext cx="6643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泡菜有点儿辣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김치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pàocà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拿手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 Box 5"/>
          <p:cNvSpPr/>
          <p:nvPr/>
        </p:nvSpPr>
        <p:spPr>
          <a:xfrm rot="10800000">
            <a:off x="142560" y="514548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你的拿手菜是什么？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 Box 6"/>
          <p:cNvSpPr/>
          <p:nvPr/>
        </p:nvSpPr>
        <p:spPr>
          <a:xfrm rot="10800000">
            <a:off x="403200" y="6495840"/>
            <a:ext cx="6267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자신 있다</a:t>
            </a:r>
            <a:r>
              <a:rPr b="0" lang="en-US" sz="55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뛰어나다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áshǒ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还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142560" y="510012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还没吃！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아직도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여전히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ái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炒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 Box 5"/>
          <p:cNvSpPr/>
          <p:nvPr/>
        </p:nvSpPr>
        <p:spPr>
          <a:xfrm rot="10800000">
            <a:off x="329760" y="5176440"/>
            <a:ext cx="6270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我喜欢炒饭。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볶음밥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hǎof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没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没吃饭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하지 않아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é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想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想吃什么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하고 싶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iǎ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请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我请客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213840" y="6457680"/>
            <a:ext cx="66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굴림"/>
              </a:rPr>
              <a:t>초청하다</a:t>
            </a:r>
            <a:r>
              <a:rPr b="0" lang="en-US" sz="60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6000" spc="-1" strike="noStrike">
                <a:solidFill>
                  <a:srgbClr val="000000"/>
                </a:solidFill>
                <a:latin typeface="굴림"/>
              </a:rPr>
              <a:t>한턱내다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qǐngkè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真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SimSun"/>
                <a:ea typeface="SimSun"/>
              </a:rPr>
              <a:t>真的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정말로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ē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中国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喜欢中国菜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12680"/>
            <a:ext cx="626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000000"/>
                </a:solidFill>
                <a:latin typeface="굴림"/>
              </a:rPr>
              <a:t>중국요리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Zhōngguócà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放假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我们还没放假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방학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fàngjià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6:20:06Z</dcterms:modified>
  <cp:revision>276</cp:revision>
  <dc:subject/>
  <dc:title>슬라이드 1</dc:title>
</cp:coreProperties>
</file>