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ABA0-08E1-45C6-9286-AC03017733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91CF-6191-4A90-989E-25DEAF06F20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14F3-397D-4A88-89ED-17D23130EC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378E-29C8-43B7-A8DF-44BBAD7097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E81E-98C2-439E-8206-70F9A83BE5E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단어카드A4반"/>
          <p:cNvPicPr/>
          <p:nvPr/>
        </p:nvPicPr>
        <p:blipFill>
          <a:blip r:embed="rId2"/>
          <a:stretch/>
        </p:blipFill>
        <p:spPr>
          <a:xfrm>
            <a:off x="-316080" y="0"/>
            <a:ext cx="7562880" cy="914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SimSun"/>
                <a:ea typeface="SimSun"/>
              </a:rPr>
              <a:t>叫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你叫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라고 부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à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是谁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그녀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tā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是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旗袍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谁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是谁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 Box 6"/>
          <p:cNvSpPr/>
          <p:nvPr/>
        </p:nvSpPr>
        <p:spPr>
          <a:xfrm rot="10800000">
            <a:off x="403200" y="636696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굴림"/>
              </a:rPr>
              <a:t>누구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é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的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她的旗袍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의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de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汉语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是汉语老师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중국어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ànyǔ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韩国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是韩国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한국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Hán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中国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不是中国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중국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7"/>
          <p:cNvSpPr/>
          <p:nvPr/>
        </p:nvSpPr>
        <p:spPr>
          <a:xfrm rot="10800000">
            <a:off x="404640" y="6424920"/>
            <a:ext cx="626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ōng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学生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是学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6"/>
          <p:cNvSpPr/>
          <p:nvPr/>
        </p:nvSpPr>
        <p:spPr>
          <a:xfrm rot="10800000">
            <a:off x="403200" y="63072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굴림"/>
              </a:rPr>
              <a:t>학생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uéshe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日本人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是日本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일본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ìběn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朋友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是我朋友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친구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péngyou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什么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굴림"/>
              </a:rPr>
              <a:t>他叫什么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무엇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무슨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shénme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美国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我朋友是美国人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미국인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ěi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0" spc="-1" strike="noStrike">
                <a:solidFill>
                  <a:srgbClr val="000000"/>
                </a:solidFill>
                <a:latin typeface="굴림"/>
              </a:rPr>
              <a:t>英国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是英国人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。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영국인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Yīngguó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000000"/>
                </a:solidFill>
                <a:latin typeface="굴림"/>
              </a:rPr>
              <a:t>哪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他是哪国人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어느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nǎ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33360" y="1116000"/>
            <a:ext cx="6264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000000"/>
                </a:solidFill>
                <a:latin typeface="굴림"/>
              </a:rPr>
              <a:t>人</a:t>
            </a:r>
            <a:endParaRPr b="0" lang="en-US" sz="1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zh-CN" sz="6400" spc="-1" strike="noStrike">
                <a:solidFill>
                  <a:srgbClr val="000000"/>
                </a:solidFill>
                <a:latin typeface="굴림"/>
              </a:rPr>
              <a:t>你是哪国人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사람 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7"/>
          <p:cNvSpPr/>
          <p:nvPr/>
        </p:nvSpPr>
        <p:spPr>
          <a:xfrm rot="10800000">
            <a:off x="428400" y="7498440"/>
            <a:ext cx="62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33360" y="1116000"/>
            <a:ext cx="626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굴림"/>
              </a:rPr>
              <a:t>加拿大人</a:t>
            </a:r>
            <a:endParaRPr b="0" lang="en-US" sz="1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她是加拿大人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캐나다인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Jiānádàré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名字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5"/>
          <p:cNvSpPr/>
          <p:nvPr/>
        </p:nvSpPr>
        <p:spPr>
          <a:xfrm rot="10800000">
            <a:off x="329760" y="501120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他叫什么名字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6"/>
          <p:cNvSpPr/>
          <p:nvPr/>
        </p:nvSpPr>
        <p:spPr>
          <a:xfrm rot="10800000">
            <a:off x="403200" y="64270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름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míngz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认识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认识他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사람 등을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알다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rènshi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0" spc="-1" strike="noStrike">
                <a:solidFill>
                  <a:srgbClr val="000000"/>
                </a:solidFill>
                <a:latin typeface="굴림"/>
              </a:rPr>
              <a:t>高兴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认识你很高兴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기쁘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āox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贵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您贵姓？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 Box 6"/>
          <p:cNvSpPr/>
          <p:nvPr/>
        </p:nvSpPr>
        <p:spPr>
          <a:xfrm rot="10800000">
            <a:off x="403200" y="6532560"/>
            <a:ext cx="626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굴림"/>
              </a:rPr>
              <a:t>성함이 무엇입니까</a:t>
            </a:r>
            <a:r>
              <a:rPr b="0" lang="en-US" sz="50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guìx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姓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我姓王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성이 </a:t>
            </a:r>
            <a:r>
              <a:rPr b="0" lang="en-US" sz="64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다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xìng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这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是我弟弟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6"/>
          <p:cNvSpPr/>
          <p:nvPr/>
        </p:nvSpPr>
        <p:spPr>
          <a:xfrm rot="10800000">
            <a:off x="403200" y="6421680"/>
            <a:ext cx="626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400" spc="-1" strike="noStrike">
                <a:solidFill>
                  <a:srgbClr val="000000"/>
                </a:solidFill>
                <a:latin typeface="굴림"/>
              </a:rPr>
              <a:t>이것</a:t>
            </a:r>
            <a:endParaRPr b="0" lang="en-US" sz="6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zhè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33360" y="111600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굴림"/>
              </a:rPr>
              <a:t>旗袍</a:t>
            </a:r>
            <a:endParaRPr b="0" lang="en-US" sz="15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 Box 5"/>
          <p:cNvSpPr/>
          <p:nvPr/>
        </p:nvSpPr>
        <p:spPr>
          <a:xfrm rot="10800000">
            <a:off x="329760" y="5004360"/>
            <a:ext cx="62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굴림"/>
              </a:rPr>
              <a:t>这叫旗袍。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6"/>
          <p:cNvSpPr/>
          <p:nvPr/>
        </p:nvSpPr>
        <p:spPr>
          <a:xfrm rot="10800000">
            <a:off x="403200" y="645768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치파오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6000" spc="-1" strike="noStrike">
                <a:solidFill>
                  <a:srgbClr val="000000"/>
                </a:solidFill>
                <a:latin typeface="굴림"/>
              </a:rPr>
              <a:t>전통 의상</a:t>
            </a:r>
            <a:r>
              <a:rPr b="0" lang="en-US" sz="6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7"/>
          <p:cNvSpPr/>
          <p:nvPr/>
        </p:nvSpPr>
        <p:spPr>
          <a:xfrm rot="10800000">
            <a:off x="404640" y="7522200"/>
            <a:ext cx="62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qípáo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0:55:21Z</dcterms:created>
  <dc:creator>Administrator</dc:creator>
  <dc:description/>
  <dc:language>en-US</dc:language>
  <cp:lastModifiedBy>Digital NEX</cp:lastModifiedBy>
  <dcterms:modified xsi:type="dcterms:W3CDTF">2012-05-17T01:45:25Z</dcterms:modified>
  <cp:revision>87</cp:revision>
  <dc:subject/>
  <dc:title>슬라이드 1</dc:title>
</cp:coreProperties>
</file>