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1E5D-8948-47C9-A489-1B2BEA7F058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1BD4-22C8-4300-98A5-61B08FF1C25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95B6-1CEF-40B7-9709-A2887660909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今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今天几月几号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오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īnti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星期四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星期四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목요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s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星期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明天星期六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토요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liù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星期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明天星期天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일요일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ti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生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0" y="5040720"/>
            <a:ext cx="6524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000000"/>
                </a:solidFill>
                <a:latin typeface="굴림"/>
              </a:rPr>
              <a:t>明天是我的生日。</a:t>
            </a:r>
            <a:endParaRPr b="0" lang="en-US" sz="6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생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ēngrì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来学校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오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á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吧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来我家吧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하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ba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一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一定去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285480" y="6283800"/>
            <a:ext cx="6267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반드시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ídì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去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去学校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307200"/>
            <a:ext cx="626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굴림"/>
              </a:rPr>
              <a:t>가다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qù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昨天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昨天星期二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어제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uóti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看电影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보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à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64120"/>
            <a:ext cx="62708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明天几月几号？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월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uè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电影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我们看电影吧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영화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iànyǐ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回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们回家吧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돌아가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uí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祝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祝你生日快乐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기원하다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빌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ù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SimSun"/>
              </a:rPr>
              <a:t>快乐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生日快乐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즐겁다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기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uàilè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号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今天六月四号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à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六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0000"/>
                </a:solidFill>
                <a:latin typeface="굴림"/>
              </a:rPr>
              <a:t>今天六月十号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53256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월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iùyuè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星期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星期几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요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星期五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星期五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금요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wǔ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星期一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明天星期一 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월요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yī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星期二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星期二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화요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’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èr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星期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今天星期三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수요일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īngqīsā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3:55:52Z</dcterms:modified>
  <cp:revision>136</cp:revision>
  <dc:subject/>
  <dc:title>슬라이드 1</dc:title>
</cp:coreProperties>
</file>