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4B06-BF4E-49D9-A475-DC866E90F1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306-6370-4B51-8D26-23C5F1B6CF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家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家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집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两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两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iǎ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얼마나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uō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弟弟八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되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l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二十四岁了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u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年级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几年级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학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í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小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小学六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초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iǎo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初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初中一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중학교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752868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chū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高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高中二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고등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zhō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大学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大学四年级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대학교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àxu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年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多大年纪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나이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연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iánj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有一个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있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几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家有几口人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몇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ǐ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口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家有四口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식구를 세는 단위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k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哥哥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没有哥哥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오빠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ēg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没有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没有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없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éiyǒ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有几个弟弟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명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姐姐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我姐姐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누나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언니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ěji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妹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有个妹妹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여동생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èime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2:09:34Z</dcterms:modified>
  <cp:revision>104</cp:revision>
  <dc:subject/>
  <dc:title>슬라이드 1</dc:title>
</cp:coreProperties>
</file>